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87C-9FA6-4CEB-825C-1E56191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6E1-8B60-4297-B500-C89B1118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41D-C662-4EDD-B541-4BD369B4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999-D245-4624-8F5A-4CAD1630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FEF-8BFA-4643-8A28-2EBFF63A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5020-28BF-4796-9979-77039D1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EA1D-5E92-4B67-A434-2554BF7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BEC2-DFB5-4F96-B646-B9CC69E8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0975-C480-4F31-BD4B-9C410D0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EEC-A674-4848-9C8D-2CD48AD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747-2347-4EF3-8E49-C9D41A7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33B-BE02-4934-8C82-754D39B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859-52EB-4CD7-81C3-E0A68B0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8ED0-17D0-4B5A-B763-3A8906E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AD12-849E-4CE8-9131-7ACA11DE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EE5-6CCB-4227-B9BA-C003B246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27F-C524-4232-86B8-27505524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8819-3B0A-4CF8-A273-006384A2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9115-B089-4272-BA8C-08CAFBC0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D0BE-AA47-4903-A154-B6D083C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4A8F-805E-457F-BF99-C415234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1D5F-2456-49B7-918C-BD8F807F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AEB-B0A5-4B29-A64C-94DAF5BA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A55F-17C3-44E7-858B-F5CB3B7A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7518-6854-4B49-BD9E-97332B91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CA0D-3A3C-4386-AEEF-70DFB41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B9A4-09C9-4DD7-8904-6C07CB1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C454-9FBD-4087-8ADB-09548B5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F9A0-6BCB-481D-A240-13CD27ED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FF2C-5086-4AE1-ABD7-B37FD2F0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FC38-FD13-499D-A20F-9E5A3F94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7A81-D222-40B3-956B-16739062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9BCA-44FA-4110-B3D5-B06774A2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8F7-F07B-4746-AFA6-BB08301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C309-CD69-4DBE-AC8B-CFAB9C10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1AE2-57FC-49EE-BBB2-2199D235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1FCD-D564-4D25-AA16-98E64EA3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DE5B-7A81-4381-80A1-B6F471C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3D5E-F96F-4BB3-A0A5-82F7887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8EB2-FA57-476D-AE9B-C73833B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8C51-731C-4C10-8B67-65EF49F8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ECC6-5F46-401F-BC86-731F405D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32ED-439A-436B-9D4A-1CDD6AEE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2642-548C-4F5A-90D0-45A237BC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0CD-E1C3-41DE-B9CC-F9A89334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1A1B-9161-4AFB-81B1-DD932991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3029-05E7-4EAE-8AAA-A3A1273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DD52-2759-4CDF-8FB8-87025376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711F-E86F-49D0-9E4D-EBDF441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870FF-08C1-4E55-B6D0-EE4FD10F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4D26-9016-4499-AA79-4895106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114F-46D6-4304-A3D6-6EB025D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EDB5-7E27-4841-AA6E-BF0626D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0064-BDCB-448C-AEA8-81D729CC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3D9F4-04C0-4E1A-9AB0-1E40B9D8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00D-20E5-4A3B-83E4-5CB382A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F225-5307-40E2-A213-B3599C94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A14E-1AC0-4F84-92DB-70A4ABB9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02D6-5E5C-418F-BA8E-E229199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6380B-9687-452A-AA87-EE6A492B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FCB6-A4F7-4758-90EB-FA6BD245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7CBF-FE1D-4992-BDEE-CB9A9797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1DEE-FF0B-41DB-8010-6FE812D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D4D8-1810-42FE-ABD4-B4E749D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9CA4-A44A-4830-A4DA-9591C59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6FACB-E098-4706-BD12-FC448E8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026-8831-4615-8833-8DDDA9A3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EED3-965E-4374-8703-B6D503C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B737-E072-4B18-8906-8E9D9E3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6630-D088-4A29-8BE5-3AF95BF4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33A29-F592-4D17-8AE6-4A05E1D1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DF1D0-776C-43D8-A3EF-41A3C02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C793-388A-4CDE-A1A4-3E08E4B1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F0A7E-7971-4057-A1CF-C780B00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6470-0572-4467-B076-17533B60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745A-B8C2-48C8-BAA2-C1572D11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126A0-E984-41BC-BB8B-E1BE7E5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140-E250-4433-964A-412AA99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5AF9-A42D-4A97-8F7C-D366A6B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688A1-6A77-40ED-9DF4-A2EAA55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2B40F-AA15-4EAA-80CF-1175B33B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A5A79-78DD-4645-B771-B4DB7138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AABD-7301-4069-9D78-F3A9AB17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2560-16CB-4F1B-AC28-835F62DF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30528-DF57-4AE3-A5CE-6A06870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F225-6540-4578-9ED5-41BE8207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C28E-1C6E-4C3C-811C-94570394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6A32C-2A74-4E7C-BE71-713743A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747-BD7C-4758-A5BD-EC91D57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5A49-6C59-473E-9026-E772165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9AD5-220C-4F43-BEC9-78A5C5AB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00221-CD1C-49C9-A6EA-5E68455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B64A1-410F-4BD6-AC02-BC9FCA77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D2730-5397-408D-ACFE-F47A5FC6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2BAF3-1424-4DCD-BCB6-69230DEA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9CC6-1903-412C-98B3-259D212E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1819-6B80-4FAC-B54B-93AEE798FE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820-83B0-430C-BADD-F71173D41B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ECA6-4BDA-430D-8FF8-22E056344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959-FC3C-4388-AE37-DBA9BCCE81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77D-5920-4511-AC70-489EF91E56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443-4CBA-4945-9C7C-6A71C31EBA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CF7-0BE5-4AAC-9C20-EB1E75464C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7221-3E3A-475B-874F-0504273217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09480" y="109440"/>
            <a:ext cx="8169480" cy="2359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362320" y="2514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Introduction </a:t>
            </a:r>
            <a:r>
              <a:rPr b="0" lang="fr-FR" sz="2800" spc="-1" strike="noStrike">
                <a:solidFill>
                  <a:srgbClr val="464646"/>
                </a:solidFill>
                <a:latin typeface="Lucida Sans Unicode"/>
              </a:rPr>
              <a:t>à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la Composante 1: La Politique sanitaire en milieu scolai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lick Sembene/Andy Temb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CMS/B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5 Octobre 201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Program Files (x86)\Microsoft Office\MEDIA\CAGCAT10\j0301252.wmf"/>
          <p:cNvPicPr/>
          <p:nvPr/>
        </p:nvPicPr>
        <p:blipFill>
          <a:blip r:embed="rId2"/>
          <a:stretch/>
        </p:blipFill>
        <p:spPr>
          <a:xfrm>
            <a:off x="-152280" y="1301760"/>
            <a:ext cx="293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Manque de communication intersectorielle, et de coordin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s rôles ne sont pas clairement définis (Ministère de l’Education- Ministère de la Sante, L’école – La communauté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279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o Santé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o Affaire Sociale / la protection social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o Agricultu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o Educat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o le développement Communautaire et fémini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a Formation, la motivation, la supervision sont inadéqua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Pas de mécanismes de financement durables et un engagement du gouvern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81160" y="152280"/>
            <a:ext cx="84848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66600" y="2382840"/>
            <a:ext cx="8547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Un lieu idéal pour les examens de dépistage précoce (concernant les problèmes de vue, bucco-dentaires, de l'ouïe, de poids et taille, etc.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Une institution de la nation qui est à la base de son développement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Un lieu d’acquisition des connaissances nécessaires dans notre vi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Un lieu de tous les changements de comportement tel que celui de la recherche de la bonne santé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Afin d’atteindre tous les résultats escomptés, la santé scolaire et universitaire doit être global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38120" y="274680"/>
            <a:ext cx="82724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fr-FR" sz="2700" spc="-1" strike="noStrike">
                <a:solidFill>
                  <a:srgbClr val="000000"/>
                </a:solidFill>
                <a:latin typeface="Lucida Sans Unicode"/>
              </a:rPr>
              <a:t>roblèm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avec la mise en oeuv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La méconnaissance de l’importance de la santé pour l’éducation et, inversement, de l’éducation pour la santé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Le manque de coordination entre les organismes impliqués dans la santé scolaire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Le manque de personnel compétent, formé à la planification, à la gestion et à l’évaluation des programmes de santé scolair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L’absence de ressources pour dérouler les programmes de santé scolaire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Nous avons donc besoin d'outils pour nous aider à résoudre certains  problèmes. La politique est l'un de ces outils qui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Fournit le cadre juridique pour la mise en œuvre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Fournit un leadership clair pour l'appropriation et la pérennité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Fournit un guide pour la mise en œuvre du programme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a politique peut offrir des opportunités très visibles pour démontrer un engagement pour l'équité et la non-discriminatio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a politique peut fournir une structure qui promeut un environnement scolaire sûr, protecteur et solidai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a Politique, lorsque clairement communiquée à la famille scolaire et la société dans son ensemble, peut mettre en place des règles sur les comportements acceptables en milieu scolai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a politique qui est acceptée et approuvée par les APE et la communauté peut être suivie de manière plus effica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es soins de santé de base et des services essentiels de nutri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’éducation Sanitaire, mettant l'accent sur la communication visant à modifier les comportem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'accès à un environnement sûr (eau potable, l’assainissement par sex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es questions de droits de l'homme, de la discrimination et du genr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es rôles et responsabilités des parties prenantes (ministères, institutions, partenaires au développement, les organisations de la société civile .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Lucida Sans Unicode"/>
              </a:rPr>
              <a:t>Les dispositions de la mise en œuvre, le suivi et l’évaluation des norm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068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Des grossesses précoces  non désirées et de l'exclusion des filles enceintes de l'école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s écoles sans tabac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'assainissement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 genre et la vie privé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'entretien des installations d'eau et d'assainissement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 VIH et l'exclusion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 contenu de l'éducation sexuelle et l'accès aux préservatifs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 harcèlement sexuel et l'abus des élèves, y compris par les enseignants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’alimentation scolaire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Les vendeurs de produits alimentaires (alimentation et hygièn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724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Lucida Sans Unicode"/>
              </a:rPr>
              <a:t>Les acteurs officiel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’Exécutif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’Assemblée législativ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 Pouvoir judiciai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Lucida Sans Unicode"/>
              </a:rPr>
              <a:t>Les autres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(Les directeurs d'école, Les chefs d'établissement, les partenaires au développement,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Les enseignants et les dirigeants du groupe de travail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Lucida Sans Unicode"/>
              </a:rPr>
              <a:t>Acteurs non officiels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(parties prenantes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Groupes d'intérêt (Ceux qui sont intéressés et qui sont directement affectés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groupes de plaidoye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groupes professionnel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Groupes de réflexion et organismes de recherch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Universitair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Réseaux (une combinaison de ce qui précèd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 Public (citoyens actifs, les membres d’un réseau téléphonique, les blogueurs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es médias et les partis politiqu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4549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On a deux types d'évaluation: l'évaluation du processus et l’évaluation des résulta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Lucida Sans Unicode"/>
              </a:rPr>
              <a:t>L’évaluation de processus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Lucida Sans Unicode"/>
              </a:rPr>
              <a:t>L’évaluation d’impact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 est utilisée pour évaluer l'impact des activités du programme sur les participa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8:54:05Z</dcterms:created>
  <dc:creator>Andy Chi Tembon</dc:creator>
  <dc:description/>
  <dc:language>en-US</dc:language>
  <cp:lastModifiedBy>Charlotte Broyd</cp:lastModifiedBy>
  <dcterms:modified xsi:type="dcterms:W3CDTF">2013-10-21T09:35:45Z</dcterms:modified>
  <cp:revision>26</cp:revision>
  <dc:subject/>
  <dc:title>Accorder la priorité à un programme efficace de santé scolaire</dc:title>
</cp:coreProperties>
</file>