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commentAuthors.xml><?xml version="1.0" encoding="utf-8"?>
<p:cmAuthorLst xmlns:p="http://schemas.openxmlformats.org/presentationml/2006/main">
  <p:cmAuthor id="0" name="pcd03" initials="p"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Relationship Id="rId16" Type="http://schemas.openxmlformats.org/officeDocument/2006/relationships/commentAuthors" Target="commentAuthors.xml"/>
</Relationships>
</file>

<file path=ppt/comments/comment3.xml><?xml version="1.0" encoding="utf-8"?>
<p:cmLst xmlns:p="http://schemas.openxmlformats.org/presentationml/2006/main">
  <p:cm authorId="0" dt="2009-06-12T14:57:16.305000000" idx="1">
    <p:pos x="10" y="10"/>
    <p:text>I really want to measure real learning on the course, and so need to ask some questions on technical content immediately before and after the course. Do you have any idea on what these content questions would look lik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move the slide</a:t>
            </a:r>
            <a:endParaRPr b="0" lang="en-US" sz="4400" spc="-1" strike="noStrike">
              <a:solidFill>
                <a:srgbClr val="0046ad"/>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4463-DC12-47B2-9A93-DEBAD5416C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F8E5-87C8-4ABE-AF4B-318F1D289E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C0D7-DCF2-4695-A1F2-13D64591A4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provided with country data sheets to fill in the values for key indicators on the country situation. And then you can comment on the situation with regards the current level, achievement towards the concerned MDG &amp; trends over th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5913-68D1-48B6-94B2-FBD094B3A6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1BAF-DEBC-4C63-9D77-C829888158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759A-0CB2-4A94-9C9A-FA92C6AB30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491A-3998-4A58-9AA0-1ACFF47765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2A1E-41C6-4EB3-AD80-C87537E1C0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469F-CDD0-42F7-A53D-FAB7CE3C68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1E65-1369-4686-B929-893BBFB8EC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9FEFB-51C4-4CDA-A4A6-65217B2BD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7"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8"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C0052-D74C-4D61-AD79-82D7AAD2C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0"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1"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2"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3"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EB07D-0A67-426E-BF36-12ECB7B43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5"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6"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7"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8"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9"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0"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72B20-76F3-42BC-A03E-791E9287D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49"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1"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3"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4"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8"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9"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0"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991BB-6963-4EBD-BF02-8AA7FBD78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2"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3"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4"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6"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7"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8"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0"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1"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5"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6"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8"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9"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0"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1"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2"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3"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8"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C84D1-94E1-4270-B5F2-D6776775B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0"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1"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AD404-F39E-4DCC-B384-820B448C4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D7857-DFD2-40C7-8361-4B30871D8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1E94D-BF1B-4DFC-95C8-E4E6C9D52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5"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6"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7"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6532-D776-4003-8C7E-8B96B7F3E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9"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0"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1"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C546-E243-4EA7-A983-0C3B382A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5"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D14CD-79EC-4EA5-BC71-3D48D0167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1"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7733-BAC9-4FC0-87C6-1DB308407F4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4714920" y="6072120"/>
            <a:ext cx="2055600" cy="533520"/>
          </a:xfrm>
          <a:prstGeom prst="rect">
            <a:avLst/>
          </a:prstGeom>
          <a:ln w="0">
            <a:noFill/>
          </a:ln>
        </p:spPr>
      </p:pic>
      <p:graphicFrame>
        <p:nvGraphicFramePr>
          <p:cNvPr id="42" name="Object 2"/>
          <p:cNvGraphicFramePr/>
          <p:nvPr/>
        </p:nvGraphicFramePr>
        <p:xfrm>
          <a:off x="7286760" y="5931000"/>
          <a:ext cx="1582560" cy="784080"/>
        </p:xfrm>
        <a:graphic>
          <a:graphicData uri="http://schemas.openxmlformats.org/presentationml/2006/ole">
            <p:oleObj r:id="rId3" spid="">
              <p:embed/>
              <p:pic>
                <p:nvPicPr>
                  <p:cNvPr id="43" name="Object 2" descr=""/>
                  <p:cNvPicPr/>
                  <p:nvPr/>
                </p:nvPicPr>
                <p:blipFill>
                  <a:blip r:embed="rId4"/>
                  <a:stretch/>
                </p:blipFill>
                <p:spPr>
                  <a:xfrm>
                    <a:off x="7286760" y="5931000"/>
                    <a:ext cx="1582560" cy="784080"/>
                  </a:xfrm>
                  <a:prstGeom prst="rect">
                    <a:avLst/>
                  </a:prstGeom>
                  <a:ln w="0">
                    <a:noFill/>
                  </a:ln>
                </p:spPr>
              </p:pic>
            </p:oleObj>
          </a:graphicData>
        </a:graphic>
      </p:graphicFrame>
      <p:pic>
        <p:nvPicPr>
          <p:cNvPr id="44" name="Picture 1" descr=""/>
          <p:cNvPicPr/>
          <p:nvPr/>
        </p:nvPicPr>
        <p:blipFill>
          <a:blip r:embed="rId5"/>
          <a:srcRect l="7423" t="0" r="5155" b="0"/>
          <a:stretch/>
        </p:blipFill>
        <p:spPr>
          <a:xfrm>
            <a:off x="2643120" y="5905440"/>
            <a:ext cx="785880" cy="873360"/>
          </a:xfrm>
          <a:prstGeom prst="rect">
            <a:avLst/>
          </a:prstGeom>
          <a:ln w="0">
            <a:noFill/>
          </a:ln>
        </p:spPr>
      </p:pic>
      <p:pic>
        <p:nvPicPr>
          <p:cNvPr id="45" name="Picture 8" descr="esa584"/>
          <p:cNvPicPr/>
          <p:nvPr/>
        </p:nvPicPr>
        <p:blipFill>
          <a:blip r:embed="rId6"/>
          <a:stretch/>
        </p:blipFill>
        <p:spPr>
          <a:xfrm>
            <a:off x="500040" y="5786280"/>
            <a:ext cx="1008000" cy="954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47"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142920"/>
            <a:ext cx="7705800" cy="264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Renforcement des Programmes de Santé et Nutrition Scolaires et de Prévention du VIH</a:t>
            </a:r>
            <a:br>
              <a:rPr sz="4000"/>
            </a:br>
            <a:br>
              <a:rPr sz="4000"/>
            </a:br>
            <a:r>
              <a:rPr b="0" lang="fr-FR" sz="4000" spc="-1" strike="noStrike" u="sng">
                <a:solidFill>
                  <a:srgbClr val="000000"/>
                </a:solidFill>
                <a:uFillTx/>
                <a:latin typeface="Arial"/>
              </a:rPr>
              <a:t>Analyse de la Situation Actuelle</a:t>
            </a:r>
            <a:endParaRPr b="0" lang="en-US" sz="4000" spc="-1" strike="noStrike">
              <a:solidFill>
                <a:srgbClr val="000000"/>
              </a:solidFill>
              <a:latin typeface="Arial"/>
            </a:endParaRPr>
          </a:p>
        </p:txBody>
      </p:sp>
      <p:sp>
        <p:nvSpPr>
          <p:cNvPr id="92" name="Rectangle 3"/>
          <p:cNvSpPr/>
          <p:nvPr/>
        </p:nvSpPr>
        <p:spPr>
          <a:xfrm>
            <a:off x="1371600" y="3886200"/>
            <a:ext cx="2192400" cy="69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6ad"/>
                </a:solidFill>
                <a:latin typeface="Arial"/>
              </a:rPr>
              <a:t>Pays:</a:t>
            </a:r>
            <a:endParaRPr b="0" lang="en-US" sz="3200" spc="-1" strike="noStrike">
              <a:solidFill>
                <a:srgbClr val="000000"/>
              </a:solidFill>
              <a:latin typeface="Arial"/>
            </a:endParaRPr>
          </a:p>
        </p:txBody>
      </p:sp>
      <p:sp>
        <p:nvSpPr>
          <p:cNvPr id="93" name="Text Box 5"/>
          <p:cNvSpPr/>
          <p:nvPr/>
        </p:nvSpPr>
        <p:spPr>
          <a:xfrm>
            <a:off x="3780000" y="3933720"/>
            <a:ext cx="464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Côte d’Ivoire</a:t>
            </a:r>
            <a:endParaRPr b="0" lang="en-US" sz="3200" spc="-1" strike="noStrike">
              <a:solidFill>
                <a:srgbClr val="000000"/>
              </a:solidFill>
              <a:latin typeface="Arial"/>
            </a:endParaRPr>
          </a:p>
        </p:txBody>
      </p:sp>
      <p:sp>
        <p:nvSpPr>
          <p:cNvPr id="94" name="Text Box 8"/>
          <p:cNvSpPr/>
          <p:nvPr/>
        </p:nvSpPr>
        <p:spPr>
          <a:xfrm>
            <a:off x="2124000" y="46432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a:t>
            </a:r>
            <a:endParaRPr b="0" lang="en-US" sz="1800" spc="-1" strike="noStrike">
              <a:solidFill>
                <a:srgbClr val="000000"/>
              </a:solidFill>
              <a:latin typeface="Arial"/>
            </a:endParaRPr>
          </a:p>
        </p:txBody>
      </p:sp>
      <p:sp>
        <p:nvSpPr>
          <p:cNvPr id="95" name="Text Box 9"/>
          <p:cNvSpPr/>
          <p:nvPr/>
        </p:nvSpPr>
        <p:spPr>
          <a:xfrm>
            <a:off x="3851280" y="464328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OUATTARA  Fangakalama</a:t>
            </a:r>
            <a:endParaRPr b="0" lang="en-US" sz="1800" spc="-1" strike="noStrike">
              <a:solidFill>
                <a:srgbClr val="000000"/>
              </a:solidFill>
              <a:latin typeface="Arial"/>
            </a:endParaRPr>
          </a:p>
        </p:txBody>
      </p:sp>
      <p:pic>
        <p:nvPicPr>
          <p:cNvPr id="96" name="Picture 8" descr=""/>
          <p:cNvPicPr/>
          <p:nvPr/>
        </p:nvPicPr>
        <p:blipFill>
          <a:blip r:embed="rId1"/>
          <a:stretch/>
        </p:blipFill>
        <p:spPr>
          <a:xfrm>
            <a:off x="3924360" y="5664240"/>
            <a:ext cx="2050920" cy="612720"/>
          </a:xfrm>
          <a:prstGeom prst="rect">
            <a:avLst/>
          </a:prstGeom>
          <a:ln w="0">
            <a:noFill/>
          </a:ln>
        </p:spPr>
      </p:pic>
      <p:pic>
        <p:nvPicPr>
          <p:cNvPr id="97" name="Picture 9" descr=""/>
          <p:cNvPicPr/>
          <p:nvPr/>
        </p:nvPicPr>
        <p:blipFill>
          <a:blip r:embed="rId2"/>
          <a:srcRect l="12906" t="12515" r="9697" b="0"/>
          <a:stretch/>
        </p:blipFill>
        <p:spPr>
          <a:xfrm>
            <a:off x="554040" y="5516640"/>
            <a:ext cx="900000" cy="936720"/>
          </a:xfrm>
          <a:prstGeom prst="rect">
            <a:avLst/>
          </a:prstGeom>
          <a:ln w="0">
            <a:noFill/>
          </a:ln>
        </p:spPr>
      </p:pic>
      <p:pic>
        <p:nvPicPr>
          <p:cNvPr id="98" name="Picture 10" descr="C:\users\aïda diop\documents\disque\ised2\documents ised\logo ised ucad mspm\Logo ISED.jpg"/>
          <p:cNvPicPr/>
          <p:nvPr/>
        </p:nvPicPr>
        <p:blipFill>
          <a:blip r:embed="rId3"/>
          <a:stretch/>
        </p:blipFill>
        <p:spPr>
          <a:xfrm>
            <a:off x="2087640" y="5516640"/>
            <a:ext cx="900000" cy="792000"/>
          </a:xfrm>
          <a:prstGeom prst="rect">
            <a:avLst/>
          </a:prstGeom>
          <a:ln w="0">
            <a:noFill/>
          </a:ln>
        </p:spPr>
      </p:pic>
      <p:pic>
        <p:nvPicPr>
          <p:cNvPr id="99" name="Picture 12" descr=""/>
          <p:cNvPicPr/>
          <p:nvPr/>
        </p:nvPicPr>
        <p:blipFill>
          <a:blip r:embed="rId4"/>
          <a:stretch/>
        </p:blipFill>
        <p:spPr>
          <a:xfrm>
            <a:off x="6804000" y="5510160"/>
            <a:ext cx="1521000" cy="86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blinds(horizontal)"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4"/>
                                        </p:tgtEl>
                                        <p:attrNameLst>
                                          <p:attrName>style.visibility</p:attrName>
                                        </p:attrNameLst>
                                      </p:cBhvr>
                                      <p:to>
                                        <p:strVal val="visible"/>
                                      </p:to>
                                    </p:set>
                                    <p:animEffect filter="blinds(horizontal)" transition="in">
                                      <p:cBhvr additive="repl">
                                        <p:cTn id="17" dur="500"/>
                                        <p:tgtEl>
                                          <p:spTgt spid="9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5"/>
                                        </p:tgtEl>
                                        <p:attrNameLst>
                                          <p:attrName>style.visibility</p:attrName>
                                        </p:attrNameLst>
                                      </p:cBhvr>
                                      <p:to>
                                        <p:strVal val="visible"/>
                                      </p:to>
                                    </p:set>
                                    <p:animEffect filter="blinds(horizontal)" transition="in">
                                      <p:cBhvr additive="repl">
                                        <p:cTn id="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lusion</a:t>
            </a:r>
            <a:endParaRPr b="0" lang="en-US" sz="4400" spc="-1" strike="noStrike">
              <a:solidFill>
                <a:srgbClr val="0046ad"/>
              </a:solidFill>
              <a:latin typeface="Arial"/>
            </a:endParaRPr>
          </a:p>
        </p:txBody>
      </p:sp>
      <p:sp>
        <p:nvSpPr>
          <p:cNvPr id="119" name="PlaceHolder 2"/>
          <p:cNvSpPr>
            <a:spLocks noGrp="1"/>
          </p:cNvSpPr>
          <p:nvPr>
            <p:ph/>
          </p:nvPr>
        </p:nvSpPr>
        <p:spPr>
          <a:xfrm>
            <a:off x="468000" y="1599840"/>
            <a:ext cx="8389800" cy="4205160"/>
          </a:xfrm>
          <a:prstGeom prst="rect">
            <a:avLst/>
          </a:prstGeom>
          <a:noFill/>
          <a:ln w="0">
            <a:noFill/>
          </a:ln>
        </p:spPr>
        <p:txBody>
          <a:bodyPr anchor="t">
            <a:normAutofit/>
          </a:bodyPr>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rtes, la Côte d’Ivoire a fait des efforts considérables</a:t>
            </a:r>
            <a:endParaRPr b="0" lang="en-US" sz="2400" spc="-1" strike="noStrike">
              <a:solidFill>
                <a:srgbClr val="0046ad"/>
              </a:solidFill>
              <a:latin typeface="Arial"/>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our l’amélioration du bien-être sanitaire et nutritionnel</a:t>
            </a:r>
            <a:endParaRPr b="0" lang="en-US" sz="2400" spc="-1" strike="noStrike">
              <a:solidFill>
                <a:srgbClr val="0046ad"/>
              </a:solidFill>
              <a:latin typeface="Arial"/>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es populations scolaires. </a:t>
            </a:r>
            <a:endParaRPr b="0" lang="en-US" sz="2400" spc="-1" strike="noStrike">
              <a:solidFill>
                <a:srgbClr val="0046ad"/>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pendant, force est de constater que l’évolution des</a:t>
            </a:r>
            <a:endParaRPr b="0" lang="en-US" sz="2400" spc="-1" strike="noStrike">
              <a:solidFill>
                <a:srgbClr val="0046ad"/>
              </a:solidFill>
              <a:latin typeface="Arial"/>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indicateurs pour l’atteinte des objectifs du millénaire pour</a:t>
            </a:r>
            <a:endParaRPr b="0" lang="en-US" sz="2400" spc="-1" strike="noStrike">
              <a:solidFill>
                <a:srgbClr val="0046ad"/>
              </a:solidFill>
              <a:latin typeface="Arial"/>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veloppement  demeure terne. Aussi, la Côte d’Ivoire</a:t>
            </a:r>
            <a:endParaRPr b="0" lang="en-US" sz="2400" spc="-1" strike="noStrike">
              <a:solidFill>
                <a:srgbClr val="0046ad"/>
              </a:solidFill>
              <a:latin typeface="Arial"/>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e doit – elle de redoubler d’efforts si elle veut se hisser,</a:t>
            </a:r>
            <a:endParaRPr b="0" lang="en-US" sz="2400" spc="-1" strike="noStrike">
              <a:solidFill>
                <a:srgbClr val="0046ad"/>
              </a:solidFill>
              <a:latin typeface="Arial"/>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ans les années à venir,  au niveau des pays dits</a:t>
            </a:r>
            <a:endParaRPr b="0" lang="en-US" sz="2400" spc="-1" strike="noStrike">
              <a:solidFill>
                <a:srgbClr val="0046ad"/>
              </a:solidFill>
              <a:latin typeface="Arial"/>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émergents. </a:t>
            </a:r>
            <a:endParaRPr b="0" lang="en-US" sz="2400" spc="-1" strike="noStrike">
              <a:solidFill>
                <a:srgbClr val="0046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70920"/>
            <a:ext cx="821844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1. Situation du Pays</a:t>
            </a:r>
            <a:endParaRPr b="0" lang="en-US" sz="4400" spc="-1" strike="noStrike">
              <a:solidFill>
                <a:srgbClr val="0046ad"/>
              </a:solidFill>
              <a:latin typeface="Arial"/>
            </a:endParaRPr>
          </a:p>
        </p:txBody>
      </p:sp>
      <p:graphicFrame>
        <p:nvGraphicFramePr>
          <p:cNvPr id="101" name=""/>
          <p:cNvGraphicFramePr/>
          <p:nvPr/>
        </p:nvGraphicFramePr>
        <p:xfrm>
          <a:off x="357120" y="765000"/>
          <a:ext cx="8786880" cy="6156360"/>
        </p:xfrm>
        <a:graphic>
          <a:graphicData uri="http://schemas.openxmlformats.org/drawingml/2006/table">
            <a:tbl>
              <a:tblPr/>
              <a:tblGrid>
                <a:gridCol w="1146240"/>
                <a:gridCol w="2068560"/>
                <a:gridCol w="1428840"/>
                <a:gridCol w="1428480"/>
                <a:gridCol w="2714760"/>
              </a:tblGrid>
              <a:tr h="613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Secteu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Objectif International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Indicateu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Valeur (2011-2012)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omic Sans MS"/>
                        </a:rPr>
                        <a:t>Commentair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5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ducation</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MD 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ici à 2015, donner à tous les enfants, garçons et  filles, partout dans le monde, les moyens d’achever un cycle complet d’études primair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aux net de scolarisation dans le prim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72,6%  </a:t>
                      </a:r>
                      <a:r>
                        <a:rPr b="0" lang="fr-FR" sz="1000" spc="-1" strike="noStrike">
                          <a:solidFill>
                            <a:srgbClr val="000000"/>
                          </a:solidFill>
                          <a:latin typeface="Arial"/>
                        </a:rPr>
                        <a:t>do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76,7% Garçons</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68,3% Fil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atistiques scolaires 2011-2012 DPES / MENET</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us d’un quart des enfants  âgés de 6 à 11 ans, soit 27%  ne se retrouvent pas dans le prim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8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galité des sex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MD 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liminer les disparités entre les sexes dans les enseignements primaire et secondaire d’ici à 2005 si possible et à tous les niveaux de l’enseignement</a:t>
                      </a:r>
                      <a:br>
                        <a:rPr sz="1000"/>
                      </a:br>
                      <a:r>
                        <a:rPr b="0" lang="fr-FR" sz="1000" spc="-1" strike="noStrike">
                          <a:solidFill>
                            <a:srgbClr val="000000"/>
                          </a:solidFill>
                          <a:latin typeface="Arial"/>
                        </a:rPr>
                        <a:t>en 2015 au plus tard</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apport ﬁlles / garçons dans l’enseignement prim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RIMAIRE: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54% Garçons</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46%  Filles</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CONDAIRE:</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61% Garçons</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39%  Fill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peu moins de la moitié des élèves du primaire sont des fill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filles sont  faiblement  représentées dans le secondaire. Sur dix élèves, il y a à peine 4 fill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5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utrition</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MD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duire de moitié, entre 1990 et 2015, la proportion de la population dont le revenu est inférieur à un dollar par jou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évalence d’enfants de moins de 5 ans présentant une insuﬃsance pondéral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0,1%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quête  Démographique  de Santé, 2012)</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6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VIH</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MD 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ici à 2015, avoir stoppé la propagation du VIH/sida et commencé à inverser la tendance actuell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aux de prévalence du VIH parmi les personnes âgées de 15-49 an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3,7% don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4.6% Femm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7% Homm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quête Démographique et de Santé et à indicateurs Multiples en CI  (EDS-MICS  2011-2012)</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prévalence du VIH est plus élevée chez les femmes (4,6  %) que chez les hommes (2,7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2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sainissemen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MD 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duire de moitié, d’ici à 2015, le pourcentage de la population qui n’a pas accès de façon durable à un approvisionnement en eau de boisson salub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portion de la population ayant accès à un système d’assainissement amélioré (zones urbaines et rurales)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24 %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ins du ¼ de la population ivoirienne  demeure  pauv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2" name="Rectangle 5"/>
          <p:cNvSpPr/>
          <p:nvPr/>
        </p:nvSpPr>
        <p:spPr>
          <a:xfrm>
            <a:off x="9715680" y="2357280"/>
            <a:ext cx="1857240" cy="17859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mmentez brièvement s’il vous plait sur la situation, réalisation de l’objectif ou tendances sur les années</a:t>
            </a:r>
            <a:endParaRPr b="0" lang="en-US" sz="1400" spc="-1" strike="noStrike">
              <a:solidFill>
                <a:srgbClr val="000000"/>
              </a:solidFill>
              <a:latin typeface="Arial"/>
            </a:endParaRPr>
          </a:p>
        </p:txBody>
      </p:sp>
      <p:sp>
        <p:nvSpPr>
          <p:cNvPr id="103" name="Rectangle 6"/>
          <p:cNvSpPr/>
          <p:nvPr/>
        </p:nvSpPr>
        <p:spPr>
          <a:xfrm>
            <a:off x="9644040" y="4857840"/>
            <a:ext cx="1071720" cy="1785960"/>
          </a:xfrm>
          <a:prstGeom prst="rect">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Utiliser les données figurant sur les fiches pays rem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llecte de Données de Base </a:t>
            </a:r>
            <a:endParaRPr b="0" lang="en-US" sz="4400" spc="-1" strike="noStrike">
              <a:solidFill>
                <a:srgbClr val="0046ad"/>
              </a:solidFill>
              <a:latin typeface="Arial"/>
            </a:endParaRPr>
          </a:p>
        </p:txBody>
      </p:sp>
      <p:graphicFrame>
        <p:nvGraphicFramePr>
          <p:cNvPr id="105" name=""/>
          <p:cNvGraphicFramePr/>
          <p:nvPr/>
        </p:nvGraphicFramePr>
        <p:xfrm>
          <a:off x="142920" y="714240"/>
          <a:ext cx="8858160" cy="5623200"/>
        </p:xfrm>
        <a:graphic>
          <a:graphicData uri="http://schemas.openxmlformats.org/drawingml/2006/table">
            <a:tbl>
              <a:tblPr/>
              <a:tblGrid>
                <a:gridCol w="7813800"/>
                <a:gridCol w="502920"/>
                <a:gridCol w="541440"/>
              </a:tblGrid>
              <a:tr h="320040">
                <a:tc>
                  <a:txBody>
                    <a:bodyPr lIns="61200" rIns="61200" tIns="0" bIns="0" anchor="t">
                      <a:noAutofit/>
                    </a:bodyPr>
                    <a:p>
                      <a:pPr marL="343080" indent="-343080">
                        <a:lnSpc>
                          <a:spcPct val="150000"/>
                        </a:lnSpc>
                        <a:buClr>
                          <a:srgbClr val="000000"/>
                        </a:buClr>
                        <a:buFont typeface="Arial"/>
                        <a:buAutoNum type="arabi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vez-vous actuellement:</a:t>
                      </a:r>
                      <a:endParaRPr b="0" lang="en-US" sz="14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r>
              <a:tr h="63972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Une unité effective au sein du ME pour intégrer la SNS dans le secteur de l’éducation ?</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r>
              <a:tr h="32004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Une unité effective au sein du ME pour intégrer le VIH dans le secteur de l’éducation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Une politique nationale SN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Une politique nationale VIH?</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r>
                        <a:rPr b="0" lang="fr-FR" sz="1400" spc="-1" strike="noStrike">
                          <a:solidFill>
                            <a:srgbClr val="365f91"/>
                          </a:solidFill>
                          <a:latin typeface="Arial"/>
                          <a:ea typeface="Times New Roman"/>
                        </a:rPr>
                        <a:t>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63972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Une politique nationale pour assurer que les écoles ont un environnement sain adapté aux enfant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Un Curriculum scolaire national sur la santé?</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st ce que l’unité SNS et/ou VIH du ME:  </a:t>
                      </a:r>
                      <a:endParaRPr b="0" lang="en-US" sz="14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r>
              <a:tr h="63972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Met en œuvre la réponse stratégique  qui fait partie du plan de travail national du secteur de l’éducation?</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noFill/>
                  </a:tcPr>
                </a:tc>
              </a:tr>
              <a:tr h="32004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 un budget?</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st ce que la SNS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st ce que le VIH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nSpc>
                          <a:spcPct val="150000"/>
                        </a:lnSpc>
                        <a:buClr>
                          <a:srgbClr val="000000"/>
                        </a:buClr>
                        <a:buFont typeface="Arial"/>
                        <a:buAutoNum type="arabicPeriod" startAt="3"/>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Est ce que l’unité SNS/VIH est dans le ME:  </a:t>
                      </a:r>
                      <a:endParaRPr b="0" lang="en-US" sz="14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r>
              <a:tr h="32004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vec un personnel qui consacre au moins 50%  aux activité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Guidée par une politique nationale SNS et VIH</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 Situation Programme SNS </a:t>
            </a:r>
            <a:endParaRPr b="0" lang="en-US" sz="4400" spc="-1" strike="noStrike">
              <a:solidFill>
                <a:srgbClr val="0046ad"/>
              </a:solidFill>
              <a:latin typeface="Arial"/>
            </a:endParaRPr>
          </a:p>
        </p:txBody>
      </p:sp>
      <p:graphicFrame>
        <p:nvGraphicFramePr>
          <p:cNvPr id="107" name=""/>
          <p:cNvGraphicFramePr/>
          <p:nvPr/>
        </p:nvGraphicFramePr>
        <p:xfrm>
          <a:off x="250920" y="981000"/>
          <a:ext cx="8715240" cy="5602320"/>
        </p:xfrm>
        <a:graphic>
          <a:graphicData uri="http://schemas.openxmlformats.org/drawingml/2006/table">
            <a:tbl>
              <a:tblPr/>
              <a:tblGrid>
                <a:gridCol w="2249280"/>
                <a:gridCol w="2571840"/>
                <a:gridCol w="2251080"/>
                <a:gridCol w="1643040"/>
              </a:tblGrid>
              <a:tr h="825480">
                <a:tc gridSpan="4">
                  <a:txBody>
                    <a:bodyPr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mposante FRESH 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Politiques sanitaires en milieu scolai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tivités Actuellement Mises en Œuvre  </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complissements Principales</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éfis Principaux</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enaires clés</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isites médicales systématique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 123 Enseignants et personnels administratifs (2011-2012)</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3 572 Élèves du préscolaire, primaire et secondaire (2012-201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que de moyens financiers et matériel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MS</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parasitage   et  supplémentation en vitamine A et micronutriment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3 572 Élèves du préscolaire, primaire et secondaire (2012-2013)</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sance des déparasitants et des vitamines A</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ICE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M</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FPA</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AO</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mpagnes de vaccination des élèves (2012-20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 790 Élèves du préscolair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7 629  Élèves du primair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41 153 Élèves du secondaire</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que de moyens matériel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MS</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BANQUE MONDIALE</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se en charge médicales et psychosociale des enseignants, des élèves et autres personnels du MENE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90 Enseignants et personnels administratif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50 Élèv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nque de financement  et de moyens matériel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MS</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FPA</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ICEF</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évention IST/VIH-SIDA,  Alcoolisme, Drogue, VBG et grossesses</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 Cellules focal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81Clubs santé</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60 Comités école santé</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cument de normes et directive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de de bonne condui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sance de financemen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que  de matériel roulant</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VE THE CHILDRE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USIDA</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FPA</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ICE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EPFAR</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 Programme situation cont</a:t>
            </a:r>
            <a:r>
              <a:rPr b="0" lang="en-GB" sz="4400" spc="-1" strike="noStrike">
                <a:solidFill>
                  <a:srgbClr val="0046ad"/>
                </a:solidFill>
                <a:latin typeface="Arial"/>
              </a:rPr>
              <a:t>.</a:t>
            </a:r>
            <a:endParaRPr b="0" lang="en-US" sz="4400" spc="-1" strike="noStrike">
              <a:solidFill>
                <a:srgbClr val="0046ad"/>
              </a:solidFill>
              <a:latin typeface="Arial"/>
            </a:endParaRPr>
          </a:p>
        </p:txBody>
      </p:sp>
      <p:graphicFrame>
        <p:nvGraphicFramePr>
          <p:cNvPr id="109" name=""/>
          <p:cNvGraphicFramePr/>
          <p:nvPr/>
        </p:nvGraphicFramePr>
        <p:xfrm>
          <a:off x="250920" y="1052640"/>
          <a:ext cx="8715240" cy="5290920"/>
        </p:xfrm>
        <a:graphic>
          <a:graphicData uri="http://schemas.openxmlformats.org/drawingml/2006/table">
            <a:tbl>
              <a:tblPr/>
              <a:tblGrid>
                <a:gridCol w="2735280"/>
                <a:gridCol w="2019240"/>
                <a:gridCol w="2317680"/>
                <a:gridCol w="1643040"/>
              </a:tblGrid>
              <a:tr h="82548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Times New Roman"/>
                          <a:ea typeface="Times New Roman"/>
                        </a:rPr>
                        <a:t>Composante FRESH I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Times New Roman"/>
                          <a:ea typeface="Times New Roman"/>
                        </a:rPr>
                        <a:t>Environnement scolaire sai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53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060"/>
                          </a:solidFill>
                          <a:latin typeface="Times New Roman"/>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060"/>
                          </a:solidFill>
                          <a:latin typeface="Times New Roman"/>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060"/>
                          </a:solidFill>
                          <a:latin typeface="Times New Roman"/>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060"/>
                          </a:solidFill>
                          <a:latin typeface="Times New Roman"/>
                          <a:ea typeface="Times New Roman"/>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676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Visite des lieux de travail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29 Établissements secondaires</a:t>
                      </a:r>
                      <a:endParaRPr b="0" lang="en-US" sz="12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35 Groupes scolaires du primaire</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Times New Roman"/>
                          <a:ea typeface="Times New Roman"/>
                        </a:rPr>
                        <a:t>Manque de moyens financiers et </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Times New Roman"/>
                          <a:ea typeface="Times New Roman"/>
                        </a:rPr>
                        <a:t>de moyens déplacement pour les</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Times New Roman"/>
                          <a:ea typeface="Times New Roman"/>
                        </a:rPr>
                        <a:t> </a:t>
                      </a:r>
                      <a:r>
                        <a:rPr b="0" lang="fr-FR" sz="1200" spc="-1" strike="noStrike">
                          <a:solidFill>
                            <a:srgbClr val="333399"/>
                          </a:solidFill>
                          <a:latin typeface="Times New Roman"/>
                          <a:ea typeface="Times New Roman"/>
                        </a:rPr>
                        <a:t>tournées dans les différents</a:t>
                      </a:r>
                      <a:endParaRPr b="0" lang="en-US" sz="12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Times New Roman"/>
                          <a:ea typeface="Times New Roman"/>
                        </a:rPr>
                        <a:t> </a:t>
                      </a:r>
                      <a:r>
                        <a:rPr b="0" lang="fr-FR" sz="1200" spc="-1" strike="noStrike">
                          <a:solidFill>
                            <a:srgbClr val="333399"/>
                          </a:solidFill>
                          <a:latin typeface="Times New Roman"/>
                          <a:ea typeface="Times New Roman"/>
                        </a:rPr>
                        <a:t>établissement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UCUN</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Construction de latrines et de points d’eau potable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2 532 Latrines</a:t>
                      </a:r>
                      <a:endParaRPr b="0" lang="en-US" sz="12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869 Points d’eau potable</a:t>
                      </a:r>
                      <a:endParaRPr b="0" lang="en-US" sz="1200" spc="-1" strike="noStrike">
                        <a:solidFill>
                          <a:srgbClr val="000000"/>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71 Cantines scolair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Times New Roman"/>
                          <a:ea typeface="Times New Roman"/>
                        </a:rPr>
                        <a:t>Insuffisance  de moyens financiers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PAM, UNFPA</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OMS, UNICEF</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FAO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Times New Roman"/>
                          <a:ea typeface="Times New Roman"/>
                        </a:rPr>
                        <a:t>BANQUE MONDIALE</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56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92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 Programme situation cont.</a:t>
            </a:r>
            <a:endParaRPr b="0" lang="en-US" sz="4400" spc="-1" strike="noStrike">
              <a:solidFill>
                <a:srgbClr val="0046ad"/>
              </a:solidFill>
              <a:latin typeface="Arial"/>
            </a:endParaRPr>
          </a:p>
        </p:txBody>
      </p:sp>
      <p:graphicFrame>
        <p:nvGraphicFramePr>
          <p:cNvPr id="111" name=""/>
          <p:cNvGraphicFramePr/>
          <p:nvPr/>
        </p:nvGraphicFramePr>
        <p:xfrm>
          <a:off x="142920" y="1000080"/>
          <a:ext cx="8786880" cy="5000760"/>
        </p:xfrm>
        <a:graphic>
          <a:graphicData uri="http://schemas.openxmlformats.org/drawingml/2006/table">
            <a:tbl>
              <a:tblPr/>
              <a:tblGrid>
                <a:gridCol w="2714760"/>
                <a:gridCol w="2286000"/>
                <a:gridCol w="2214360"/>
                <a:gridCol w="1571760"/>
              </a:tblGrid>
              <a:tr h="119124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mposante FRESH II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Éducation sanitaire basée sur l’acquisition de savoir-fair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tivités Actuellement Mises en Oe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à la bonne santé  et aux pratiques nutritionnelles sain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vage des main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que de moyens financiers et matériel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ICEF</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O</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M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6005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aux bonnes pratiques de vie saine (life skill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20 Personnels d’encadrement (MEN/PEPFAR,2009);</a:t>
                      </a:r>
                      <a:endParaRPr b="0" lang="en-US" sz="11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 000 enseignants (MEN/PEPFAR,2009)</a:t>
                      </a:r>
                      <a:endParaRPr b="0" lang="en-US" sz="11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3000 Enseignants contractuels </a:t>
                      </a:r>
                      <a:endParaRPr b="0" lang="en-US" sz="11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2 904 élèves:</a:t>
                      </a:r>
                      <a:endParaRPr b="0" lang="en-US" sz="11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4 830 garçons</a:t>
                      </a:r>
                      <a:endParaRPr b="0" lang="en-US" sz="11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8 074 filles (MEN/PEPFAR,2012)</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ffisance de moyens financiers et matériel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PFAR</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en santé positive et en soins et soutien au PVVIH et aux OEV</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 Enseignant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758 élève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UL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que de moyens financiers et matériel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PFAR</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à la santé de la reproduction </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unes filles scolarisées</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que de moyens financiers et matériel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PFAR</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8760" y="-36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 Programme situation cont.</a:t>
            </a:r>
            <a:endParaRPr b="0" lang="en-US" sz="4400" spc="-1" strike="noStrike">
              <a:solidFill>
                <a:srgbClr val="0046ad"/>
              </a:solidFill>
              <a:latin typeface="Arial"/>
            </a:endParaRPr>
          </a:p>
        </p:txBody>
      </p:sp>
      <p:graphicFrame>
        <p:nvGraphicFramePr>
          <p:cNvPr id="113" name=""/>
          <p:cNvGraphicFramePr/>
          <p:nvPr/>
        </p:nvGraphicFramePr>
        <p:xfrm>
          <a:off x="214200" y="714240"/>
          <a:ext cx="8674200" cy="5761080"/>
        </p:xfrm>
        <a:graphic>
          <a:graphicData uri="http://schemas.openxmlformats.org/drawingml/2006/table">
            <a:tbl>
              <a:tblPr/>
              <a:tblGrid>
                <a:gridCol w="2000520"/>
                <a:gridCol w="3286080"/>
                <a:gridCol w="1785960"/>
                <a:gridCol w="1601640"/>
              </a:tblGrid>
              <a:tr h="82548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mposante FRESH IV: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ervices de santé et de nutrition en milieu scolaire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4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Service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615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rection de la Mutualité et des Œuvres Sociales en milieu Scolair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MO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Visite médicale d’aptitude à la fonction enseignant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Visite médicale systématique annuell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Visite des lieux de travai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Réalisation d’une enquête dans les établissements sur l’usage de l’alcool, du tabac et la drogue suivie de la formation et de la sensibilisation sur  la méthodologie  de la lutte contre la toxicomanie en milieu scolair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ise en place d’une plateforme de concertation et de collaboration entre les différentes structures intervenant dans la lutte contre les IST/VIH/SIDA au niveau du MENE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laboration, validation, édition et diffusion d’un document de Politique du MENET en matière de lutte contre les IST/VIH/SIDA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Rédaction d’un code de bonne conduite  pour les élèves et les enseignants concernant les relations intergénérationnell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Formation des personnels en santé positive et en soins et soutien aux PVVIH et aux OEV ;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réation de douze (12) Centres Régionaux de la Mutualité et des Œuvres Sociales en milieu Scolaire (CREMOS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laboration de tous les outils de recueil des données en vue d’un meilleur rapportage des activités de la DMOSS en cour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que de moyens </a:t>
                      </a:r>
                      <a:endParaRPr b="0" lang="en-US" sz="11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ers et logistiqu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PA</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CEF</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QUE MONDIAL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PF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28760" y="14256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 Programme situation cont.</a:t>
            </a:r>
            <a:endParaRPr b="0" lang="en-US" sz="4400" spc="-1" strike="noStrike">
              <a:solidFill>
                <a:srgbClr val="0046ad"/>
              </a:solidFill>
              <a:latin typeface="Arial"/>
            </a:endParaRPr>
          </a:p>
        </p:txBody>
      </p:sp>
      <p:graphicFrame>
        <p:nvGraphicFramePr>
          <p:cNvPr id="115" name=""/>
          <p:cNvGraphicFramePr/>
          <p:nvPr/>
        </p:nvGraphicFramePr>
        <p:xfrm>
          <a:off x="142920" y="755640"/>
          <a:ext cx="8674200" cy="6102360"/>
        </p:xfrm>
        <a:graphic>
          <a:graphicData uri="http://schemas.openxmlformats.org/drawingml/2006/table">
            <a:tbl>
              <a:tblPr/>
              <a:tblGrid>
                <a:gridCol w="2000160"/>
                <a:gridCol w="3214800"/>
                <a:gridCol w="1857240"/>
                <a:gridCol w="1602000"/>
              </a:tblGrid>
              <a:tr h="96516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mposante FRESH IV: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ervices de santé et de nutrition en milieu scolaire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7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Service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1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gramme National de la Santé Scolaire et Universitair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NSS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sites médicales systématiques des élèves et étudiants et au personnel d’encadrement;</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Campagne de Déparasitage systématique obligatoire de tous les élèves et étudiant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pplémentation des élèves en vitamine A et Micronutriments sur le plan préventif, curatif et promotionne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ins de routi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accination des élèves pour mettre leur statut vaccinal à jo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rmation et recyclage sur les techniques de lutte contre les parasitoses intestinales et l’éducation pour la santé du personnel médical et des enseignants pour une meilleure prise en charge des élèves et étudia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pui à la création et l’animation des clubs hygiène santé dans les établissements secondai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istage volontaire des IST/VIH-SIDA dans les SSS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ffre de services de Planification familiale et de la Santé de la reprodu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ffre de services de Prévention de la Transmission Mère- Enfant (PTME) liée à l’infection à VIH/SID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ise en charge psychosociale des filles enceintes et leur référence dans les structures de Consultations Prénatales (CP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60 Services de Santé Scolaire et Universitaire (SSS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20 infirmeries des établissements scolai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381 Caisses à pharmacies dans les écoles primai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CEF</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PA</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PF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28760" y="28584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2. Programme situation cont.</a:t>
            </a:r>
            <a:endParaRPr b="0" lang="en-US" sz="4400" spc="-1" strike="noStrike">
              <a:solidFill>
                <a:srgbClr val="0046ad"/>
              </a:solidFill>
              <a:latin typeface="Arial"/>
            </a:endParaRPr>
          </a:p>
        </p:txBody>
      </p:sp>
      <p:graphicFrame>
        <p:nvGraphicFramePr>
          <p:cNvPr id="117" name=""/>
          <p:cNvGraphicFramePr/>
          <p:nvPr/>
        </p:nvGraphicFramePr>
        <p:xfrm>
          <a:off x="214200" y="1484280"/>
          <a:ext cx="8674200" cy="4256280"/>
        </p:xfrm>
        <a:graphic>
          <a:graphicData uri="http://schemas.openxmlformats.org/drawingml/2006/table">
            <a:tbl>
              <a:tblPr/>
              <a:tblGrid>
                <a:gridCol w="2000520"/>
                <a:gridCol w="2732040"/>
                <a:gridCol w="2152440"/>
                <a:gridCol w="1789200"/>
              </a:tblGrid>
              <a:tr h="105048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Composante FRESH IV: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Services de santé et de nutrition en milieu scolaire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Service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ccomplissements Principal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682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 National des Cantines Scolai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N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mpagne de sensibilisation pour la consommation de fruits et légumes sains par les élèves des cantines scolaires et les communauté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rmation de 317conseillers chargés des cantines scolaires, de 500 gérants et 500 directeurs d'écoles à cantin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laboration d’un guide de bonne pratique d’hygiène et de mode de vie sain</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nsibilisation des COGES, des enseignants, des cantinières  et élèves à l'hygiène et à la bonne utilisation des points d'eau</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istribution de comprimés de déparasitage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nsibilisation et formation des acteurs à la construction et à l’utilisation des foyers améliorés (F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uffisance de financement , de</a:t>
                      </a:r>
                      <a:endParaRPr b="0" lang="en-US" sz="1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duits alimentaires, de </a:t>
                      </a:r>
                      <a:endParaRPr b="0" lang="en-US" sz="1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éparasitants et de matériels</a:t>
                      </a:r>
                      <a:endParaRPr b="0" lang="en-US" sz="1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oulan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M</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CEF</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A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09:17:30Z</dcterms:created>
  <dc:creator>Mohini</dc:creator>
  <dc:description/>
  <dc:language>en-US</dc:language>
  <cp:lastModifiedBy>family</cp:lastModifiedBy>
  <dcterms:modified xsi:type="dcterms:W3CDTF">2013-10-02T16:08:58Z</dcterms:modified>
  <cp:revision>214</cp:revision>
  <dc:subject/>
  <dc:title>Current Situation analysis</dc:title>
</cp:coreProperties>
</file>