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commentAuthors.xml><?xml version="1.0" encoding="utf-8"?>
<p:cmAuthorLst xmlns:p="http://schemas.openxmlformats.org/presentationml/2006/main">
  <p:cmAuthor id="0" name="pcd03" initials="p"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Relationship Id="rId14" Type="http://schemas.openxmlformats.org/officeDocument/2006/relationships/commentAuthors" Target="commentAuthors.xml"/>
</Relationships>
</file>

<file path=ppt/comments/comment3.xml><?xml version="1.0" encoding="utf-8"?>
<p:cmLst xmlns:p="http://schemas.openxmlformats.org/presentationml/2006/main">
  <p:cm authorId="0" dt="2009-06-12T14:57:16.305000000" idx="1">
    <p:pos x="10" y="10"/>
    <p:text>I really want to measure real learning on the course, and so need to ask some questions on technical content immediately before and after the course. Do you have any idea on what these content questions would look lik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move the slide</a:t>
            </a:r>
            <a:endParaRPr b="0" lang="en-US" sz="4400" spc="-1" strike="noStrike">
              <a:solidFill>
                <a:srgbClr val="0046ad"/>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4456-9069-4B1D-B365-F42D751166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1B22-155E-4F7B-AAFB-D39C32A358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provided with country data sheets to fill in the values for key indicators on the country situation. And then you can comment on the situation with regards the current level, achievement towards the concerned MDG &amp; trends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DAA1-5EE6-4343-8C8A-92A4931747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D8FC-C7F5-45C8-8591-B3371432301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AAFA-C7EF-4383-B735-4C09A6EDA0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CF42-F7BC-404D-A9F6-4EA3ABDA00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8485-9F76-4720-8578-24CB4194BE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D919-888A-416B-BD84-AD0EB3355D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A7184-E89B-4BD5-A237-7CB3F2AF1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7"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8"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B2080-E110-4088-B55F-6CE8A1CBE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0"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1"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2"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3"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B4545-AAC9-4E1A-BA4D-6F3D766F9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5"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6"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7"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8"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9"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0"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AC5AF-5A5D-4248-A55A-94CCAC0CC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49"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1"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3"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4"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8"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9"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0"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FAB0E-A291-422A-B5D6-4A3474D9E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2"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3"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4"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6"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7"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8"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0"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1"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5"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6"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8"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9"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0"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1"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2"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3"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8"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F82AB-570E-4096-B796-D1928B997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0"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1"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E22BC-4989-456E-A523-075D60BBE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83A52-F10C-4D23-AD8F-FA5E09245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65ACB-5950-4E6E-90D5-CCE376457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5"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6"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7"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FFA5E-0836-46EF-A355-80D668B17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9"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0"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1"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3F5DD-04AB-4A3F-BBD9-2AF2C864E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5"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1D677-6CD5-4EE8-9590-E7BDE4CF9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1"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0331-9767-4FE2-AB3B-172B447184F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4714920" y="6072120"/>
            <a:ext cx="2055600" cy="533520"/>
          </a:xfrm>
          <a:prstGeom prst="rect">
            <a:avLst/>
          </a:prstGeom>
          <a:ln w="0">
            <a:noFill/>
          </a:ln>
        </p:spPr>
      </p:pic>
      <p:graphicFrame>
        <p:nvGraphicFramePr>
          <p:cNvPr id="42" name="Object 2"/>
          <p:cNvGraphicFramePr/>
          <p:nvPr/>
        </p:nvGraphicFramePr>
        <p:xfrm>
          <a:off x="7286760" y="5931000"/>
          <a:ext cx="1582560" cy="784080"/>
        </p:xfrm>
        <a:graphic>
          <a:graphicData uri="http://schemas.openxmlformats.org/presentationml/2006/ole">
            <p:oleObj r:id="rId3" spid="">
              <p:embed/>
              <p:pic>
                <p:nvPicPr>
                  <p:cNvPr id="43" name="Object 2" descr=""/>
                  <p:cNvPicPr/>
                  <p:nvPr/>
                </p:nvPicPr>
                <p:blipFill>
                  <a:blip r:embed="rId4"/>
                  <a:stretch/>
                </p:blipFill>
                <p:spPr>
                  <a:xfrm>
                    <a:off x="7286760" y="5931000"/>
                    <a:ext cx="1582560" cy="784080"/>
                  </a:xfrm>
                  <a:prstGeom prst="rect">
                    <a:avLst/>
                  </a:prstGeom>
                  <a:ln w="0">
                    <a:noFill/>
                  </a:ln>
                </p:spPr>
              </p:pic>
            </p:oleObj>
          </a:graphicData>
        </a:graphic>
      </p:graphicFrame>
      <p:pic>
        <p:nvPicPr>
          <p:cNvPr id="44" name="Picture 1" descr=""/>
          <p:cNvPicPr/>
          <p:nvPr/>
        </p:nvPicPr>
        <p:blipFill>
          <a:blip r:embed="rId5"/>
          <a:srcRect l="7423" t="0" r="5155" b="0"/>
          <a:stretch/>
        </p:blipFill>
        <p:spPr>
          <a:xfrm>
            <a:off x="2643120" y="5905440"/>
            <a:ext cx="785880" cy="873360"/>
          </a:xfrm>
          <a:prstGeom prst="rect">
            <a:avLst/>
          </a:prstGeom>
          <a:ln w="0">
            <a:noFill/>
          </a:ln>
        </p:spPr>
      </p:pic>
      <p:pic>
        <p:nvPicPr>
          <p:cNvPr id="45" name="Picture 8" descr="esa584"/>
          <p:cNvPicPr/>
          <p:nvPr/>
        </p:nvPicPr>
        <p:blipFill>
          <a:blip r:embed="rId6"/>
          <a:stretch/>
        </p:blipFill>
        <p:spPr>
          <a:xfrm>
            <a:off x="500040" y="5786280"/>
            <a:ext cx="1008000" cy="954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47"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571680"/>
            <a:ext cx="7705800" cy="25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46ad"/>
                </a:solidFill>
                <a:latin typeface="Arial"/>
              </a:rPr>
              <a:t>Renforcement des Programmes de Santé et Nutrition Scolaires et de Prévention du VIH</a:t>
            </a:r>
            <a:br>
              <a:rPr sz="4000"/>
            </a:br>
            <a:br>
              <a:rPr sz="4000"/>
            </a:br>
            <a:r>
              <a:rPr b="0" lang="fr-FR" sz="4000" spc="-1" strike="noStrike" u="sng">
                <a:solidFill>
                  <a:srgbClr val="0046ad"/>
                </a:solidFill>
                <a:uFillTx/>
                <a:latin typeface="Arial"/>
              </a:rPr>
              <a:t>Analyse de la Situation Actuelle</a:t>
            </a:r>
            <a:endParaRPr b="0" lang="en-US" sz="4000" spc="-1" strike="noStrike">
              <a:solidFill>
                <a:srgbClr val="000000"/>
              </a:solidFill>
              <a:latin typeface="Arial"/>
            </a:endParaRPr>
          </a:p>
        </p:txBody>
      </p:sp>
      <p:sp>
        <p:nvSpPr>
          <p:cNvPr id="92" name="Rectangle 3"/>
          <p:cNvSpPr/>
          <p:nvPr/>
        </p:nvSpPr>
        <p:spPr>
          <a:xfrm>
            <a:off x="1371600" y="3886200"/>
            <a:ext cx="2192400" cy="69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6ad"/>
                </a:solidFill>
                <a:latin typeface="Arial"/>
              </a:rPr>
              <a:t>Pays:</a:t>
            </a:r>
            <a:endParaRPr b="0" lang="en-US" sz="3200" spc="-1" strike="noStrike">
              <a:solidFill>
                <a:srgbClr val="000000"/>
              </a:solidFill>
              <a:latin typeface="Arial"/>
            </a:endParaRPr>
          </a:p>
        </p:txBody>
      </p:sp>
      <p:sp>
        <p:nvSpPr>
          <p:cNvPr id="93" name="Text Box 5"/>
          <p:cNvSpPr/>
          <p:nvPr/>
        </p:nvSpPr>
        <p:spPr>
          <a:xfrm>
            <a:off x="3780000" y="3933720"/>
            <a:ext cx="464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MALI</a:t>
            </a:r>
            <a:endParaRPr b="0" lang="en-US" sz="3200" spc="-1" strike="noStrike">
              <a:solidFill>
                <a:srgbClr val="000000"/>
              </a:solidFill>
              <a:latin typeface="Arial"/>
            </a:endParaRPr>
          </a:p>
        </p:txBody>
      </p:sp>
      <p:sp>
        <p:nvSpPr>
          <p:cNvPr id="94" name="Text Box 8"/>
          <p:cNvSpPr/>
          <p:nvPr/>
        </p:nvSpPr>
        <p:spPr>
          <a:xfrm>
            <a:off x="2124000" y="46432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a:t>
            </a:r>
            <a:endParaRPr b="0" lang="en-US" sz="1800" spc="-1" strike="noStrike">
              <a:solidFill>
                <a:srgbClr val="000000"/>
              </a:solidFill>
              <a:latin typeface="Arial"/>
            </a:endParaRPr>
          </a:p>
        </p:txBody>
      </p:sp>
      <p:sp>
        <p:nvSpPr>
          <p:cNvPr id="95" name="Text Box 9"/>
          <p:cNvSpPr/>
          <p:nvPr/>
        </p:nvSpPr>
        <p:spPr>
          <a:xfrm>
            <a:off x="3851280" y="4643280"/>
            <a:ext cx="432108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Madame CISSE MARIETOU TO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Chef  du Volet Santé Scolaire au Ministère de l’Education Nationa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 descr=""/>
          <p:cNvPicPr/>
          <p:nvPr/>
        </p:nvPicPr>
        <p:blipFill>
          <a:blip r:embed="rId1"/>
          <a:stretch/>
        </p:blipFill>
        <p:spPr>
          <a:xfrm>
            <a:off x="3924360" y="5664240"/>
            <a:ext cx="2050920" cy="612720"/>
          </a:xfrm>
          <a:prstGeom prst="rect">
            <a:avLst/>
          </a:prstGeom>
          <a:ln w="0">
            <a:noFill/>
          </a:ln>
        </p:spPr>
      </p:pic>
      <p:pic>
        <p:nvPicPr>
          <p:cNvPr id="97" name="Picture 9" descr=""/>
          <p:cNvPicPr/>
          <p:nvPr/>
        </p:nvPicPr>
        <p:blipFill>
          <a:blip r:embed="rId2"/>
          <a:srcRect l="12906" t="12515" r="9697" b="0"/>
          <a:stretch/>
        </p:blipFill>
        <p:spPr>
          <a:xfrm>
            <a:off x="554040" y="5516640"/>
            <a:ext cx="900000" cy="936720"/>
          </a:xfrm>
          <a:prstGeom prst="rect">
            <a:avLst/>
          </a:prstGeom>
          <a:ln w="0">
            <a:noFill/>
          </a:ln>
        </p:spPr>
      </p:pic>
      <p:pic>
        <p:nvPicPr>
          <p:cNvPr id="98" name="Picture 10" descr="C:\users\aïda diop\documents\disque\ised2\documents ised\logo ised ucad mspm\Logo ISED.jpg"/>
          <p:cNvPicPr/>
          <p:nvPr/>
        </p:nvPicPr>
        <p:blipFill>
          <a:blip r:embed="rId3"/>
          <a:stretch/>
        </p:blipFill>
        <p:spPr>
          <a:xfrm>
            <a:off x="2087640" y="5516640"/>
            <a:ext cx="900000" cy="792000"/>
          </a:xfrm>
          <a:prstGeom prst="rect">
            <a:avLst/>
          </a:prstGeom>
          <a:ln w="0">
            <a:noFill/>
          </a:ln>
        </p:spPr>
      </p:pic>
      <p:pic>
        <p:nvPicPr>
          <p:cNvPr id="99" name="Picture 12" descr=""/>
          <p:cNvPicPr/>
          <p:nvPr/>
        </p:nvPicPr>
        <p:blipFill>
          <a:blip r:embed="rId4"/>
          <a:stretch/>
        </p:blipFill>
        <p:spPr>
          <a:xfrm>
            <a:off x="6804000" y="5510160"/>
            <a:ext cx="1521000" cy="86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gtEl>
                                        <p:attrNameLst>
                                          <p:attrName>style.visibility</p:attrName>
                                        </p:attrNameLst>
                                      </p:cBhvr>
                                      <p:to>
                                        <p:strVal val="visible"/>
                                      </p:to>
                                    </p:set>
                                    <p:animEffect filter="blinds(horizontal)" transition="in">
                                      <p:cBhvr additive="repl">
                                        <p:cTn id="12" dur="500"/>
                                        <p:tgtEl>
                                          <p:spTgt spid="9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4"/>
                                        </p:tgtEl>
                                        <p:attrNameLst>
                                          <p:attrName>style.visibility</p:attrName>
                                        </p:attrNameLst>
                                      </p:cBhvr>
                                      <p:to>
                                        <p:strVal val="visible"/>
                                      </p:to>
                                    </p:set>
                                    <p:animEffect filter="blinds(horizontal)" transition="in">
                                      <p:cBhvr additive="repl">
                                        <p:cTn id="17" dur="500"/>
                                        <p:tgtEl>
                                          <p:spTgt spid="9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5"/>
                                        </p:tgtEl>
                                        <p:attrNameLst>
                                          <p:attrName>style.visibility</p:attrName>
                                        </p:attrNameLst>
                                      </p:cBhvr>
                                      <p:to>
                                        <p:strVal val="visible"/>
                                      </p:to>
                                    </p:set>
                                    <p:animEffect filter="blinds(horizontal)" transition="in">
                                      <p:cBhvr additive="repl">
                                        <p:cTn id="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709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1. Situation du Pays</a:t>
            </a:r>
            <a:endParaRPr b="0" lang="en-US" sz="4400" spc="-1" strike="noStrike">
              <a:solidFill>
                <a:srgbClr val="0046ad"/>
              </a:solidFill>
              <a:latin typeface="Arial"/>
            </a:endParaRPr>
          </a:p>
        </p:txBody>
      </p:sp>
      <p:graphicFrame>
        <p:nvGraphicFramePr>
          <p:cNvPr id="101" name=""/>
          <p:cNvGraphicFramePr/>
          <p:nvPr/>
        </p:nvGraphicFramePr>
        <p:xfrm>
          <a:off x="539640" y="828720"/>
          <a:ext cx="8425080" cy="8618400"/>
        </p:xfrm>
        <a:graphic>
          <a:graphicData uri="http://schemas.openxmlformats.org/drawingml/2006/table">
            <a:tbl>
              <a:tblPr/>
              <a:tblGrid>
                <a:gridCol w="1355760"/>
                <a:gridCol w="1924200"/>
                <a:gridCol w="1326960"/>
                <a:gridCol w="1328760"/>
                <a:gridCol w="248940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Comic Sans MS"/>
                        </a:rPr>
                        <a:t>Secteur</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Comic Sans MS"/>
                        </a:rPr>
                        <a:t>Objectif International  </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Comic Sans MS"/>
                        </a:rPr>
                        <a:t>Indicateur</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Comic Sans MS"/>
                        </a:rPr>
                        <a:t>Valeur (Année) </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Comic Sans MS"/>
                        </a:rPr>
                        <a:t>Commentair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13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Education</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OMD 2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D’ici à 2015, donner à tous les enfants, garçons et  filles, partout dans le monde, les moyens d’achever un cycle complet d’études primaires</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Taux net de scolarisation dans le primaire</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Taux net de scolarisation :</a:t>
                      </a:r>
                      <a:endParaRPr b="0" lang="en-US" sz="9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 </a:t>
                      </a:r>
                      <a:r>
                        <a:rPr b="0" lang="fr-FR" sz="900" spc="-1" strike="noStrike">
                          <a:solidFill>
                            <a:srgbClr val="0070c0"/>
                          </a:solidFill>
                          <a:latin typeface="Arial"/>
                        </a:rPr>
                        <a:t>2008-2009 : 30,7 % selon l’Annuaire de la CPS</a:t>
                      </a:r>
                      <a:endParaRPr b="0" lang="en-US" sz="9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2010-2011: 33,2%</a:t>
                      </a:r>
                      <a:r>
                        <a:rPr b="0" lang="fr-FR" sz="900" spc="-1" strike="noStrike">
                          <a:solidFill>
                            <a:srgbClr val="0070c0"/>
                          </a:solidFill>
                          <a:latin typeface="Arial"/>
                        </a:rPr>
                        <a:t> selon l’annuaire  2010-2011 de la Cellule de Planification et de Statistique du Ministère de l’Education Nationale (CPS/MEN)</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Partant de ces données il y a une légèr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augmentation de la scolarisation . Mais elle reste  toujours faible  pour des raisons diverses( exode, mariage, socio-économiques, socio-culturelles ,kits de mariage, distance entre le village et l’école…).</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1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Egalité des sexes</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OMD 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Éliminer les disparités entre les sexes dans les enseignements primaire et secondaire d’ici à 2005 si possible et à tous les niveaux de l’enseignement</a:t>
                      </a:r>
                      <a:br>
                        <a:rPr sz="900"/>
                      </a:br>
                      <a:r>
                        <a:rPr b="0" lang="fr-FR" sz="900" spc="-1" strike="noStrike">
                          <a:solidFill>
                            <a:srgbClr val="0070c0"/>
                          </a:solidFill>
                          <a:latin typeface="Arial"/>
                        </a:rPr>
                        <a:t>en 2015 au plus tard</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Rapport ﬁlles/ garçons dans l’enseignement primaire</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En 2010 la parité entre filles et garçons en scolarisation du primaire est de 0,87%</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En 2011 elle est de 0,88%  selon l’annuaire 2010-2011 de la CPS/MEN</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Selon ces résultats on peut dire que la scolarisation des filles a progressé. Mais elle est encore faible  à cause des problèmes multiples tels que le mariage précoce, l’exode, les facteurs socio-économiques....</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Nutrition</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OMD 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Réduire de moitié, entre 1990 et 2015, la proportion de la population dont le revenu est inférieur à un dollar par jour</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Prévalence d’enfants de moins de 5 ans présentant une insuﬃsance pondérale</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En 2011 insuffisance pondérale:20,2% selon  l‘enquête SMART 201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En 2012 insuffisance pondérale:20% selon l’enquête SMART 2012 </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regard des résultats de 2011 et 2012,  on note une tendance marquée à la baisse mais pas suffisante pour atteindre  en 2015 l’objectif fixé à 14</a:t>
                      </a:r>
                      <a:r>
                        <a:rPr b="0" lang="fr-FR" sz="1000" spc="-1" strike="noStrike">
                          <a:solidFill>
                            <a:srgbClr val="002060"/>
                          </a:solidFill>
                          <a:latin typeface="Arial"/>
                        </a:rPr>
                        <a:t>%.(  selon les Enquêtes SMART 2011 e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0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VIH</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OMD 6</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D’ici à 2015, avoir stoppé la propagation du VIH/sida et commencé à inverser la tendance actuelle</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Taux de prévalence du VIH parmi les personnes âgées de 15-49 ans</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20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personnes dépistées:3064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ersonnes infectées:88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ersonnes dépistées:4262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ersonnes infectées:1257selon le rapport d’activités 2013 de la Cellule Sectorielle  de Lutte contre le Sida du Ministère de la Santé CSLS/ME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ien que le nombre de personnes dépistées VIH positif soit plus élevé en 2012 qu’en 2011, le taux de positivité reste le même 2,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3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Assainissement </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OMD 7</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Réduire de moitié, d’ici à 2015, le pourcentage de la population qui n’a pas accès de façon durable à un approvisionnement en eau de boisson salubre</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Proportion de la population ayant accès à un système d’assainissement amélioré (zones urbaines et rurales) </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46ad"/>
                </a:solidFill>
                <a:latin typeface="Arial"/>
              </a:rPr>
              <a:t>Collecte de Données de Base </a:t>
            </a:r>
            <a:endParaRPr b="0" lang="en-US" sz="4400" spc="-1" strike="noStrike">
              <a:solidFill>
                <a:srgbClr val="0046ad"/>
              </a:solidFill>
              <a:latin typeface="Arial"/>
            </a:endParaRPr>
          </a:p>
        </p:txBody>
      </p:sp>
      <p:graphicFrame>
        <p:nvGraphicFramePr>
          <p:cNvPr id="103" name=""/>
          <p:cNvGraphicFramePr/>
          <p:nvPr/>
        </p:nvGraphicFramePr>
        <p:xfrm>
          <a:off x="142920" y="714240"/>
          <a:ext cx="8858160" cy="5623200"/>
        </p:xfrm>
        <a:graphic>
          <a:graphicData uri="http://schemas.openxmlformats.org/drawingml/2006/table">
            <a:tbl>
              <a:tblPr/>
              <a:tblGrid>
                <a:gridCol w="7813800"/>
                <a:gridCol w="502920"/>
                <a:gridCol w="541440"/>
              </a:tblGrid>
              <a:tr h="320040">
                <a:tc>
                  <a:txBody>
                    <a:bodyPr lIns="61200" rIns="61200" tIns="0" bIns="0" anchor="t">
                      <a:noAutofit/>
                    </a:bodyPr>
                    <a:p>
                      <a:pPr marL="343080" indent="-343080">
                        <a:lnSpc>
                          <a:spcPct val="150000"/>
                        </a:lnSpc>
                        <a:buClr>
                          <a:srgbClr val="365f91"/>
                        </a:buClr>
                        <a:buFont typeface="Arial"/>
                        <a:buAutoNum type="arabi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z-vous actuellement:</a:t>
                      </a:r>
                      <a:endParaRPr b="0" lang="en-US" sz="14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a SNS dans le secteur de l’éducation ?</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e VIH dans le secteur de l’éducation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SN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VIH?</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pour assurer que les écoles ont un environnement sain adapté aux enfant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 Curriculum scolaire national sur la santé?</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 et/ou VIH du ME:  </a:t>
                      </a:r>
                      <a:endParaRPr b="0" lang="en-US" sz="14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Met en oeuvre la réponse stratégique  qui fait partie du plan de travail national du secteur de l’éducation?</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no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 un budget?</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a SNS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e VIH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nSpc>
                          <a:spcPct val="150000"/>
                        </a:lnSpc>
                        <a:buClr>
                          <a:srgbClr val="365f91"/>
                        </a:buClr>
                        <a:buFont typeface="Arial"/>
                        <a:buAutoNum type="arabicPeriod" startAt="3"/>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VIH est dans le ME:  </a:t>
                      </a:r>
                      <a:endParaRPr b="0" lang="en-US" sz="14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c un personnel qui consacre au moins 50%  aux activité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Guidée par une politique nationale SNS et VIH</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Situation Programme SNS </a:t>
            </a:r>
            <a:endParaRPr b="0" lang="en-US" sz="4400" spc="-1" strike="noStrike">
              <a:solidFill>
                <a:srgbClr val="0046ad"/>
              </a:solidFill>
              <a:latin typeface="Arial"/>
            </a:endParaRPr>
          </a:p>
        </p:txBody>
      </p:sp>
      <p:graphicFrame>
        <p:nvGraphicFramePr>
          <p:cNvPr id="105" name=""/>
          <p:cNvGraphicFramePr/>
          <p:nvPr/>
        </p:nvGraphicFramePr>
        <p:xfrm>
          <a:off x="214200" y="1484280"/>
          <a:ext cx="8715600" cy="5484960"/>
        </p:xfrm>
        <a:graphic>
          <a:graphicData uri="http://schemas.openxmlformats.org/drawingml/2006/table">
            <a:tbl>
              <a:tblPr/>
              <a:tblGrid>
                <a:gridCol w="2816280"/>
                <a:gridCol w="2100240"/>
                <a:gridCol w="2156040"/>
                <a:gridCol w="1643040"/>
              </a:tblGrid>
              <a:tr h="101232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Comic Sans MS"/>
                        </a:rPr>
                        <a:t>Composante FRESH I: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70c0"/>
                          </a:solidFill>
                          <a:latin typeface="Comic Sans MS"/>
                        </a:rPr>
                        <a:t>Politiques sanitaires en milieu scolair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Activités Actuellement Mises en Oeuvre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Accomplissements Principal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Défis Principaux</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rPr>
                        <a:t>Partenaires clé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Atelier d’élaboration du plan stratégique d’élimination de la rougeole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Elaboration du plan stratégique national d’élimination de la rougeole 2013-2020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Eliminer la rougeole d’ici 2020</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OM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Introduction du vaccin  contre le cancer du col de l’utérus.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roduction du vaccin contre Papillomavirus humain responsable en majorité du cancer du col de l’utéru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Lutter contre </a:t>
                      </a:r>
                      <a:r>
                        <a:rPr b="1" lang="fr-FR" sz="1100" spc="-1" strike="noStrike">
                          <a:solidFill>
                            <a:srgbClr val="000000"/>
                          </a:solidFill>
                          <a:latin typeface="Arial"/>
                        </a:rPr>
                        <a:t>Papillomavirus humain responsable en majorité du cancer du col de l’utérus.</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OM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89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71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82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07" name=""/>
          <p:cNvGraphicFramePr/>
          <p:nvPr/>
        </p:nvGraphicFramePr>
        <p:xfrm>
          <a:off x="214200" y="1484280"/>
          <a:ext cx="8715600" cy="5913360"/>
        </p:xfrm>
        <a:graphic>
          <a:graphicData uri="http://schemas.openxmlformats.org/drawingml/2006/table">
            <a:tbl>
              <a:tblPr/>
              <a:tblGrid>
                <a:gridCol w="2735280"/>
                <a:gridCol w="2019240"/>
                <a:gridCol w="2318040"/>
                <a:gridCol w="1643040"/>
              </a:tblGrid>
              <a:tr h="120816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46ad"/>
                          </a:solidFill>
                          <a:latin typeface="Comic Sans MS"/>
                        </a:rPr>
                        <a:t>Composante FRESH II: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Comic Sans MS"/>
                        </a:rPr>
                        <a:t>Environnement scolaire sain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57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Activités Actuellement Mises en Oeuvre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Accomplissements Principal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Défis Principaux</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rPr>
                        <a:t>Partenaires clé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Activités de form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Formation des formateurs et des enseignants (écoles couvertes par l’UNICEF) en  éducation à l’hygiène,en eau et assainissement en milieu scolai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Besoin de formation  des écoles non couvertes par l’UNICEF</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UNICEF/WASH</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WATER/AID</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CARE/MALI</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Save the children</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09" name=""/>
          <p:cNvGraphicFramePr/>
          <p:nvPr/>
        </p:nvGraphicFramePr>
        <p:xfrm>
          <a:off x="142920" y="1484280"/>
          <a:ext cx="8786880" cy="5859360"/>
        </p:xfrm>
        <a:graphic>
          <a:graphicData uri="http://schemas.openxmlformats.org/drawingml/2006/table">
            <a:tbl>
              <a:tblPr/>
              <a:tblGrid>
                <a:gridCol w="3093840"/>
                <a:gridCol w="1700280"/>
                <a:gridCol w="2336760"/>
                <a:gridCol w="1656000"/>
              </a:tblGrid>
              <a:tr h="100764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Comic Sans MS"/>
                        </a:rPr>
                        <a:t>Composante FRESH III: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70c0"/>
                          </a:solidFill>
                          <a:latin typeface="Comic Sans MS"/>
                        </a:rPr>
                        <a:t>Éducation sanitaire basée sur l’acquisition de savoir-fair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68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Activités Actuellement Mises en Oeuvre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Accomplissements Principal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Défis Principaux</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rPr>
                        <a:t>Partenaires clé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Formation des enseignants  à l’éducation à l’hygiène ,l’eau et assainissement en milieu scolair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Enseignants formés à l’éducation à l’hygiène,l’eau et assainissement en milieu scolair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Former tous les enseignants à l’éducation à l’hygiène,l’eau et assainissement en milieu scolaire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WATER/AID</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UNICEF/WASH</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CARE/MALI</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Save the Children</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Formation des enseignants à l’éducation préventive au trachome en milieu scolair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Petit nombre d’enseignants formés à l’éducation préventive au trachome en milieu scolaire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Former l’ensemble des enseignants du pays à l’éducation préventive au trachom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HKI</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980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976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11" name=""/>
          <p:cNvGraphicFramePr/>
          <p:nvPr/>
        </p:nvGraphicFramePr>
        <p:xfrm>
          <a:off x="214200" y="1484280"/>
          <a:ext cx="8674200" cy="5237280"/>
        </p:xfrm>
        <a:graphic>
          <a:graphicData uri="http://schemas.openxmlformats.org/drawingml/2006/table">
            <a:tbl>
              <a:tblPr/>
              <a:tblGrid>
                <a:gridCol w="3054600"/>
                <a:gridCol w="1677960"/>
                <a:gridCol w="2152440"/>
                <a:gridCol w="1789200"/>
              </a:tblGrid>
              <a:tr h="105588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Comic Sans MS"/>
                        </a:rPr>
                        <a:t>Composante FRESH IV: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70c0"/>
                          </a:solidFill>
                          <a:latin typeface="Comic Sans MS"/>
                        </a:rPr>
                        <a:t>Services de santé et de nutrition en milieu scolai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40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Activités Actuellement Mises en Oeuvre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Accomplissements Principal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Défis Principaux</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rPr>
                        <a:t>Partenaires clé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Déparasitage des élèv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Déparasitage des élèv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Déparasiter tous  les élèves</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Deux fois par a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Etat ,OMS,HK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Elaboration du plan d’action de la nutrition scolai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Politique de Santé scolaire élaboré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Adopter et mettre en oeuvre la politique de Santé scolai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PCD,UNICEF,USAID,</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PAM,</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OMS,World Bank etc.</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Elaboration du plan d’action de la nutrition scolair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Politique d’Alimentation scolaire adopté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Mettre en oeuvre la politique de l’Alimentation scolaire</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PCD,UNICEF,USAID,</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PAM,</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OMS,World Bank etc.</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2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Conclusion</a:t>
            </a:r>
            <a:endParaRPr b="0" lang="en-US" sz="4400" spc="-1" strike="noStrike">
              <a:solidFill>
                <a:srgbClr val="0046ad"/>
              </a:solidFill>
              <a:latin typeface="Arial"/>
            </a:endParaRPr>
          </a:p>
        </p:txBody>
      </p:sp>
      <p:sp>
        <p:nvSpPr>
          <p:cNvPr id="113" name="PlaceHolder 2"/>
          <p:cNvSpPr>
            <a:spLocks noGrp="1"/>
          </p:cNvSpPr>
          <p:nvPr>
            <p:ph/>
          </p:nvPr>
        </p:nvSpPr>
        <p:spPr>
          <a:xfrm>
            <a:off x="468000" y="1599840"/>
            <a:ext cx="8389800" cy="4205160"/>
          </a:xfrm>
          <a:prstGeom prst="rect">
            <a:avLst/>
          </a:prstGeom>
          <a:noFill/>
          <a:ln w="0">
            <a:noFill/>
          </a:ln>
        </p:spPr>
        <p:txBody>
          <a:bodyPr anchor="t">
            <a:normAutofit fontScale="69000"/>
          </a:bodyPr>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46ad"/>
                </a:solidFill>
                <a:latin typeface="Arial"/>
              </a:rPr>
              <a:t>L’analyse des résultats montre que le Mali  malgré les progrès réalisés est toujours confronté à des problèmes d’éducation (scolarisation des enfants,parité filles/garçons…) de nutrition et de santé.La situation du pays est devenue difficile à cause des problèmes sociopolitiques.</a:t>
            </a:r>
            <a:endParaRPr b="0" lang="en-US" sz="3200" spc="-1" strike="noStrike">
              <a:solidFill>
                <a:srgbClr val="0046ad"/>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46ad"/>
                </a:solidFill>
                <a:latin typeface="Arial"/>
              </a:rPr>
              <a:t>La santé nutrition scolaire souhaiterait la mise en œuvre des politiques (santé scolaire et alimentation scolaire) dans toutes leurs composantes. </a:t>
            </a:r>
            <a:endParaRPr b="0" lang="en-US" sz="3200" spc="-1" strike="noStrike">
              <a:solidFill>
                <a:srgbClr val="0046ad"/>
              </a:solidFill>
              <a:latin typeface="Arial"/>
            </a:endParaRPr>
          </a:p>
          <a:p>
            <a:pPr marL="236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a:p>
            <a:pPr lvl="1" marL="630720" indent="-354960">
              <a:spcBef>
                <a:spcPts val="649"/>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Arial"/>
              </a:rPr>
              <a:t>La situation du pays</a:t>
            </a:r>
            <a:endParaRPr b="0" lang="en-US" sz="2600" spc="-1" strike="noStrike">
              <a:solidFill>
                <a:srgbClr val="0046ad"/>
              </a:solidFill>
              <a:latin typeface="Arial"/>
            </a:endParaRPr>
          </a:p>
          <a:p>
            <a:pPr lvl="1" marL="630720" indent="-354960">
              <a:spcBef>
                <a:spcPts val="649"/>
              </a:spcBef>
              <a:buClr>
                <a:srgbClr val="ff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0000"/>
                </a:solidFill>
                <a:latin typeface="Arial"/>
              </a:rPr>
              <a:t>La réponse au programme SNS, les accomplissements et défis principaux et les points à redresser </a:t>
            </a:r>
            <a:endParaRPr b="0" lang="en-US" sz="2600" spc="-1" strike="noStrike">
              <a:solidFill>
                <a:srgbClr val="0046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09:17:30Z</dcterms:created>
  <dc:creator>Mohini</dc:creator>
  <dc:description/>
  <dc:language>en-US</dc:language>
  <cp:lastModifiedBy>family</cp:lastModifiedBy>
  <dcterms:modified xsi:type="dcterms:W3CDTF">2013-10-10T07:43:57Z</dcterms:modified>
  <cp:revision>214</cp:revision>
  <dc:subject/>
  <dc:title>Current Situation analysis</dc:title>
</cp:coreProperties>
</file>