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6.jpeg" ContentType="image/jpeg"/>
  <Override PartName="/ppt/media/image19.png" ContentType="image/png"/>
  <Override PartName="/ppt/media/image1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5.png" ContentType="image/png"/>
  <Override PartName="/ppt/media/image24.jpeg" ContentType="image/jpeg"/>
  <Override PartName="/ppt/media/image14.png" ContentType="image/pn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28D3-CB6C-476D-BCF7-E1BC1300E820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2F19-BF0B-4053-8BF5-1DDFE57ED8C0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30B1-EBB8-4ABA-9EB7-D70F314CF9D4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27CB-1620-4465-A038-D764A739AC5F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2760-ED74-41EF-A670-0D694A30567F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47FF-6A7F-488C-9AE8-56209FF0029B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5425-1009-43E0-ADAF-F1EF81BB2FE3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que, seguindo princípios, regras e procedimentos internacionalmente aceites, congrega esforços, em prol da segurança e qualidade dos alimentos comercializados no mercado nacional e dos destinados à exportaçã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9E93-1CDF-4065-82F5-1E7720695C23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868A-C082-4B51-89B0-EC05424AE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4CF1-B1E7-451E-A677-8C2B0700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8AD6-FF38-42BB-9E66-27D4A3FEA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4F71-020D-47EF-8CE5-36DCC0141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2BB5-1F2E-4ACB-B7A0-CE484C9D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31FD-4174-4E06-AD09-1B5EDB93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CBDA-35E9-4FD4-BA1F-E30CBD0C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A78F-4A45-407D-B5CB-D311AB6C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4319-0CCC-4984-B441-2BC65379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371A-2B2E-4735-9925-74F7C450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ACDA-B9FD-47C1-A1E5-6D3D3BF2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71AB-5579-4000-9B75-D9324799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92B2-B7C2-4609-AE36-A0BBD4E852C9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FORMATION COURTE DURÉ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898989"/>
                </a:solidFill>
                <a:latin typeface="Calibri"/>
              </a:rPr>
              <a:t>SANTÉ, NUTRITION E VHSI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898989"/>
                </a:solidFill>
                <a:latin typeface="Calibri"/>
              </a:rPr>
              <a:t>SALLY, SÉNÉGAL, 14-23 OCTOBRE 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4000" spc="-1" strike="noStrike">
                <a:solidFill>
                  <a:srgbClr val="000000"/>
                </a:solidFill>
                <a:latin typeface="Calibri"/>
              </a:rPr>
              <a:t>OBRIGADO – MERCI - 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upo 51"/>
          <p:cNvGrpSpPr/>
          <p:nvPr/>
        </p:nvGrpSpPr>
        <p:grpSpPr>
          <a:xfrm>
            <a:off x="314280" y="371520"/>
            <a:ext cx="1182600" cy="753840"/>
            <a:chOff x="314280" y="371520"/>
            <a:chExt cx="1182600" cy="753840"/>
          </a:xfrm>
        </p:grpSpPr>
        <p:sp>
          <p:nvSpPr>
            <p:cNvPr id="51" name="Rectângulo arredondado 55"/>
            <p:cNvSpPr/>
            <p:nvPr/>
          </p:nvSpPr>
          <p:spPr>
            <a:xfrm>
              <a:off x="314280" y="371520"/>
              <a:ext cx="1182600" cy="682560"/>
            </a:xfrm>
            <a:prstGeom prst="roundRect">
              <a:avLst>
                <a:gd name="adj" fmla="val 16667"/>
              </a:avLst>
            </a:prstGeom>
            <a:solidFill>
              <a:srgbClr val="77933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ângulo 56"/>
            <p:cNvSpPr/>
            <p:nvPr/>
          </p:nvSpPr>
          <p:spPr>
            <a:xfrm>
              <a:off x="344160" y="409320"/>
              <a:ext cx="108432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pt-PT" sz="1400" spc="-1" strike="noStrike">
                  <a:solidFill>
                    <a:srgbClr val="ffffff"/>
                  </a:solidFill>
                  <a:latin typeface="Calibri"/>
                </a:rPr>
                <a:t>Objectivos Gerai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Rectângulo 1"/>
          <p:cNvGrpSpPr/>
          <p:nvPr/>
        </p:nvGrpSpPr>
        <p:grpSpPr>
          <a:xfrm>
            <a:off x="1438200" y="1487520"/>
            <a:ext cx="1701720" cy="1633680"/>
            <a:chOff x="1438200" y="1487520"/>
            <a:chExt cx="1701720" cy="1633680"/>
          </a:xfrm>
        </p:grpSpPr>
        <p:pic>
          <p:nvPicPr>
            <p:cNvPr id="54" name="Rectângulo 1" descr=""/>
            <p:cNvPicPr/>
            <p:nvPr/>
          </p:nvPicPr>
          <p:blipFill>
            <a:blip r:embed="rId1"/>
            <a:stretch/>
          </p:blipFill>
          <p:spPr>
            <a:xfrm>
              <a:off x="1438200" y="1487520"/>
              <a:ext cx="1701720" cy="16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496880" y="1521000"/>
              <a:ext cx="1579680" cy="14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ffffff"/>
                  </a:solidFill>
                  <a:latin typeface="Calibri"/>
                </a:rPr>
                <a:t>Boas Prática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ffffff"/>
                  </a:solidFill>
                  <a:latin typeface="Calibri"/>
                </a:rPr>
                <a:t>Higiene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ffffff"/>
                  </a:solidFill>
                  <a:latin typeface="Calibri"/>
                </a:rPr>
                <a:t>Cidadan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ffffff"/>
                  </a:solidFill>
                  <a:latin typeface="Calibri"/>
                </a:rPr>
                <a:t>Consumo de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ffffff"/>
                  </a:solidFill>
                  <a:latin typeface="Calibri"/>
                </a:rPr>
                <a:t>1ºs Socorro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ffffff"/>
                  </a:solidFill>
                  <a:latin typeface="Calibri"/>
                </a:rPr>
                <a:t>Conhecimentos e habilidades em saúde  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Rectângulo 9"/>
          <p:cNvGrpSpPr/>
          <p:nvPr/>
        </p:nvGrpSpPr>
        <p:grpSpPr>
          <a:xfrm>
            <a:off x="3309840" y="1036800"/>
            <a:ext cx="1774800" cy="1687320"/>
            <a:chOff x="3309840" y="1036800"/>
            <a:chExt cx="1774800" cy="1687320"/>
          </a:xfrm>
        </p:grpSpPr>
        <p:pic>
          <p:nvPicPr>
            <p:cNvPr id="57" name="Rectângulo 9" descr=""/>
            <p:cNvPicPr/>
            <p:nvPr/>
          </p:nvPicPr>
          <p:blipFill>
            <a:blip r:embed="rId2"/>
            <a:stretch/>
          </p:blipFill>
          <p:spPr>
            <a:xfrm>
              <a:off x="3309840" y="1036800"/>
              <a:ext cx="1774800" cy="16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368520" y="1125360"/>
              <a:ext cx="1656000" cy="14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ffffff"/>
                  </a:solidFill>
                  <a:latin typeface="Calibri"/>
                </a:rPr>
                <a:t>Alimentação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ffffff"/>
                  </a:solidFill>
                  <a:latin typeface="Calibri"/>
                </a:rPr>
                <a:t>e Nutriçã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ffffff"/>
                  </a:solidFill>
                  <a:latin typeface="Calibri"/>
                </a:rPr>
                <a:t>Boas praticas de higiene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ffffff"/>
                  </a:solidFill>
                  <a:latin typeface="Calibri"/>
                </a:rPr>
                <a:t>Educação Alimentar e Nutricional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ffffff"/>
                  </a:solidFill>
                  <a:latin typeface="Calibri"/>
                </a:rPr>
                <a:t>Fortificação dos alimento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Rectângulo 10"/>
          <p:cNvGrpSpPr/>
          <p:nvPr/>
        </p:nvGrpSpPr>
        <p:grpSpPr>
          <a:xfrm>
            <a:off x="5370480" y="1060560"/>
            <a:ext cx="1920960" cy="1633320"/>
            <a:chOff x="5370480" y="1060560"/>
            <a:chExt cx="1920960" cy="1633320"/>
          </a:xfrm>
        </p:grpSpPr>
        <p:pic>
          <p:nvPicPr>
            <p:cNvPr id="60" name="Rectângulo 10" descr=""/>
            <p:cNvPicPr/>
            <p:nvPr/>
          </p:nvPicPr>
          <p:blipFill>
            <a:blip r:embed="rId3"/>
            <a:stretch/>
          </p:blipFill>
          <p:spPr>
            <a:xfrm>
              <a:off x="5370480" y="1060560"/>
              <a:ext cx="1920960" cy="16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430960" y="1125360"/>
              <a:ext cx="1800000" cy="14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ffffff"/>
                  </a:solidFill>
                  <a:latin typeface="Calibri"/>
                </a:rPr>
                <a:t>Atenção a Saúd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ffffff"/>
                  </a:solidFill>
                  <a:latin typeface="Calibri"/>
                </a:rPr>
                <a:t>Visitas de Saúde Escolar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ffffff"/>
                  </a:solidFill>
                  <a:latin typeface="Calibri"/>
                </a:rPr>
                <a:t>Seguimento da saúde dos aluno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ffffff"/>
                  </a:solidFill>
                  <a:latin typeface="Calibri"/>
                </a:rPr>
                <a:t>Tratamento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ffffff"/>
                  </a:solidFill>
                  <a:latin typeface="Calibri"/>
                </a:rPr>
                <a:t>Desparasitação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ffffff"/>
                  </a:solidFill>
                  <a:latin typeface="Calibri"/>
                </a:rPr>
                <a:t>Suplementação de ferro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ffffff"/>
                  </a:solidFill>
                  <a:latin typeface="Calibri"/>
                </a:rPr>
                <a:t>Vacinação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Rectângulo 11"/>
          <p:cNvGrpSpPr/>
          <p:nvPr/>
        </p:nvGrpSpPr>
        <p:grpSpPr>
          <a:xfrm>
            <a:off x="7486560" y="1779480"/>
            <a:ext cx="1633680" cy="1517760"/>
            <a:chOff x="7486560" y="1779480"/>
            <a:chExt cx="1633680" cy="1517760"/>
          </a:xfrm>
        </p:grpSpPr>
        <p:pic>
          <p:nvPicPr>
            <p:cNvPr id="63" name="Rectângulo 11" descr=""/>
            <p:cNvPicPr/>
            <p:nvPr/>
          </p:nvPicPr>
          <p:blipFill>
            <a:blip r:embed="rId4"/>
            <a:stretch/>
          </p:blipFill>
          <p:spPr>
            <a:xfrm>
              <a:off x="7486560" y="1779480"/>
              <a:ext cx="163368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7545240" y="1844640"/>
              <a:ext cx="151128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ffffff"/>
                  </a:solidFill>
                  <a:latin typeface="Calibri"/>
                </a:rPr>
                <a:t>Programa de Saúde Ora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ffffff"/>
                  </a:solidFill>
                  <a:latin typeface="Calibri"/>
                </a:rPr>
                <a:t>Escovação dos dentes nas escola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ffffff"/>
                  </a:solidFill>
                  <a:latin typeface="Calibri"/>
                </a:rPr>
                <a:t>Kits de saúde oral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ffffff"/>
                  </a:solidFill>
                  <a:latin typeface="Calibri"/>
                </a:rPr>
                <a:t>IEC sobre a Saúde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Rectângulo 12"/>
          <p:cNvGrpSpPr/>
          <p:nvPr/>
        </p:nvGrpSpPr>
        <p:grpSpPr>
          <a:xfrm>
            <a:off x="1347840" y="3328920"/>
            <a:ext cx="1724040" cy="1730520"/>
            <a:chOff x="1347840" y="3328920"/>
            <a:chExt cx="1724040" cy="1730520"/>
          </a:xfrm>
        </p:grpSpPr>
        <p:pic>
          <p:nvPicPr>
            <p:cNvPr id="66" name="Rectângulo 12" descr=""/>
            <p:cNvPicPr/>
            <p:nvPr/>
          </p:nvPicPr>
          <p:blipFill>
            <a:blip r:embed="rId5"/>
            <a:stretch/>
          </p:blipFill>
          <p:spPr>
            <a:xfrm>
              <a:off x="1347840" y="3328920"/>
              <a:ext cx="1724040" cy="17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1409760" y="3357720"/>
              <a:ext cx="1598400" cy="15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ffffff"/>
                  </a:solidFill>
                  <a:latin typeface="Calibri"/>
                </a:rPr>
                <a:t>Infra-estruturas/ equipamento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ffffff"/>
                  </a:solidFill>
                  <a:latin typeface="Calibri"/>
                </a:rPr>
                <a:t>Ambiente sadio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ffffff"/>
                  </a:solidFill>
                  <a:latin typeface="Calibri"/>
                </a:rPr>
                <a:t>Cantinas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ffffff"/>
                  </a:solidFill>
                  <a:latin typeface="Calibri"/>
                </a:rPr>
                <a:t>Materiais informáticos (Computadores)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Rectângulo 13"/>
          <p:cNvGrpSpPr/>
          <p:nvPr/>
        </p:nvGrpSpPr>
        <p:grpSpPr>
          <a:xfrm>
            <a:off x="3236760" y="3975120"/>
            <a:ext cx="1847880" cy="1792440"/>
            <a:chOff x="3236760" y="3975120"/>
            <a:chExt cx="1847880" cy="1792440"/>
          </a:xfrm>
        </p:grpSpPr>
        <p:pic>
          <p:nvPicPr>
            <p:cNvPr id="69" name="Rectângulo 13" descr=""/>
            <p:cNvPicPr/>
            <p:nvPr/>
          </p:nvPicPr>
          <p:blipFill>
            <a:blip r:embed="rId6"/>
            <a:stretch/>
          </p:blipFill>
          <p:spPr>
            <a:xfrm>
              <a:off x="3236760" y="3975120"/>
              <a:ext cx="1847880" cy="17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3297240" y="4005360"/>
              <a:ext cx="172728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ffffff"/>
                  </a:solidFill>
                  <a:latin typeface="Calibri"/>
                </a:rPr>
                <a:t>Desporto Escolar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ffffff"/>
                  </a:solidFill>
                  <a:latin typeface="Calibri"/>
                </a:rPr>
                <a:t>Pratica regular (2x semana)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ffffff"/>
                  </a:solidFill>
                  <a:latin typeface="Calibri"/>
                </a:rPr>
                <a:t>Infra-estruturas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ffffff"/>
                  </a:solidFill>
                  <a:latin typeface="Calibri"/>
                </a:rPr>
                <a:t>Materiais e equipamentos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ffffff"/>
                  </a:solidFill>
                  <a:latin typeface="Calibri"/>
                </a:rPr>
                <a:t>Jogos escolare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Rectângulo 14"/>
          <p:cNvGrpSpPr/>
          <p:nvPr/>
        </p:nvGrpSpPr>
        <p:grpSpPr>
          <a:xfrm>
            <a:off x="5321160" y="3925800"/>
            <a:ext cx="1927440" cy="1689120"/>
            <a:chOff x="5321160" y="3925800"/>
            <a:chExt cx="1927440" cy="1689120"/>
          </a:xfrm>
        </p:grpSpPr>
        <p:pic>
          <p:nvPicPr>
            <p:cNvPr id="72" name="Rectângulo 14" descr=""/>
            <p:cNvPicPr/>
            <p:nvPr/>
          </p:nvPicPr>
          <p:blipFill>
            <a:blip r:embed="rId7"/>
            <a:stretch/>
          </p:blipFill>
          <p:spPr>
            <a:xfrm>
              <a:off x="5321160" y="3925800"/>
              <a:ext cx="1927440" cy="16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5384880" y="4005360"/>
              <a:ext cx="180000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ffffff"/>
                  </a:solidFill>
                  <a:latin typeface="Calibri"/>
                </a:rPr>
                <a:t>Meio Ambient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ffffff"/>
                  </a:solidFill>
                  <a:latin typeface="Calibri"/>
                </a:rPr>
                <a:t>Tratamento dos resíduos sólidos e líquido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ffffff"/>
                  </a:solidFill>
                  <a:latin typeface="Calibri"/>
                </a:rPr>
                <a:t>Jornadas de reciclagem de lixo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100" spc="-1" strike="noStrike">
                  <a:solidFill>
                    <a:srgbClr val="ffffff"/>
                  </a:solidFill>
                  <a:latin typeface="Calibri"/>
                </a:rPr>
                <a:t>Informação e sensibilização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Rectângulo 15"/>
          <p:cNvGrpSpPr/>
          <p:nvPr/>
        </p:nvGrpSpPr>
        <p:grpSpPr>
          <a:xfrm>
            <a:off x="7486560" y="3328920"/>
            <a:ext cx="1846440" cy="1359000"/>
            <a:chOff x="7486560" y="3328920"/>
            <a:chExt cx="1846440" cy="1359000"/>
          </a:xfrm>
        </p:grpSpPr>
        <p:pic>
          <p:nvPicPr>
            <p:cNvPr id="75" name="Rectângulo 15" descr=""/>
            <p:cNvPicPr/>
            <p:nvPr/>
          </p:nvPicPr>
          <p:blipFill>
            <a:blip r:embed="rId8"/>
            <a:stretch/>
          </p:blipFill>
          <p:spPr>
            <a:xfrm>
              <a:off x="7486560" y="3328920"/>
              <a:ext cx="184644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7545240" y="3357720"/>
              <a:ext cx="1729080" cy="12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ffffff"/>
                  </a:solidFill>
                  <a:latin typeface="Calibri"/>
                </a:rPr>
                <a:t>Água e Saneament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100" spc="-1" strike="noStrike">
                  <a:solidFill>
                    <a:srgbClr val="ffffff"/>
                  </a:solidFill>
                  <a:latin typeface="Calibri"/>
                </a:rPr>
                <a:t>Água potável nas escolas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100" spc="-1" strike="noStrike">
                  <a:solidFill>
                    <a:srgbClr val="ffffff"/>
                  </a:solidFill>
                  <a:latin typeface="Calibri"/>
                </a:rPr>
                <a:t>Cuidados com a águ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100" spc="-1" strike="noStrike">
                  <a:solidFill>
                    <a:srgbClr val="ffffff"/>
                  </a:solidFill>
                  <a:latin typeface="Calibri"/>
                </a:rPr>
                <a:t>Saneamento 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Rectângulo 16"/>
          <p:cNvGrpSpPr/>
          <p:nvPr/>
        </p:nvGrpSpPr>
        <p:grpSpPr>
          <a:xfrm>
            <a:off x="4462560" y="2895480"/>
            <a:ext cx="1371600" cy="774720"/>
            <a:chOff x="4462560" y="2895480"/>
            <a:chExt cx="1371600" cy="774720"/>
          </a:xfrm>
        </p:grpSpPr>
        <p:pic>
          <p:nvPicPr>
            <p:cNvPr id="78" name="Rectângulo 16" descr=""/>
            <p:cNvPicPr/>
            <p:nvPr/>
          </p:nvPicPr>
          <p:blipFill>
            <a:blip r:embed="rId9"/>
            <a:stretch/>
          </p:blipFill>
          <p:spPr>
            <a:xfrm>
              <a:off x="4462560" y="2895480"/>
              <a:ext cx="13716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4521240" y="2924280"/>
              <a:ext cx="1249200" cy="6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400" spc="-1" strike="noStrike">
                  <a:solidFill>
                    <a:srgbClr val="ffffff"/>
                  </a:solidFill>
                  <a:latin typeface="Calibri"/>
                </a:rPr>
                <a:t>EPS/E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Seta para a direita 6"/>
          <p:cNvSpPr/>
          <p:nvPr/>
        </p:nvSpPr>
        <p:spPr>
          <a:xfrm>
            <a:off x="1663560" y="487440"/>
            <a:ext cx="6818400" cy="565200"/>
          </a:xfrm>
          <a:prstGeom prst="rect">
            <a:avLst/>
          </a:prstGeom>
          <a:gradFill rotWithShape="0">
            <a:gsLst>
              <a:gs pos="0">
                <a:srgbClr val="7d866b"/>
              </a:gs>
              <a:gs pos="100000">
                <a:srgbClr val="d8e7b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" rIns="10080" tIns="10080" bIns="10080" anchor="t">
            <a:noAutofit/>
          </a:bodyPr>
          <a:p>
            <a:pPr lvl="1"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Contribuir para a melhoria do nível de saúde dos alunos e adolescentes escolarizad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Promover conhecimentos e habilidades positivas nos domínios cognitivos, social e comporta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69920" indent="-169920">
              <a:lnSpc>
                <a:spcPct val="90000"/>
              </a:lnSpc>
              <a:spcAft>
                <a:spcPts val="224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Seta para a direita 2" descr=""/>
          <p:cNvPicPr/>
          <p:nvPr/>
        </p:nvPicPr>
        <p:blipFill>
          <a:blip r:embed="rId10"/>
          <a:stretch/>
        </p:blipFill>
        <p:spPr>
          <a:xfrm>
            <a:off x="530280" y="5791320"/>
            <a:ext cx="8686800" cy="450720"/>
          </a:xfrm>
          <a:prstGeom prst="rect">
            <a:avLst/>
          </a:prstGeom>
          <a:ln w="0">
            <a:noFill/>
          </a:ln>
        </p:spPr>
      </p:pic>
      <p:pic>
        <p:nvPicPr>
          <p:cNvPr id="82" name="Seta para a direita 21" descr=""/>
          <p:cNvPicPr/>
          <p:nvPr/>
        </p:nvPicPr>
        <p:blipFill>
          <a:blip r:embed="rId11"/>
          <a:stretch/>
        </p:blipFill>
        <p:spPr>
          <a:xfrm>
            <a:off x="401760" y="6076800"/>
            <a:ext cx="9028080" cy="470160"/>
          </a:xfrm>
          <a:prstGeom prst="rect">
            <a:avLst/>
          </a:prstGeom>
          <a:ln w="0">
            <a:noFill/>
          </a:ln>
        </p:spPr>
      </p:pic>
      <p:pic>
        <p:nvPicPr>
          <p:cNvPr id="83" name="Seta para a direita 22" descr=""/>
          <p:cNvPicPr/>
          <p:nvPr/>
        </p:nvPicPr>
        <p:blipFill>
          <a:blip r:embed="rId12"/>
          <a:stretch/>
        </p:blipFill>
        <p:spPr>
          <a:xfrm>
            <a:off x="255600" y="6456240"/>
            <a:ext cx="9401040" cy="432000"/>
          </a:xfrm>
          <a:prstGeom prst="rect">
            <a:avLst/>
          </a:prstGeom>
          <a:ln w="0">
            <a:noFill/>
          </a:ln>
        </p:spPr>
      </p:pic>
      <p:sp>
        <p:nvSpPr>
          <p:cNvPr id="84" name="Seta em curva 3"/>
          <p:cNvSpPr/>
          <p:nvPr/>
        </p:nvSpPr>
        <p:spPr>
          <a:xfrm rot="5400000">
            <a:off x="7580520" y="1016640"/>
            <a:ext cx="503280" cy="1152360"/>
          </a:xfrm>
          <a:custGeom>
            <a:avLst/>
            <a:gdLst/>
            <a:ahLst/>
            <a:rect l="l" t="t" r="r" b="b"/>
            <a:pathLst>
              <a:path w="503237" h="1152525">
                <a:moveTo>
                  <a:pt x="0" y="1152525"/>
                </a:moveTo>
                <a:lnTo>
                  <a:pt x="0" y="283071"/>
                </a:lnTo>
                <a:cubicBezTo>
                  <a:pt x="0" y="161477"/>
                  <a:pt x="98572" y="62905"/>
                  <a:pt x="220166" y="62905"/>
                </a:cubicBezTo>
                <a:lnTo>
                  <a:pt x="377428" y="62905"/>
                </a:lnTo>
                <a:lnTo>
                  <a:pt x="377428" y="0"/>
                </a:lnTo>
                <a:lnTo>
                  <a:pt x="503237" y="125809"/>
                </a:lnTo>
                <a:lnTo>
                  <a:pt x="377428" y="251619"/>
                </a:lnTo>
                <a:lnTo>
                  <a:pt x="377428" y="188714"/>
                </a:lnTo>
                <a:lnTo>
                  <a:pt x="220166" y="188714"/>
                </a:lnTo>
                <a:cubicBezTo>
                  <a:pt x="168054" y="188714"/>
                  <a:pt x="125809" y="230959"/>
                  <a:pt x="125809" y="283071"/>
                </a:cubicBezTo>
                <a:lnTo>
                  <a:pt x="125809" y="1152525"/>
                </a:lnTo>
                <a:lnTo>
                  <a:pt x="0" y="1152525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eta para a direita 6"/>
          <p:cNvSpPr/>
          <p:nvPr/>
        </p:nvSpPr>
        <p:spPr>
          <a:xfrm>
            <a:off x="776160" y="87480"/>
            <a:ext cx="82803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" rIns="10080" tIns="10080" bIns="10080" anchor="t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  <a:ea typeface="Arial"/>
              </a:rPr>
              <a:t>ACTIONS SANTÉ ET NUTRITION SCOLAIRE AU CAP VE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Conexão recta unidireccional 5"/>
          <p:cNvCxnSpPr/>
          <p:nvPr/>
        </p:nvCxnSpPr>
        <p:spPr>
          <a:xfrm flipH="1" flipV="1">
            <a:off x="3390120" y="2925000"/>
            <a:ext cx="77076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Conexão recta unidireccional 30"/>
          <p:cNvCxnSpPr/>
          <p:nvPr/>
        </p:nvCxnSpPr>
        <p:spPr>
          <a:xfrm flipH="1">
            <a:off x="3439800" y="3357360"/>
            <a:ext cx="792720" cy="146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Conexão recta unidireccional 33"/>
          <p:cNvCxnSpPr/>
          <p:nvPr/>
        </p:nvCxnSpPr>
        <p:spPr>
          <a:xfrm flipH="1">
            <a:off x="4160520" y="3715920"/>
            <a:ext cx="216720" cy="18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Conexão recta unidireccional 37"/>
          <p:cNvCxnSpPr/>
          <p:nvPr/>
        </p:nvCxnSpPr>
        <p:spPr>
          <a:xfrm>
            <a:off x="5503680" y="3701520"/>
            <a:ext cx="240120" cy="15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0" name="Conexão recta unidireccional 40"/>
          <p:cNvCxnSpPr/>
          <p:nvPr/>
        </p:nvCxnSpPr>
        <p:spPr>
          <a:xfrm>
            <a:off x="6105600" y="3384720"/>
            <a:ext cx="986400" cy="189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Conexão recta unidireccional 42"/>
          <p:cNvCxnSpPr/>
          <p:nvPr/>
        </p:nvCxnSpPr>
        <p:spPr>
          <a:xfrm flipV="1">
            <a:off x="5958000" y="2760120"/>
            <a:ext cx="30240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Conexão recta unidireccional 47"/>
          <p:cNvCxnSpPr/>
          <p:nvPr/>
        </p:nvCxnSpPr>
        <p:spPr>
          <a:xfrm flipH="1" flipV="1">
            <a:off x="4520520" y="2636640"/>
            <a:ext cx="246600" cy="181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93" name="Oval 57"/>
          <p:cNvGrpSpPr/>
          <p:nvPr/>
        </p:nvGrpSpPr>
        <p:grpSpPr>
          <a:xfrm>
            <a:off x="-231840" y="1322280"/>
            <a:ext cx="1238400" cy="762120"/>
            <a:chOff x="-231840" y="1322280"/>
            <a:chExt cx="1238400" cy="762120"/>
          </a:xfrm>
        </p:grpSpPr>
        <p:pic>
          <p:nvPicPr>
            <p:cNvPr id="94" name="Oval 57" descr=""/>
            <p:cNvPicPr/>
            <p:nvPr/>
          </p:nvPicPr>
          <p:blipFill>
            <a:blip r:embed="rId13"/>
            <a:stretch/>
          </p:blipFill>
          <p:spPr>
            <a:xfrm>
              <a:off x="-231840" y="1322280"/>
              <a:ext cx="123840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55600" y="1393920"/>
              <a:ext cx="611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600" spc="-1" strike="noStrike">
                  <a:solidFill>
                    <a:srgbClr val="ffffff"/>
                  </a:solidFill>
                  <a:latin typeface="Calibri"/>
                </a:rPr>
                <a:t>M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Oval 58"/>
          <p:cNvGrpSpPr/>
          <p:nvPr/>
        </p:nvGrpSpPr>
        <p:grpSpPr>
          <a:xfrm>
            <a:off x="-231840" y="1847880"/>
            <a:ext cx="1238400" cy="762120"/>
            <a:chOff x="-231840" y="1847880"/>
            <a:chExt cx="1238400" cy="762120"/>
          </a:xfrm>
        </p:grpSpPr>
        <p:pic>
          <p:nvPicPr>
            <p:cNvPr id="97" name="Oval 58" descr=""/>
            <p:cNvPicPr/>
            <p:nvPr/>
          </p:nvPicPr>
          <p:blipFill>
            <a:blip r:embed="rId14"/>
            <a:stretch/>
          </p:blipFill>
          <p:spPr>
            <a:xfrm>
              <a:off x="-231840" y="1847880"/>
              <a:ext cx="123840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255600" y="1917720"/>
              <a:ext cx="61128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600" spc="-1" strike="noStrike">
                  <a:solidFill>
                    <a:srgbClr val="ffffff"/>
                  </a:solidFill>
                  <a:latin typeface="Calibri"/>
                </a:rPr>
                <a:t>MED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Oval 59"/>
          <p:cNvGrpSpPr/>
          <p:nvPr/>
        </p:nvGrpSpPr>
        <p:grpSpPr>
          <a:xfrm>
            <a:off x="-158760" y="2382840"/>
            <a:ext cx="1165320" cy="701640"/>
            <a:chOff x="-158760" y="2382840"/>
            <a:chExt cx="1165320" cy="701640"/>
          </a:xfrm>
        </p:grpSpPr>
        <p:pic>
          <p:nvPicPr>
            <p:cNvPr id="100" name="Oval 59" descr=""/>
            <p:cNvPicPr/>
            <p:nvPr/>
          </p:nvPicPr>
          <p:blipFill>
            <a:blip r:embed="rId15"/>
            <a:stretch/>
          </p:blipFill>
          <p:spPr>
            <a:xfrm>
              <a:off x="-158760" y="2382840"/>
              <a:ext cx="116532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316080" y="2452680"/>
              <a:ext cx="56016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000" spc="-1" strike="noStrike">
                  <a:solidFill>
                    <a:srgbClr val="ffffff"/>
                  </a:solidFill>
                  <a:latin typeface="Calibri"/>
                </a:rPr>
                <a:t>FICAS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Oval 60"/>
          <p:cNvGrpSpPr/>
          <p:nvPr/>
        </p:nvGrpSpPr>
        <p:grpSpPr>
          <a:xfrm>
            <a:off x="-195120" y="4352760"/>
            <a:ext cx="1274760" cy="1273320"/>
            <a:chOff x="-195120" y="4352760"/>
            <a:chExt cx="1274760" cy="1273320"/>
          </a:xfrm>
        </p:grpSpPr>
        <p:pic>
          <p:nvPicPr>
            <p:cNvPr id="103" name="Oval 60" descr=""/>
            <p:cNvPicPr/>
            <p:nvPr/>
          </p:nvPicPr>
          <p:blipFill>
            <a:blip r:embed="rId16"/>
            <a:stretch/>
          </p:blipFill>
          <p:spPr>
            <a:xfrm>
              <a:off x="-195120" y="4352760"/>
              <a:ext cx="1274760" cy="12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97000" y="4502160"/>
              <a:ext cx="6364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000" spc="-1" strike="noStrike">
                  <a:solidFill>
                    <a:srgbClr val="ffffff"/>
                  </a:solidFill>
                  <a:latin typeface="Calibri"/>
                </a:rPr>
                <a:t>Ad ho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000" spc="-1" strike="noStrike">
                  <a:solidFill>
                    <a:srgbClr val="ffffff"/>
                  </a:solidFill>
                  <a:latin typeface="Calibri"/>
                </a:rPr>
                <a:t>MAHO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000" spc="-1" strike="noStrike">
                  <a:solidFill>
                    <a:srgbClr val="ffffff"/>
                  </a:solidFill>
                  <a:latin typeface="Calibri"/>
                </a:rPr>
                <a:t>MAI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Chaveta à esquerda 49"/>
          <p:cNvGrpSpPr/>
          <p:nvPr/>
        </p:nvGrpSpPr>
        <p:grpSpPr>
          <a:xfrm>
            <a:off x="1073160" y="1311120"/>
            <a:ext cx="262080" cy="4364280"/>
            <a:chOff x="1073160" y="1311120"/>
            <a:chExt cx="262080" cy="4364280"/>
          </a:xfrm>
        </p:grpSpPr>
        <p:pic>
          <p:nvPicPr>
            <p:cNvPr id="106" name="Chaveta à esquerda 49" descr=""/>
            <p:cNvPicPr/>
            <p:nvPr/>
          </p:nvPicPr>
          <p:blipFill>
            <a:blip r:embed="rId17"/>
            <a:stretch/>
          </p:blipFill>
          <p:spPr>
            <a:xfrm>
              <a:off x="1073160" y="1311120"/>
              <a:ext cx="262080" cy="436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1225440" y="1344600"/>
              <a:ext cx="47880" cy="42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" name="Oval 63"/>
          <p:cNvGrpSpPr/>
          <p:nvPr/>
        </p:nvGrpSpPr>
        <p:grpSpPr>
          <a:xfrm>
            <a:off x="-231840" y="2846520"/>
            <a:ext cx="1238400" cy="830160"/>
            <a:chOff x="-231840" y="2846520"/>
            <a:chExt cx="1238400" cy="830160"/>
          </a:xfrm>
        </p:grpSpPr>
        <p:pic>
          <p:nvPicPr>
            <p:cNvPr id="109" name="Oval 63" descr=""/>
            <p:cNvPicPr/>
            <p:nvPr/>
          </p:nvPicPr>
          <p:blipFill>
            <a:blip r:embed="rId18"/>
            <a:stretch/>
          </p:blipFill>
          <p:spPr>
            <a:xfrm>
              <a:off x="-231840" y="2846520"/>
              <a:ext cx="123840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255600" y="2951280"/>
              <a:ext cx="611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200" spc="-1" strike="noStrike">
                  <a:solidFill>
                    <a:srgbClr val="ffffff"/>
                  </a:solidFill>
                  <a:latin typeface="Calibri"/>
                </a:rPr>
                <a:t>Coop. Lu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Oval 34"/>
          <p:cNvGrpSpPr/>
          <p:nvPr/>
        </p:nvGrpSpPr>
        <p:grpSpPr>
          <a:xfrm>
            <a:off x="-304920" y="3371760"/>
            <a:ext cx="1451160" cy="951120"/>
            <a:chOff x="-304920" y="3371760"/>
            <a:chExt cx="1451160" cy="951120"/>
          </a:xfrm>
        </p:grpSpPr>
        <p:pic>
          <p:nvPicPr>
            <p:cNvPr id="112" name="Oval 34" descr=""/>
            <p:cNvPicPr/>
            <p:nvPr/>
          </p:nvPicPr>
          <p:blipFill>
            <a:blip r:embed="rId19"/>
            <a:stretch/>
          </p:blipFill>
          <p:spPr>
            <a:xfrm>
              <a:off x="-304920" y="3371760"/>
              <a:ext cx="145116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214200" y="3470400"/>
              <a:ext cx="76068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000" spc="-1" strike="noStrike">
                  <a:solidFill>
                    <a:srgbClr val="000000"/>
                  </a:solidFill>
                  <a:latin typeface="Calibri"/>
                </a:rPr>
                <a:t>Programa Conjunto NU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900" spc="-1" strike="noStrike">
                <a:solidFill>
                  <a:srgbClr val="000000"/>
                </a:solidFill>
                <a:latin typeface="Arial"/>
                <a:ea typeface="Arial"/>
              </a:rPr>
              <a:t>ACTIVITÉS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 VIH-SI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95360" y="1599840"/>
            <a:ext cx="92152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  <a:ea typeface="Arial"/>
              </a:rPr>
              <a:t>Implementation du projet “Santé reproductve et lutte contre VIH / SIDA”, en permettant aux jeunes d’avoir accèes à l’information adequa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  <a:ea typeface="Arial"/>
              </a:rPr>
              <a:t>Formation, au niveau national, des professeurs d’enseignement  sécondaire sur  “Éducation  en matière de la population et pour la vie familiale”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500" spc="-1" strike="noStrike">
                <a:solidFill>
                  <a:srgbClr val="000000"/>
                </a:solidFill>
                <a:latin typeface="Arial"/>
                <a:ea typeface="Arial"/>
              </a:rPr>
              <a:t>ACTIVITÉ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  <a:ea typeface="Arial"/>
              </a:rPr>
              <a:t>Production des materiaux d’appui aux activités dans les salles de class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  <a:ea typeface="Arial"/>
              </a:rPr>
              <a:t>Implémentation de l’EIO (Espace Information et Orientation) dans 16 écoles  sécondaires du pays. Ceci a eu un impact extraordinaire car il a contribué significativement à l’amélioration de l’environement scolai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400" y="333000"/>
            <a:ext cx="89154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000000"/>
                </a:solidFill>
                <a:latin typeface="Arial"/>
                <a:ea typeface="Arial"/>
              </a:rPr>
              <a:t>ACTIVITÉS AU NIVEAU DU CURRICULU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Arial"/>
                <a:ea typeface="Arial"/>
              </a:rPr>
              <a:t>Intégration des contenus sur prevention de HIV et Education sexuelle dans la discipline de Formation Personnelle et Sociale. Selon plusieurs études, cet iniciative a eu un grand impact au niveau du changement des comportements des jeunes qui ont pu acquérir des connaissances scientifiques, notamment des thematiques HIV/SIDA, entre autr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08160" y="188640"/>
            <a:ext cx="80899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2060"/>
                </a:solidFill>
                <a:latin typeface="Arial"/>
                <a:ea typeface="Arial"/>
              </a:rPr>
              <a:t>QUELQUES DONÉ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36520" y="764640"/>
            <a:ext cx="8345520" cy="63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85960" indent="-2286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  <a:ea typeface="Arial"/>
              </a:rPr>
              <a:t>a malnutrition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aiguë globale est passée de 6% en 1994 à 2,6%, en 2009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t la malnutrition chronique de 16% en 1994 à 9,7%, en 2009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100% primaires et pré-scolaire est déparasité annuell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  <a:ea typeface="Arial"/>
              </a:rPr>
              <a:t>Taux de prévalence VIHSIDA actuel de 0,8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Marcador de Posição do Número do Diapositivo 4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1902-35CA-4432-B4B4-46A3B1FB1A1D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1" lang="en-US" sz="3000" spc="-1" strike="noStrike">
                <a:solidFill>
                  <a:srgbClr val="002060"/>
                </a:solidFill>
                <a:latin typeface="Arial"/>
                <a:ea typeface="Arial"/>
              </a:rPr>
              <a:t>RESULTATS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Taux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et  et Brut de scolarisation 95,4% et 111,6%, respective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Taux d’abandon scolaire dans l’éducation de base 1,6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Taux de transition primaire/secondaire: 88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Taux de succès: 88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p Vert a déjà atteint l’Objectif Millénaire au niveau de l’éducation de ba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Marcador de Posição do Número do Diapositivo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947D-C2B3-44F8-BE7E-AC4E5AEB886C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33336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000000"/>
                </a:solidFill>
                <a:latin typeface="Calibri"/>
              </a:rPr>
              <a:t>CONSELHO NACIONAL DE SAÚDE </a:t>
            </a:r>
            <a:br>
              <a:rPr sz="3000"/>
            </a:br>
            <a:r>
              <a:rPr b="1" lang="pt-PT" sz="3000" spc="-1" strike="noStrike">
                <a:solidFill>
                  <a:srgbClr val="000000"/>
                </a:solidFill>
                <a:latin typeface="Calibri"/>
              </a:rPr>
              <a:t>E ALIMENTAÇÃO ESCOLAR (CONSA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Marcador de Posição do Número do Diapositivo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3777-6557-468A-96A0-B3B6FF3E8B74}" type="slidenum">
              <a:rPr b="0" lang="pt-PT" sz="1200" spc="-1" strike="noStrike">
                <a:solidFill>
                  <a:srgbClr val="073e8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2"/>
          <p:cNvSpPr/>
          <p:nvPr/>
        </p:nvSpPr>
        <p:spPr>
          <a:xfrm>
            <a:off x="272880" y="2205000"/>
            <a:ext cx="49928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565200" indent="-2206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Calibri"/>
                <a:ea typeface="Arial"/>
              </a:rPr>
              <a:t>Conselho Nacional de Saúde e Alimentação Escolar (CONSEA)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65200" indent="-2206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65200" indent="-2206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Calibri"/>
                <a:ea typeface="Arial"/>
              </a:rPr>
              <a:t>Comités Técnicos (CT)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1027080" indent="-2286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Calibri"/>
                <a:ea typeface="Arial"/>
              </a:rPr>
              <a:t>Comités Técnicos de  Saúde e Alimentação Escolar (CT-SAE)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102708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1027080" indent="-2286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Calibri"/>
                <a:ea typeface="Arial"/>
              </a:rPr>
              <a:t>Conselho Local de Saúde e Alimentação Escolar (CCSAE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7292880" y="2276640"/>
            <a:ext cx="2368800" cy="1153800"/>
          </a:xfrm>
          <a:prstGeom prst="rect">
            <a:avLst/>
          </a:prstGeom>
          <a:solidFill>
            <a:srgbClr val="ffb4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Conselho Nacional de Saúde e Alimentação Escolar (CONSAE</a:t>
            </a:r>
            <a:r>
              <a:rPr b="1" lang="pt-PT" sz="11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7870680" y="4005360"/>
            <a:ext cx="1795680" cy="115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Comiés Técnicos de Saúde e Alimentação Escolar (CT-SA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5343480" y="3484440"/>
            <a:ext cx="2111400" cy="936720"/>
          </a:xfrm>
          <a:prstGeom prst="rect">
            <a:avLst/>
          </a:prstGeom>
          <a:solidFill>
            <a:srgbClr val="ffc4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Secretáriado Executivo do CONSA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7866000" y="5518080"/>
            <a:ext cx="1795680" cy="1006560"/>
          </a:xfrm>
          <a:prstGeom prst="rect">
            <a:avLst/>
          </a:prstGeom>
          <a:solidFill>
            <a:srgbClr val="ffff8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Conselho Local de Saúde e Alimentação Escolar (CLOSA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16"/>
          <p:cNvSpPr/>
          <p:nvPr/>
        </p:nvSpPr>
        <p:spPr>
          <a:xfrm>
            <a:off x="7450200" y="4365720"/>
            <a:ext cx="2262240" cy="1871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17"/>
          <p:cNvSpPr/>
          <p:nvPr/>
        </p:nvSpPr>
        <p:spPr>
          <a:xfrm rot="10800000">
            <a:off x="7448040" y="4471920"/>
            <a:ext cx="3128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OMISSÃO TÉCNI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Line 18"/>
          <p:cNvSpPr/>
          <p:nvPr/>
        </p:nvSpPr>
        <p:spPr>
          <a:xfrm>
            <a:off x="8599320" y="3429000"/>
            <a:ext cx="6480" cy="57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Line 19"/>
          <p:cNvSpPr/>
          <p:nvPr/>
        </p:nvSpPr>
        <p:spPr>
          <a:xfrm>
            <a:off x="8775720" y="5157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ine 21"/>
          <p:cNvSpPr/>
          <p:nvPr/>
        </p:nvSpPr>
        <p:spPr>
          <a:xfrm>
            <a:off x="7454880" y="3789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Boa Vista_3700.JPG"/>
          <p:cNvPicPr/>
          <p:nvPr/>
        </p:nvPicPr>
        <p:blipFill>
          <a:blip r:embed="rId1"/>
          <a:stretch/>
        </p:blipFill>
        <p:spPr>
          <a:xfrm>
            <a:off x="7292880" y="620640"/>
            <a:ext cx="2260800" cy="3141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Boa Vista_3716.JPG"/>
          <p:cNvPicPr/>
          <p:nvPr/>
        </p:nvPicPr>
        <p:blipFill>
          <a:blip r:embed="rId2"/>
          <a:stretch/>
        </p:blipFill>
        <p:spPr>
          <a:xfrm>
            <a:off x="6278400" y="2997360"/>
            <a:ext cx="3272040" cy="2004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Santa maria - pesca.jpg"/>
          <p:cNvPicPr/>
          <p:nvPr/>
        </p:nvPicPr>
        <p:blipFill>
          <a:blip r:embed="rId3"/>
          <a:stretch/>
        </p:blipFill>
        <p:spPr>
          <a:xfrm>
            <a:off x="428760" y="2563920"/>
            <a:ext cx="3041640" cy="1866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santa-maria.jpg"/>
          <p:cNvPicPr/>
          <p:nvPr/>
        </p:nvPicPr>
        <p:blipFill>
          <a:blip r:embed="rId4"/>
          <a:stretch/>
        </p:blipFill>
        <p:spPr>
          <a:xfrm>
            <a:off x="3470400" y="1341360"/>
            <a:ext cx="3724200" cy="1943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Surf Tarrafal_8857.JPG"/>
          <p:cNvPicPr/>
          <p:nvPr/>
        </p:nvPicPr>
        <p:blipFill>
          <a:blip r:embed="rId5"/>
          <a:stretch/>
        </p:blipFill>
        <p:spPr>
          <a:xfrm>
            <a:off x="6746760" y="4827600"/>
            <a:ext cx="2651400" cy="1625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Boa Vista_3668.JPG"/>
          <p:cNvPicPr/>
          <p:nvPr/>
        </p:nvPicPr>
        <p:blipFill>
          <a:blip r:embed="rId6"/>
          <a:srcRect l="0" t="10185" r="0" b="-1695"/>
          <a:stretch/>
        </p:blipFill>
        <p:spPr>
          <a:xfrm>
            <a:off x="3236760" y="3211560"/>
            <a:ext cx="3432240" cy="1925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Volei tarrafal 2.jpg"/>
          <p:cNvPicPr/>
          <p:nvPr/>
        </p:nvPicPr>
        <p:blipFill>
          <a:blip r:embed="rId7"/>
          <a:stretch/>
        </p:blipFill>
        <p:spPr>
          <a:xfrm>
            <a:off x="428760" y="620640"/>
            <a:ext cx="2963880" cy="1819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Vulcao.tif"/>
          <p:cNvPicPr/>
          <p:nvPr/>
        </p:nvPicPr>
        <p:blipFill>
          <a:blip r:embed="rId8"/>
          <a:stretch/>
        </p:blipFill>
        <p:spPr>
          <a:xfrm>
            <a:off x="428760" y="4508640"/>
            <a:ext cx="3270240" cy="1939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Cidade velha.jpg"/>
          <p:cNvPicPr/>
          <p:nvPr/>
        </p:nvPicPr>
        <p:blipFill>
          <a:blip r:embed="rId9"/>
          <a:srcRect l="0" t="12220" r="0" b="-61"/>
          <a:stretch/>
        </p:blipFill>
        <p:spPr>
          <a:xfrm>
            <a:off x="3782880" y="4898880"/>
            <a:ext cx="2886120" cy="1555920"/>
          </a:xfrm>
          <a:prstGeom prst="rect">
            <a:avLst/>
          </a:prstGeom>
          <a:ln w="0">
            <a:noFill/>
          </a:ln>
        </p:spPr>
      </p:pic>
      <p:sp>
        <p:nvSpPr>
          <p:cNvPr id="147" name="CaixaDeTexto 13"/>
          <p:cNvSpPr/>
          <p:nvPr/>
        </p:nvSpPr>
        <p:spPr>
          <a:xfrm>
            <a:off x="1130400" y="404640"/>
            <a:ext cx="804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CAP VERT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Marcador de Posição do Número do Diapositivo 2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93E2-2689-4E8F-B9BB-4D7742936305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6T21:13:24Z</dcterms:created>
  <dc:creator>MKK</dc:creator>
  <dc:description/>
  <dc:language>en-US</dc:language>
  <cp:lastModifiedBy>UtilizadorMD</cp:lastModifiedBy>
  <dcterms:modified xsi:type="dcterms:W3CDTF">2013-10-14T16:02:07Z</dcterms:modified>
  <cp:revision>240</cp:revision>
  <dc:subject/>
  <dc:title>Escola Promotora da Saúde - EPS</dc:title>
</cp:coreProperties>
</file>