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commentAuthors.xml><?xml version="1.0" encoding="utf-8"?>
<p:cmAuthorLst xmlns:p="http://schemas.openxmlformats.org/presentationml/2006/main">
  <p:cmAuthor id="0" name="pcd03" initials="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Relationship Id="rId14" Type="http://schemas.openxmlformats.org/officeDocument/2006/relationships/commentAuthors" Target="commentAuthors.xml"/>
</Relationships>
</file>

<file path=ppt/comments/comment3.xml><?xml version="1.0" encoding="utf-8"?>
<p:cmLst xmlns:p="http://schemas.openxmlformats.org/presentationml/2006/main">
  <p:cm authorId="0" dt="2009-06-12T14:57:16.305000000" idx="1">
    <p:pos x="10" y="10"/>
    <p:text>I really want to measure real learning on the course, and so need to ask some questions on technical content immediately before and after the course. Do you have any idea on what these content questions would look lik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move the slide</a:t>
            </a:r>
            <a:endParaRPr b="0" lang="en-US" sz="4400" spc="-1" strike="noStrike">
              <a:solidFill>
                <a:srgbClr val="0046ad"/>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715C-941E-4784-8410-0943AE8CF9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8181-B209-4EE6-A353-3A98D753A86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AB4E2-75E0-40BD-BAA4-28E4D87E6EB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76C0-15BD-4CC6-BF37-A1CABBDB0E6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EEF9-09F5-4ED7-BBE7-2B3DBBEA633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316E-3B3A-440D-85D1-A4464205B6B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0C98-239C-4C9B-93FE-1DC78C224CD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D1AD-DDEB-4ED1-A3D4-D3CD0FF3321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1C951-DB60-4EE4-9D63-1BB518701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7"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8"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8DE00-3E6D-49C0-97BA-82DC2778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0"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1"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2"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3"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CE16A-E926-4269-AE06-27520075B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5"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6"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7"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8"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9"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0"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C6452-CA90-4AAB-95CC-3DD23435B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49"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1"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3"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4"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8"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9"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0"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63A4-AB62-49C5-82D5-2F1BFC0A8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2"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3"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4"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6"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7"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8"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0"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1"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5"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6"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8"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9"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0"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1"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2"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3"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8"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CF0C-9DD2-4A78-849D-6B6D99CE2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0"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1"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3D9B-7203-4D30-B455-81FE4704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14F0-AB97-4965-B011-CD96FBA6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9535-046E-4CCF-9DB8-4E74B172C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5"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6"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7"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50DED-DC6D-4C5F-91E7-C9187C673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9"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0"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1"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E9F4B-F661-435A-A64B-ED7F3FBF8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5"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8DA6-3E1E-47E0-8162-7244C4BA8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1"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D0DF-06C5-4A6A-8CA8-5D71F8E372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4714920" y="6072120"/>
            <a:ext cx="2055600" cy="533520"/>
          </a:xfrm>
          <a:prstGeom prst="rect">
            <a:avLst/>
          </a:prstGeom>
          <a:ln w="0">
            <a:noFill/>
          </a:ln>
        </p:spPr>
      </p:pic>
      <p:graphicFrame>
        <p:nvGraphicFramePr>
          <p:cNvPr id="42" name="Object 2"/>
          <p:cNvGraphicFramePr/>
          <p:nvPr/>
        </p:nvGraphicFramePr>
        <p:xfrm>
          <a:off x="7286760" y="5931000"/>
          <a:ext cx="1582560" cy="784080"/>
        </p:xfrm>
        <a:graphic>
          <a:graphicData uri="http://schemas.openxmlformats.org/presentationml/2006/ole">
            <p:oleObj r:id="rId3" spid="">
              <p:embed/>
              <p:pic>
                <p:nvPicPr>
                  <p:cNvPr id="43" name="Object 2" descr=""/>
                  <p:cNvPicPr/>
                  <p:nvPr/>
                </p:nvPicPr>
                <p:blipFill>
                  <a:blip r:embed="rId4"/>
                  <a:stretch/>
                </p:blipFill>
                <p:spPr>
                  <a:xfrm>
                    <a:off x="7286760" y="5931000"/>
                    <a:ext cx="1582560" cy="784080"/>
                  </a:xfrm>
                  <a:prstGeom prst="rect">
                    <a:avLst/>
                  </a:prstGeom>
                  <a:ln w="0">
                    <a:noFill/>
                  </a:ln>
                </p:spPr>
              </p:pic>
            </p:oleObj>
          </a:graphicData>
        </a:graphic>
      </p:graphicFrame>
      <p:pic>
        <p:nvPicPr>
          <p:cNvPr id="44" name="Picture 1" descr=""/>
          <p:cNvPicPr/>
          <p:nvPr/>
        </p:nvPicPr>
        <p:blipFill>
          <a:blip r:embed="rId5"/>
          <a:srcRect l="7423" t="0" r="5155" b="0"/>
          <a:stretch/>
        </p:blipFill>
        <p:spPr>
          <a:xfrm>
            <a:off x="2643120" y="5905440"/>
            <a:ext cx="785880" cy="873360"/>
          </a:xfrm>
          <a:prstGeom prst="rect">
            <a:avLst/>
          </a:prstGeom>
          <a:ln w="0">
            <a:noFill/>
          </a:ln>
        </p:spPr>
      </p:pic>
      <p:pic>
        <p:nvPicPr>
          <p:cNvPr id="45" name="Picture 8" descr="esa584"/>
          <p:cNvPicPr/>
          <p:nvPr/>
        </p:nvPicPr>
        <p:blipFill>
          <a:blip r:embed="rId6"/>
          <a:stretch/>
        </p:blipFill>
        <p:spPr>
          <a:xfrm>
            <a:off x="500040" y="5786280"/>
            <a:ext cx="1008000" cy="95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47"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571680"/>
            <a:ext cx="7705800" cy="2592360"/>
          </a:xfrm>
          <a:prstGeom prst="rect">
            <a:avLst/>
          </a:prstGeom>
          <a:noFill/>
          <a:ln w="0">
            <a:noFill/>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46ad"/>
                </a:solidFill>
                <a:latin typeface="Arial"/>
              </a:rPr>
              <a:t>Renforcement des Programmes de Santé et Nutrition Scolaires et de Prévention du VIH</a:t>
            </a:r>
            <a:br>
              <a:rPr sz="4000"/>
            </a:br>
            <a:br>
              <a:rPr sz="4000"/>
            </a:br>
            <a:r>
              <a:rPr b="0" lang="fr-FR" sz="4000" spc="-1" strike="noStrike" u="sng">
                <a:solidFill>
                  <a:srgbClr val="0046ad"/>
                </a:solidFill>
                <a:uFillTx/>
                <a:latin typeface="Arial"/>
              </a:rPr>
              <a:t>Analyse de la Situation Actuelle</a:t>
            </a:r>
            <a:endParaRPr b="0" lang="en-US" sz="4000" spc="-1" strike="noStrike">
              <a:solidFill>
                <a:srgbClr val="000000"/>
              </a:solidFill>
              <a:latin typeface="Arial"/>
            </a:endParaRPr>
          </a:p>
        </p:txBody>
      </p:sp>
      <p:sp>
        <p:nvSpPr>
          <p:cNvPr id="92" name="Rectangle 3"/>
          <p:cNvSpPr/>
          <p:nvPr/>
        </p:nvSpPr>
        <p:spPr>
          <a:xfrm>
            <a:off x="1371600" y="3886200"/>
            <a:ext cx="2192400" cy="695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6ad"/>
                </a:solidFill>
                <a:latin typeface="Arial"/>
              </a:rPr>
              <a:t>Pays:</a:t>
            </a:r>
            <a:endParaRPr b="0" lang="en-US" sz="3200" spc="-1" strike="noStrike">
              <a:solidFill>
                <a:srgbClr val="000000"/>
              </a:solidFill>
              <a:latin typeface="Arial"/>
            </a:endParaRPr>
          </a:p>
        </p:txBody>
      </p:sp>
      <p:sp>
        <p:nvSpPr>
          <p:cNvPr id="93" name="Text Box 5"/>
          <p:cNvSpPr/>
          <p:nvPr/>
        </p:nvSpPr>
        <p:spPr>
          <a:xfrm>
            <a:off x="3780000" y="3933720"/>
            <a:ext cx="464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NIGER</a:t>
            </a:r>
            <a:endParaRPr b="0" lang="en-US" sz="3200" spc="-1" strike="noStrike">
              <a:solidFill>
                <a:srgbClr val="000000"/>
              </a:solidFill>
              <a:latin typeface="Arial"/>
            </a:endParaRPr>
          </a:p>
        </p:txBody>
      </p:sp>
      <p:sp>
        <p:nvSpPr>
          <p:cNvPr id="94" name="Text Box 8"/>
          <p:cNvSpPr/>
          <p:nvPr/>
        </p:nvSpPr>
        <p:spPr>
          <a:xfrm>
            <a:off x="2124000" y="4643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a:t>
            </a:r>
            <a:endParaRPr b="0" lang="en-US" sz="1800" spc="-1" strike="noStrike">
              <a:solidFill>
                <a:srgbClr val="000000"/>
              </a:solidFill>
              <a:latin typeface="Arial"/>
            </a:endParaRPr>
          </a:p>
        </p:txBody>
      </p:sp>
      <p:sp>
        <p:nvSpPr>
          <p:cNvPr id="95" name="Text Box 9"/>
          <p:cNvSpPr/>
          <p:nvPr/>
        </p:nvSpPr>
        <p:spPr>
          <a:xfrm>
            <a:off x="3851280" y="4643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MME COULIBALY  RAHILA  AMADOU</a:t>
            </a:r>
            <a:endParaRPr b="0" lang="en-US" sz="1800" spc="-1" strike="noStrike">
              <a:solidFill>
                <a:srgbClr val="000000"/>
              </a:solidFill>
              <a:latin typeface="Arial"/>
            </a:endParaRPr>
          </a:p>
        </p:txBody>
      </p:sp>
      <p:pic>
        <p:nvPicPr>
          <p:cNvPr id="96" name="Picture 8" descr=""/>
          <p:cNvPicPr/>
          <p:nvPr/>
        </p:nvPicPr>
        <p:blipFill>
          <a:blip r:embed="rId1"/>
          <a:stretch/>
        </p:blipFill>
        <p:spPr>
          <a:xfrm>
            <a:off x="3924360" y="5664240"/>
            <a:ext cx="2050920" cy="612720"/>
          </a:xfrm>
          <a:prstGeom prst="rect">
            <a:avLst/>
          </a:prstGeom>
          <a:ln w="0">
            <a:noFill/>
          </a:ln>
        </p:spPr>
      </p:pic>
      <p:pic>
        <p:nvPicPr>
          <p:cNvPr id="97" name="Picture 9" descr=""/>
          <p:cNvPicPr/>
          <p:nvPr/>
        </p:nvPicPr>
        <p:blipFill>
          <a:blip r:embed="rId2"/>
          <a:srcRect l="12906" t="12515" r="9697" b="0"/>
          <a:stretch/>
        </p:blipFill>
        <p:spPr>
          <a:xfrm>
            <a:off x="554040" y="5516640"/>
            <a:ext cx="900000" cy="936720"/>
          </a:xfrm>
          <a:prstGeom prst="rect">
            <a:avLst/>
          </a:prstGeom>
          <a:ln w="0">
            <a:noFill/>
          </a:ln>
        </p:spPr>
      </p:pic>
      <p:pic>
        <p:nvPicPr>
          <p:cNvPr id="98" name="Picture 10" descr="C:\users\aïda diop\documents\disque\ised2\documents ised\logo ised ucad mspm\Logo ISED.jpg"/>
          <p:cNvPicPr/>
          <p:nvPr/>
        </p:nvPicPr>
        <p:blipFill>
          <a:blip r:embed="rId3"/>
          <a:stretch/>
        </p:blipFill>
        <p:spPr>
          <a:xfrm>
            <a:off x="2087640" y="5516640"/>
            <a:ext cx="900000" cy="792000"/>
          </a:xfrm>
          <a:prstGeom prst="rect">
            <a:avLst/>
          </a:prstGeom>
          <a:ln w="0">
            <a:noFill/>
          </a:ln>
        </p:spPr>
      </p:pic>
      <p:pic>
        <p:nvPicPr>
          <p:cNvPr id="99" name="Picture 12" descr=""/>
          <p:cNvPicPr/>
          <p:nvPr/>
        </p:nvPicPr>
        <p:blipFill>
          <a:blip r:embed="rId4"/>
          <a:stretch/>
        </p:blipFill>
        <p:spPr>
          <a:xfrm>
            <a:off x="6804000" y="5510160"/>
            <a:ext cx="1521000" cy="86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blinds(horizontal)" transition="in">
                                      <p:cBhvr additive="repl">
                                        <p:cTn id="12" dur="500"/>
                                        <p:tgtEl>
                                          <p:spTgt spid="9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
                                        </p:tgtEl>
                                        <p:attrNameLst>
                                          <p:attrName>style.visibility</p:attrName>
                                        </p:attrNameLst>
                                      </p:cBhvr>
                                      <p:to>
                                        <p:strVal val="visible"/>
                                      </p:to>
                                    </p:set>
                                    <p:animEffect filter="blinds(horizontal)"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709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1. Situation du Pays</a:t>
            </a:r>
            <a:endParaRPr b="0" lang="en-US" sz="4400" spc="-1" strike="noStrike">
              <a:solidFill>
                <a:srgbClr val="0046ad"/>
              </a:solidFill>
              <a:latin typeface="Arial"/>
            </a:endParaRPr>
          </a:p>
        </p:txBody>
      </p:sp>
      <p:graphicFrame>
        <p:nvGraphicFramePr>
          <p:cNvPr id="101" name=""/>
          <p:cNvGraphicFramePr/>
          <p:nvPr/>
        </p:nvGraphicFramePr>
        <p:xfrm>
          <a:off x="179280" y="765000"/>
          <a:ext cx="8785440" cy="6586560"/>
        </p:xfrm>
        <a:graphic>
          <a:graphicData uri="http://schemas.openxmlformats.org/drawingml/2006/table">
            <a:tbl>
              <a:tblPr/>
              <a:tblGrid>
                <a:gridCol w="1144800"/>
                <a:gridCol w="2070000"/>
                <a:gridCol w="1427040"/>
                <a:gridCol w="1428840"/>
                <a:gridCol w="2714760"/>
              </a:tblGrid>
              <a:tr h="533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Secteur</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Objectif International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Indicateur</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Valeur (Année)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Comic Sans MS"/>
                        </a:rPr>
                        <a:t>Commentaires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1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Education</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2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D’ici à 2015, donner à tous les enfants, garçons et  filles, partout dans le monde, les moyens d’achever un cycle complet d’études primaire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Taux net de scolarisation dans le primair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rPr>
                        <a:t>65.7</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rPr>
                        <a:t>(20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 </a:t>
                      </a:r>
                      <a:r>
                        <a:rPr b="0" lang="fr-FR" sz="900" spc="-1" strike="noStrike">
                          <a:solidFill>
                            <a:srgbClr val="0070c0"/>
                          </a:solidFill>
                          <a:latin typeface="Arial"/>
                        </a:rPr>
                        <a:t>Le taux net de scolarisation a connu une progression soutenue entre 1992 du fait selon toute évidence de la nouvelle loi d’orientation du système éducatif nigérien à partir de 1998 ( LOSEN) et du PDDE à partir de 2003. Une progression de 10% est possible avant l’échéance 2015.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27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Egalité des sexe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3</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Éliminer les disparités entre les sexes dans les enseignements primaire et secondaire d’ici à 2005 si possible et à tous les niveaux de l’enseignement</a:t>
                      </a:r>
                      <a:br>
                        <a:rPr sz="900"/>
                      </a:br>
                      <a:r>
                        <a:rPr b="0" lang="fr-FR" sz="900" spc="-1" strike="noStrike">
                          <a:solidFill>
                            <a:srgbClr val="0070c0"/>
                          </a:solidFill>
                          <a:latin typeface="Arial"/>
                        </a:rPr>
                        <a:t>en 2015 au plus tard</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Rapport ﬁlles/ garçons dans l’enseignement primair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rPr>
                        <a:t>0,8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rPr>
                        <a:t>(20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Le problème de recrutement des filles est plus accentué dans les zones rurales et dans les régions comme Maradi, Diffa et Tahoua. L’abandon scolaire participe également au déséquilibre genre à l’école. Toutefois, on observe une amélioration entre 2012 et 2013 où le taux de parité passe de 0.85 à 0.98.</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0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Nutrition</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Réduire de moitié, entre 1990 et 2015, la proportion de la population dont le revenu est inférieur à un dollar par jour</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Prévalence d’enfants de moins de 5 ans présentant une insuﬃsance pondéral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rPr>
                        <a:t>38,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rPr>
                        <a:t>(20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L’EDSN 2012 montre que 36% des enfants de moins de 5 ans souffrent d’insuffisance pondérale. La tendance de cet indicateur stagne autour de 40% et pourrait difficilement évoluer d’ici  2015 du fait de l’insécurité alimentaire résiduelle, des sécheresses mais aussi de l’éducation des mères.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82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7575d1"/>
                          </a:solidFill>
                          <a:latin typeface="Arial"/>
                        </a:rPr>
                        <a:t>VIH</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7575d1"/>
                          </a:solidFill>
                          <a:latin typeface="Arial"/>
                        </a:rPr>
                        <a:t>OMD 6</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575d1"/>
                          </a:solidFill>
                          <a:latin typeface="Arial"/>
                        </a:rPr>
                        <a:t>D’ici à 2015, avoir stoppé la propagation du VIH/sida et commencé à inverser la tendance actuell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575d1"/>
                          </a:solidFill>
                          <a:latin typeface="Arial"/>
                        </a:rPr>
                        <a:t>Taux de prévalence du VIH parmi les personnes âgées de 15-49 an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7575d1"/>
                          </a:solidFill>
                          <a:latin typeface="Arial"/>
                        </a:rPr>
                        <a:t>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7575d1"/>
                          </a:solidFill>
                          <a:latin typeface="Arial"/>
                        </a:rPr>
                        <a:t>(2006)</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575d1"/>
                          </a:solidFill>
                          <a:latin typeface="Arial"/>
                        </a:rPr>
                        <a:t>L’EDSN 2012 montre une nette réduction de la prévalence du VIH qui passe de 0.7% à 0.4% en 2012. L’environnement nigérien est  fortement conservateur, le condom est disponible sur le marché en dépit de la faible connaissance du sida das la population générale (14.5% chez les femmes et 28.9% chez les hommes)</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Assainissement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OMD 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Réduire de moitié, d’ici à 2015, le pourcentage de la population qui n’a pas accès de façon durable à un approvisionnement en eau de boisson salubre</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Proportion de la population ayant accès à un système d’assainissement amélioré (zones urbaines et rurales) </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10</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70c0"/>
                          </a:solidFill>
                          <a:latin typeface="Arial"/>
                        </a:rPr>
                        <a:t>(2011)</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70c0"/>
                          </a:solidFill>
                          <a:latin typeface="Arial"/>
                        </a:rPr>
                        <a:t>Léger recul observé entre 2011 et 2012 avec un point de pourcentage de mois. La proportion des ménages urbain disposant  de système amélioré est plus importante en milieu urbain (42% ) contre 3% en milieu rural. A moins d’un effort colossal pour comprendre et inverser les facteurs socio comportementaux , il sera difficile d’atteindre cet objectif d’ici 2015.</a:t>
                      </a:r>
                      <a:endParaRPr b="0" lang="en-US" sz="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2" name="Rectangle 5"/>
          <p:cNvSpPr/>
          <p:nvPr/>
        </p:nvSpPr>
        <p:spPr>
          <a:xfrm>
            <a:off x="9828360" y="2205000"/>
            <a:ext cx="1857240" cy="17859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entez brièvement s’il vous plait sur la situation, réalisation de l’objectif ou tendances sur les années</a:t>
            </a:r>
            <a:endParaRPr b="0" lang="en-US" sz="1400" spc="-1" strike="noStrike">
              <a:solidFill>
                <a:srgbClr val="000000"/>
              </a:solidFill>
              <a:latin typeface="Arial"/>
            </a:endParaRPr>
          </a:p>
        </p:txBody>
      </p:sp>
      <p:sp>
        <p:nvSpPr>
          <p:cNvPr id="103" name="Rectangle 6"/>
          <p:cNvSpPr/>
          <p:nvPr/>
        </p:nvSpPr>
        <p:spPr>
          <a:xfrm>
            <a:off x="9756720" y="260280"/>
            <a:ext cx="1071720" cy="17859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Utiliser les données figurant sur les fiches pays rem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Collecte de Données de Base </a:t>
            </a:r>
            <a:endParaRPr b="0" lang="en-US" sz="4400" spc="-1" strike="noStrike">
              <a:solidFill>
                <a:srgbClr val="0046ad"/>
              </a:solidFill>
              <a:latin typeface="Arial"/>
            </a:endParaRPr>
          </a:p>
        </p:txBody>
      </p:sp>
      <p:graphicFrame>
        <p:nvGraphicFramePr>
          <p:cNvPr id="105" name=""/>
          <p:cNvGraphicFramePr/>
          <p:nvPr/>
        </p:nvGraphicFramePr>
        <p:xfrm>
          <a:off x="142920" y="714240"/>
          <a:ext cx="8858160" cy="5623200"/>
        </p:xfrm>
        <a:graphic>
          <a:graphicData uri="http://schemas.openxmlformats.org/drawingml/2006/table">
            <a:tbl>
              <a:tblPr/>
              <a:tblGrid>
                <a:gridCol w="7813800"/>
                <a:gridCol w="502920"/>
                <a:gridCol w="541440"/>
              </a:tblGrid>
              <a:tr h="320040">
                <a:tc>
                  <a:txBody>
                    <a:bodyPr lIns="61200" rIns="61200" tIns="0" bIns="0" anchor="t">
                      <a:noAutofit/>
                    </a:bodyPr>
                    <a:p>
                      <a:pPr marL="343080" indent="-343080">
                        <a:lnSpc>
                          <a:spcPct val="150000"/>
                        </a:lnSpc>
                        <a:buClr>
                          <a:srgbClr val="365f91"/>
                        </a:buClr>
                        <a:buFont typeface="Arial"/>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z-vous actuellement:</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a SNS dans le secteur de l’éducation ?</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e VIH dans le secteur de l’éducation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SN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OUI</a:t>
                      </a:r>
                      <a:r>
                        <a:rPr b="0" lang="fr-FR" sz="1400" spc="-1" strike="noStrike">
                          <a:solidFill>
                            <a:srgbClr val="365f91"/>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pour assurer que les écoles ont un environnement sain adapté aux enfant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 Curriculum scolaire national sur la santé?</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 et/ou VIH du ME:  </a:t>
                      </a:r>
                      <a:endParaRPr b="0" lang="en-US" sz="14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Met en oeuvre la réponse stratégique  qui fait partie du plan de travail national du secteur de l’éducation?</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no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 un budge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nSpc>
                          <a:spcPct val="150000"/>
                        </a:lnSpc>
                        <a:buClr>
                          <a:srgbClr val="365f91"/>
                        </a:buClr>
                        <a:buFont typeface="Arial"/>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VIH est dans le ME:  </a:t>
                      </a:r>
                      <a:endParaRPr b="0" lang="en-US" sz="14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c un personnel qui consacre au moins 50%  aux activité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Guidée par une politique nationale SNS et </a:t>
                      </a:r>
                      <a:r>
                        <a:rPr b="1" lang="fr-FR" sz="1400" spc="-1" strike="noStrike">
                          <a:solidFill>
                            <a:srgbClr val="ff0000"/>
                          </a:solidFill>
                          <a:latin typeface="Arial"/>
                          <a:ea typeface="Times New Roman"/>
                        </a:rPr>
                        <a:t>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Situation Programme SNS </a:t>
            </a:r>
            <a:endParaRPr b="0" lang="en-US" sz="4400" spc="-1" strike="noStrike">
              <a:solidFill>
                <a:srgbClr val="0046ad"/>
              </a:solidFill>
              <a:latin typeface="Arial"/>
            </a:endParaRPr>
          </a:p>
        </p:txBody>
      </p:sp>
      <p:graphicFrame>
        <p:nvGraphicFramePr>
          <p:cNvPr id="107" name=""/>
          <p:cNvGraphicFramePr/>
          <p:nvPr/>
        </p:nvGraphicFramePr>
        <p:xfrm>
          <a:off x="214200" y="1484280"/>
          <a:ext cx="8715600" cy="5111640"/>
        </p:xfrm>
        <a:graphic>
          <a:graphicData uri="http://schemas.openxmlformats.org/drawingml/2006/table">
            <a:tbl>
              <a:tblPr/>
              <a:tblGrid>
                <a:gridCol w="2816280"/>
                <a:gridCol w="2100240"/>
                <a:gridCol w="2156040"/>
                <a:gridCol w="1643040"/>
              </a:tblGrid>
              <a:tr h="825840">
                <a:tc gridSpan="4">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Comic Sans MS"/>
                        </a:rPr>
                        <a:t>Composante FRESH I: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70c0"/>
                          </a:solidFill>
                          <a:latin typeface="Comic Sans MS"/>
                        </a:rPr>
                        <a:t>Politiques sanitaires en milieu scolair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9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tivités Actuellement Mises en Oeuvre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Accomplissements Principa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Défis Principaux</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rPr>
                        <a:t>Partenaires clé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5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Elaboration d’une stratégie nationale de santé scol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Reunification autour de cette stratégie des quatre Ministères en charge de l’éduca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lvl="1" marL="842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le renforcement du cadre institutionnel et aboutir à l’élaboration d’une politique nationale  de santé scol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SP</a:t>
                      </a:r>
                      <a:endParaRPr b="0" lang="en-US" sz="1000" spc="-1" strike="noStrike">
                        <a:solidFill>
                          <a:srgbClr val="000000"/>
                        </a:solidFill>
                        <a:latin typeface="Arial"/>
                      </a:endParaRPr>
                    </a:p>
                    <a:p>
                      <a:pPr marL="343080" indent="-343080" algn="ctr">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EN</a:t>
                      </a:r>
                      <a:endParaRPr b="0" lang="en-US" sz="1000" spc="-1" strike="noStrike">
                        <a:solidFill>
                          <a:srgbClr val="000000"/>
                        </a:solidFill>
                        <a:latin typeface="Arial"/>
                      </a:endParaRPr>
                    </a:p>
                    <a:p>
                      <a:pPr marL="343080" indent="-343080" algn="ctr">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ES</a:t>
                      </a:r>
                      <a:endParaRPr b="0" lang="en-US" sz="1000" spc="-1" strike="noStrike">
                        <a:solidFill>
                          <a:srgbClr val="000000"/>
                        </a:solidFill>
                        <a:latin typeface="Arial"/>
                      </a:endParaRPr>
                    </a:p>
                    <a:p>
                      <a:pPr marL="343080" indent="-343080" algn="ctr">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ES/R</a:t>
                      </a:r>
                      <a:endParaRPr b="0" lang="en-US" sz="1000" spc="-1" strike="noStrike">
                        <a:solidFill>
                          <a:srgbClr val="000000"/>
                        </a:solidFill>
                        <a:latin typeface="Arial"/>
                      </a:endParaRPr>
                    </a:p>
                    <a:p>
                      <a:pPr marL="343080" indent="-343080" algn="ctr">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PP/T</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310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Adoption de la campagne de communication “Aventures de foula” en milieu scol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Dialogue intergénération/maitres-élèv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Regression des grossesses non désirées en milieu scolaire; des avortements clandestins et des mariages précoces et prévention des IST/VIH/sida</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Financements pour le passage à l’échelle de la stratégie CC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Intégration de thématiques telles que la SR Hygien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Traitement de l’eau</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PPF/PE</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E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SP</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ONG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6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 </a:t>
                      </a:r>
                      <a:r>
                        <a:rPr b="1" lang="fr-FR" sz="1000" spc="-1" strike="noStrike">
                          <a:solidFill>
                            <a:srgbClr val="0046ad"/>
                          </a:solidFill>
                          <a:latin typeface="Arial"/>
                          <a:ea typeface="Times New Roman"/>
                        </a:rPr>
                        <a:t>Renforcement des compétences en planification et gestion des actions d'hygiène et santé en milieu scolai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Formation de 500  directeurs d’école sur la stratégie et planification des actions d'hygiène et santé en milieu scolai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46ad"/>
                          </a:solidFill>
                          <a:latin typeface="Arial"/>
                          <a:ea typeface="Times New Roman"/>
                        </a:rPr>
                        <a:t>dans 4 régions de la zone d’intervention du FAD à savoir : Maradi, Tahoua, Tillabéri et Zinde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Décentraliser les actions de santé scolaire pour couvrir le maximum d’établissement y compris pour le milieu rural</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Projet FAD</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PADEB</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6ad"/>
                          </a:solidFill>
                          <a:latin typeface="Arial"/>
                          <a:ea typeface="Times New Roman"/>
                        </a:rPr>
                        <a:t>MSP//DHE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09" name=""/>
          <p:cNvGraphicFramePr/>
          <p:nvPr/>
        </p:nvGraphicFramePr>
        <p:xfrm>
          <a:off x="214200" y="1484280"/>
          <a:ext cx="8715600" cy="5076720"/>
        </p:xfrm>
        <a:graphic>
          <a:graphicData uri="http://schemas.openxmlformats.org/drawingml/2006/table">
            <a:tbl>
              <a:tblPr/>
              <a:tblGrid>
                <a:gridCol w="2735280"/>
                <a:gridCol w="2019240"/>
                <a:gridCol w="2318040"/>
                <a:gridCol w="1643040"/>
              </a:tblGrid>
              <a:tr h="865080">
                <a:tc gridSpan="4">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46ad"/>
                          </a:solidFill>
                          <a:latin typeface="Comic Sans MS"/>
                        </a:rPr>
                        <a:t>Composante FRESH II: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omic Sans MS"/>
                        </a:rPr>
                        <a:t>Environnement scolaire sain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ea typeface="Times New Roman"/>
                        </a:rPr>
                        <a:t>Activités Actuellement Mises en Oeuvre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ea typeface="Times New Roman"/>
                        </a:rPr>
                        <a:t>Accomplissements Principal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ea typeface="Times New Roman"/>
                        </a:rPr>
                        <a:t>Défis Principaux</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Arial"/>
                        </a:rPr>
                        <a:t>Partenaires clé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6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Education Relative à l’Eau, l’Assainissement et l’Hygiène Basée sur les Valeurs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7 écoles, 7 305  élèves (4 117 filles et 3 188 garçons), 178 maîtres/enseignants, 3 communautés  à Niamey(Saga, Kombo),et la commune de Dosso</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Accès élargi à l’eau et aux systèmes améliorés d’assainiss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Développer des programmes permettant de sauvegarder la qualité de l’ea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MSP,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SPEN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SEEN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ABN </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UN-Habitat</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ONGS de marketing d’aquatab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935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Arial"/>
                        </a:rPr>
                        <a:t>Education Relative à l’Hygièn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Mise à disposition des écoles de la brochure : 10  questions clés pour l’hygièn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Formation de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Enseignant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Acquisition et reproduction de 5.000 exemplaires de l’affiche sur le lavage des main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8568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Rendre à moindres coûts l’environnement scolaire sain même en zone rurale ( construction de latrines, accès à l’eau potable)</a:t>
                      </a:r>
                      <a:endParaRPr b="0" lang="en-US" sz="1100" spc="-1" strike="noStrike">
                        <a:solidFill>
                          <a:srgbClr val="000000"/>
                        </a:solidFill>
                        <a:latin typeface="Arial"/>
                      </a:endParaRPr>
                    </a:p>
                    <a:p>
                      <a:pPr marL="8568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68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Implication des communautés de base dans l’éducation à l’hygiène </a:t>
                      </a:r>
                      <a:endParaRPr b="0" lang="en-US" sz="1100" spc="-1" strike="noStrike">
                        <a:solidFill>
                          <a:srgbClr val="000000"/>
                        </a:solidFill>
                        <a:latin typeface="Arial"/>
                      </a:endParaRPr>
                    </a:p>
                    <a:p>
                      <a:pPr marL="8568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568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JICA</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70c0"/>
                          </a:solidFill>
                          <a:latin typeface="Arial"/>
                        </a:rPr>
                        <a:t>Unicef</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11" name=""/>
          <p:cNvGraphicFramePr/>
          <p:nvPr/>
        </p:nvGraphicFramePr>
        <p:xfrm>
          <a:off x="142920" y="1484280"/>
          <a:ext cx="8786880" cy="4859280"/>
        </p:xfrm>
        <a:graphic>
          <a:graphicData uri="http://schemas.openxmlformats.org/drawingml/2006/table">
            <a:tbl>
              <a:tblPr/>
              <a:tblGrid>
                <a:gridCol w="3093840"/>
                <a:gridCol w="1700280"/>
                <a:gridCol w="2336760"/>
                <a:gridCol w="1656000"/>
              </a:tblGrid>
              <a:tr h="1008000">
                <a:tc gridSpan="4">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46ad"/>
                          </a:solidFill>
                          <a:latin typeface="Comic Sans MS"/>
                        </a:rPr>
                        <a:t>Composante FRESH III: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omic Sans MS"/>
                        </a:rPr>
                        <a:t>Éducation sanitaire basée sur l’acquisition de savoir-fair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46ad"/>
                          </a:solidFill>
                          <a:latin typeface="Arial"/>
                          <a:ea typeface="Times New Roman"/>
                        </a:rPr>
                        <a:t>Activités Actuellement Mises en Oeuvre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46ad"/>
                          </a:solidFill>
                          <a:latin typeface="Arial"/>
                          <a:ea typeface="Times New Roman"/>
                        </a:rPr>
                        <a:t>Accomplissements Principal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46ad"/>
                          </a:solidFill>
                          <a:latin typeface="Arial"/>
                          <a:ea typeface="Times New Roman"/>
                        </a:rPr>
                        <a:t>Défis Principaux</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46ad"/>
                          </a:solidFill>
                          <a:latin typeface="Arial"/>
                        </a:rPr>
                        <a:t>Partenaires clé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0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Causeries-débats dans les écoles  sur diverses thématiques : sida, hygiene ,grossesse non désiré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romotion du dialogue parents-enfants- enfants-enseignant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85680" indent="1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Harmonisation du module compétences de vie Expertise avérée des acteurs dans les processus de Changement de comportement;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ANIMAS-S</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RODEM</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FONDS MONDIAL</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2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Diffusions de sketchs et de spots sur les media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Implication des parents et de la communauté , sensibilisations sur divers aspec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Recul du tabou</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Valeurs socioculturelles,</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Interprétation des textes religieux</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Accès aux médias télévisés pose problème au Niger surtout en zone rural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KFW</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BM</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Formation des enseignants sur  la prévention du sida ,des IST; du choléra,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Module de formation des enseignant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Début d’intégration du sida dans les curricula de  formatio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Dispersion des efforts</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Arrivée sur le marché de nouveaux enseignants non formés dans un contexte de ressources limité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KFW</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BM</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rPr>
                        <a:t>ONGs</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2. Programme situation cont.</a:t>
            </a:r>
            <a:endParaRPr b="0" lang="en-US" sz="4400" spc="-1" strike="noStrike">
              <a:solidFill>
                <a:srgbClr val="0046ad"/>
              </a:solidFill>
              <a:latin typeface="Arial"/>
            </a:endParaRPr>
          </a:p>
        </p:txBody>
      </p:sp>
      <p:graphicFrame>
        <p:nvGraphicFramePr>
          <p:cNvPr id="113" name=""/>
          <p:cNvGraphicFramePr/>
          <p:nvPr/>
        </p:nvGraphicFramePr>
        <p:xfrm>
          <a:off x="214200" y="1484280"/>
          <a:ext cx="8674200" cy="5146560"/>
        </p:xfrm>
        <a:graphic>
          <a:graphicData uri="http://schemas.openxmlformats.org/drawingml/2006/table">
            <a:tbl>
              <a:tblPr/>
              <a:tblGrid>
                <a:gridCol w="3054600"/>
                <a:gridCol w="1677960"/>
                <a:gridCol w="2152440"/>
                <a:gridCol w="1789200"/>
              </a:tblGrid>
              <a:tr h="649080">
                <a:tc gridSpan="4">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46ad"/>
                          </a:solidFill>
                          <a:latin typeface="Comic Sans MS"/>
                        </a:rPr>
                        <a:t>Composante FRESH IV: </a:t>
                      </a:r>
                      <a:endParaRPr b="0" lang="en-US" sz="11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Comic Sans MS"/>
                        </a:rPr>
                        <a:t>Services de santé et de nutrition en milieu scolaire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46ad"/>
                          </a:solidFill>
                          <a:latin typeface="Arial"/>
                          <a:ea typeface="Times New Roman"/>
                        </a:rPr>
                        <a:t>Activités Actuellement Mises en Oeuvre  </a:t>
                      </a:r>
                      <a:endParaRPr b="0"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46ad"/>
                          </a:solidFill>
                          <a:latin typeface="Arial"/>
                          <a:ea typeface="Times New Roman"/>
                        </a:rPr>
                        <a:t>Accomplissements Principales</a:t>
                      </a:r>
                      <a:endParaRPr b="0"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46ad"/>
                          </a:solidFill>
                          <a:latin typeface="Arial"/>
                          <a:ea typeface="Times New Roman"/>
                        </a:rPr>
                        <a:t>Défis Principaux</a:t>
                      </a:r>
                      <a:endParaRPr b="0"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46ad"/>
                          </a:solidFill>
                          <a:latin typeface="Arial"/>
                        </a:rPr>
                        <a:t>Partenaires clés</a:t>
                      </a:r>
                      <a:endParaRPr b="0" lang="en-US" sz="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838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Prise en charge dans les zones nomades de cantines  scolair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890 écol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141 348 rationnair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Amélioration de la fréquentation et du redement scolai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85680" indent="1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Mobilité des communautés pastoral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PA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Traitement de masse des élèves contre les MTN(bilharziose , vers intestinaux, filariose lymphatique, onchocercose et cécité)</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La plupart des écoles </a:t>
                      </a:r>
                      <a:endParaRPr b="0" lang="en-US" sz="9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formation de 40 encadreurs pédagogiques sur le guide méthodologique sur l’enseignement du tracho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Programme vertical couteux</a:t>
                      </a: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Elargissement de l’éducation sanitaire spécifique aux MTN dans les zones endémiques</a:t>
                      </a: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Et promouvoir le recours aux services de santé</a:t>
                      </a: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Faible couverture sanitaire nationa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MSP</a:t>
                      </a: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HK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Dotation  des écoles en boîtes à pharmaci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167 écoles du cycle de base1 des régions d’Agadez, Diffa, Dosso et la CU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Formation de 167 directeurs d’écoles en gestion des boites à .pharmacie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Renouvellement des stocks de médicaments par les COG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FAD</a:t>
                      </a: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UNICE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46ad"/>
                          </a:solidFill>
                          <a:latin typeface="Arial"/>
                        </a:rPr>
                        <a:t>Education pour la santé</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Reproduction de 5.000 exemplaires de l’affiche sur les catégories d’aliment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Formation de 395 enseignants sur les IST/VIH/SR dans 6 régions du pay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Conceptions alimentaires défavorables</a:t>
                      </a:r>
                      <a:endParaRPr b="0" lang="en-US" sz="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Financements et ressources matérielles régulières pour soutenir l’activité</a:t>
                      </a:r>
                      <a:endParaRPr b="0" lang="en-US" sz="9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JOCV/JICA</a:t>
                      </a: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6ad"/>
                          </a:solidFill>
                          <a:latin typeface="Arial"/>
                        </a:rPr>
                        <a:t>BM/PROD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6ad"/>
                </a:solidFill>
                <a:latin typeface="Arial"/>
              </a:rPr>
              <a:t>Conclusion</a:t>
            </a:r>
            <a:endParaRPr b="0" lang="en-US" sz="4400" spc="-1" strike="noStrike">
              <a:solidFill>
                <a:srgbClr val="0046ad"/>
              </a:solidFill>
              <a:latin typeface="Arial"/>
            </a:endParaRPr>
          </a:p>
        </p:txBody>
      </p:sp>
      <p:sp>
        <p:nvSpPr>
          <p:cNvPr id="115" name="PlaceHolder 2"/>
          <p:cNvSpPr>
            <a:spLocks noGrp="1"/>
          </p:cNvSpPr>
          <p:nvPr>
            <p:ph/>
          </p:nvPr>
        </p:nvSpPr>
        <p:spPr>
          <a:xfrm>
            <a:off x="468000" y="1599840"/>
            <a:ext cx="8389800" cy="4205160"/>
          </a:xfrm>
          <a:prstGeom prst="rect">
            <a:avLst/>
          </a:prstGeom>
          <a:noFill/>
          <a:ln w="0">
            <a:noFill/>
          </a:ln>
        </p:spPr>
        <p:txBody>
          <a:bodyPr anchor="t">
            <a:normAutofit/>
          </a:bodyPr>
          <a:p>
            <a:pPr lvl="1"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	</a:t>
            </a:r>
            <a:r>
              <a:rPr b="0" lang="fr-FR" sz="1800" spc="-1" strike="noStrike">
                <a:solidFill>
                  <a:srgbClr val="ff0000"/>
                </a:solidFill>
                <a:latin typeface="Arial"/>
              </a:rPr>
              <a:t>Beaucoup de progrès enregistrés en matière de lutte contre les IST/VIH/SIDA mais aussi, des efforts colossaux à accomplir sur les questions de nutrition, assainissement et éducation de la jeune fille</a:t>
            </a:r>
            <a:endParaRPr b="0" lang="en-US" sz="1800" spc="-1" strike="noStrike">
              <a:solidFill>
                <a:srgbClr val="0046ad"/>
              </a:solidFill>
              <a:latin typeface="Arial"/>
            </a:endParaRPr>
          </a:p>
          <a:p>
            <a:pPr lvl="1"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6ad"/>
              </a:solidFill>
              <a:latin typeface="Arial"/>
            </a:endParaRPr>
          </a:p>
          <a:p>
            <a:pPr lvl="1"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	</a:t>
            </a:r>
            <a:r>
              <a:rPr b="0" lang="fr-FR" sz="1800" spc="-1" strike="noStrike">
                <a:solidFill>
                  <a:srgbClr val="ff0000"/>
                </a:solidFill>
                <a:latin typeface="Arial"/>
              </a:rPr>
              <a:t>La SNS est une préoccupation majeure pour le pays mais elle ne dispose pas du soutien qu’il faut pour la déployer en tant que politique nationale élargie à l’ensemble des établissements scolaires. </a:t>
            </a:r>
            <a:r>
              <a:rPr b="1" lang="fr-FR" sz="1800" spc="-1" strike="noStrike">
                <a:solidFill>
                  <a:srgbClr val="ff0000"/>
                </a:solidFill>
                <a:latin typeface="Arial"/>
              </a:rPr>
              <a:t>Plus de ressources provenant de l’Etat, plus d’orientation et une coordination des actions pourront donner de résultats meilleurs.</a:t>
            </a:r>
            <a:endParaRPr b="0" lang="en-US" sz="1800" spc="-1" strike="noStrike">
              <a:solidFill>
                <a:srgbClr val="0046ad"/>
              </a:solidFill>
              <a:latin typeface="Arial"/>
            </a:endParaRPr>
          </a:p>
          <a:p>
            <a:pPr lvl="1"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	</a:t>
            </a:r>
            <a:endParaRPr b="0" lang="en-US" sz="1800" spc="-1" strike="noStrike">
              <a:solidFill>
                <a:srgbClr val="0046ad"/>
              </a:solidFill>
              <a:latin typeface="Arial"/>
            </a:endParaRPr>
          </a:p>
          <a:p>
            <a:pPr lvl="1"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	</a:t>
            </a:r>
            <a:r>
              <a:rPr b="0" lang="fr-FR" sz="1800" spc="-1" strike="noStrike">
                <a:solidFill>
                  <a:srgbClr val="ff0000"/>
                </a:solidFill>
                <a:latin typeface="Arial"/>
              </a:rPr>
              <a:t>Besoins: Approfondir l’analyse de situation pour  dégager les évidences afin de conduire des plaidoyers en direction de l’Etat et de ses partenaires.</a:t>
            </a:r>
            <a:endParaRPr b="0" lang="en-US" sz="18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Charlotte Broyd</cp:lastModifiedBy>
  <dcterms:modified xsi:type="dcterms:W3CDTF">2013-10-17T12:54:18Z</dcterms:modified>
  <cp:revision>141</cp:revision>
  <dc:subject/>
  <dc:title>Current Situation analysis</dc:title>
</cp:coreProperties>
</file>