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931680" y="741240"/>
            <a:ext cx="4933800" cy="3702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92BC-EAF4-4167-8D9F-3E2158FE58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32040" y="741240"/>
            <a:ext cx="4933800" cy="3702240"/>
          </a:xfrm>
          <a:prstGeom prst="rect">
            <a:avLst/>
          </a:prstGeom>
          <a:ln w="0">
            <a:noFill/>
          </a:ln>
        </p:spPr>
      </p:sp>
      <p:sp>
        <p:nvSpPr>
          <p:cNvPr id="16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A274-D6F7-424F-9151-53B535BB3E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32040" y="741240"/>
            <a:ext cx="4933800" cy="3702240"/>
          </a:xfrm>
          <a:prstGeom prst="rect">
            <a:avLst/>
          </a:prstGeom>
          <a:ln w="0">
            <a:noFill/>
          </a:ln>
        </p:spPr>
      </p:sp>
      <p:sp>
        <p:nvSpPr>
          <p:cNvPr id="16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8B77-DD6E-4DB1-B4E5-A30E1BF8F1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4D12-A159-4065-823D-CD8FE68F0A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32040" y="741240"/>
            <a:ext cx="4933800" cy="3702240"/>
          </a:xfrm>
          <a:prstGeom prst="rect">
            <a:avLst/>
          </a:prstGeom>
          <a:ln w="0">
            <a:noFill/>
          </a:ln>
        </p:spPr>
      </p:sp>
      <p:sp>
        <p:nvSpPr>
          <p:cNvPr id="13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32040" y="741240"/>
            <a:ext cx="4933800" cy="3702240"/>
          </a:xfrm>
          <a:prstGeom prst="rect">
            <a:avLst/>
          </a:prstGeom>
          <a:ln w="0">
            <a:noFill/>
          </a:ln>
        </p:spPr>
      </p:sp>
      <p:sp>
        <p:nvSpPr>
          <p:cNvPr id="13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7EBF-182A-43AD-8EBE-DE50A69AC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2040" y="741240"/>
            <a:ext cx="4933800" cy="3702240"/>
          </a:xfrm>
          <a:prstGeom prst="rect">
            <a:avLst/>
          </a:prstGeom>
          <a:ln w="0">
            <a:noFill/>
          </a:ln>
        </p:spPr>
      </p:sp>
      <p:sp>
        <p:nvSpPr>
          <p:cNvPr id="14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1159-9C3F-4A6C-9A5A-1C6A8BE498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380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4708A-4740-41B6-B6B7-817911882B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32040" y="741240"/>
            <a:ext cx="4933800" cy="3702240"/>
          </a:xfrm>
          <a:prstGeom prst="rect">
            <a:avLst/>
          </a:prstGeom>
          <a:ln w="0">
            <a:noFill/>
          </a:ln>
        </p:spPr>
      </p:sp>
      <p:sp>
        <p:nvSpPr>
          <p:cNvPr id="14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D6A1-0D10-4084-B45A-77F18ACE2D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3800" cy="3702240"/>
          </a:xfrm>
          <a:prstGeom prst="rect">
            <a:avLst/>
          </a:prstGeom>
          <a:ln w="0">
            <a:noFill/>
          </a:ln>
        </p:spPr>
      </p:sp>
      <p:sp>
        <p:nvSpPr>
          <p:cNvPr id="15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1E70-87D4-48E2-99DF-680F6B8669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32040" y="741240"/>
            <a:ext cx="4933800" cy="3702240"/>
          </a:xfrm>
          <a:prstGeom prst="rect">
            <a:avLst/>
          </a:prstGeom>
          <a:ln w="0">
            <a:noFill/>
          </a:ln>
        </p:spPr>
      </p:sp>
      <p:sp>
        <p:nvSpPr>
          <p:cNvPr id="15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62F9-89FC-4B75-AF27-1A9C23C19F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32040" y="741240"/>
            <a:ext cx="4933800" cy="3702240"/>
          </a:xfrm>
          <a:prstGeom prst="rect">
            <a:avLst/>
          </a:prstGeom>
          <a:ln w="0">
            <a:noFill/>
          </a:ln>
        </p:spPr>
      </p:sp>
      <p:sp>
        <p:nvSpPr>
          <p:cNvPr id="15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2ED3-2020-47CA-B085-C80DF00D9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05A62-B1B6-46E6-A09A-E5B21D126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3306-E63B-4589-A582-704F6EAC2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2E4E1-FEE1-4F43-82FB-A3441EC48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8F20E-932C-4C05-82C0-A63F55A38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9855-A345-42BA-8189-5F42A8788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D29CB-ACAF-4579-ACB9-47E347665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2B666-7CF3-40AC-AE7D-A01271790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0BB6-9B34-46F9-B6E5-14971DCB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1B50D-B382-45FE-B232-AAF8F3D78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E4327-6306-4A0D-B4AD-D8C394AD3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C13D-9D4E-4E6E-9343-ECE21A9D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70EF-4C04-4B78-B75A-9FEE4D174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4E91-370E-48E1-B44A-3B9C7F6DEB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ickinfoado.sn/"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Arial"/>
              </a:rPr>
              <a:t>Renforcement des Programmes de Santé et Nutrition Scolaires et de Prévention du VIH</a:t>
            </a:r>
            <a:br>
              <a:rPr sz="4000"/>
            </a:br>
            <a:br>
              <a:rPr sz="4000"/>
            </a:br>
            <a:r>
              <a:rPr b="0" lang="fr-FR" sz="4000" spc="-1" strike="noStrike" u="sng">
                <a:solidFill>
                  <a:srgbClr val="0046ad"/>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971640" y="3933720"/>
            <a:ext cx="2849400" cy="69552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00"/>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6ad"/>
                </a:solidFill>
                <a:latin typeface="Arial"/>
              </a:rPr>
              <a:t>Présentation</a:t>
            </a:r>
            <a:endParaRPr b="0" lang="en-US" sz="2800" spc="-1" strike="noStrike">
              <a:solidFill>
                <a:srgbClr val="000000"/>
              </a:solidFill>
              <a:latin typeface="Arial"/>
            </a:endParaRPr>
          </a:p>
        </p:txBody>
      </p:sp>
      <p:sp>
        <p:nvSpPr>
          <p:cNvPr id="93" name="Text Box 5"/>
          <p:cNvSpPr/>
          <p:nvPr/>
        </p:nvSpPr>
        <p:spPr>
          <a:xfrm>
            <a:off x="3780000" y="3933720"/>
            <a:ext cx="464976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6ad"/>
                </a:solidFill>
                <a:latin typeface="Arial"/>
              </a:rPr>
              <a:t>Sénégal</a:t>
            </a:r>
            <a:endParaRPr b="0" lang="en-US" sz="2800" spc="-1" strike="noStrike">
              <a:solidFill>
                <a:srgbClr val="000000"/>
              </a:solidFill>
              <a:latin typeface="Arial"/>
            </a:endParaRPr>
          </a:p>
        </p:txBody>
      </p:sp>
      <p:sp>
        <p:nvSpPr>
          <p:cNvPr id="94" name="Text Box 8"/>
          <p:cNvSpPr/>
          <p:nvPr/>
        </p:nvSpPr>
        <p:spPr>
          <a:xfrm>
            <a:off x="1547640" y="4653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2124000" y="465300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 </a:t>
            </a:r>
            <a:r>
              <a:rPr b="0" lang="en-GB" sz="1800" spc="-1" strike="noStrike">
                <a:solidFill>
                  <a:srgbClr val="333399"/>
                </a:solidFill>
                <a:latin typeface="Arial"/>
              </a:rPr>
              <a:t>Fatou Sabelle DIOP</a:t>
            </a:r>
            <a:endParaRPr b="0" lang="en-US" sz="18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Conclusion (1)</a:t>
            </a:r>
            <a:endParaRPr b="0" lang="en-US" sz="4400" spc="-1" strike="noStrike">
              <a:solidFill>
                <a:srgbClr val="0046ad"/>
              </a:solidFill>
              <a:latin typeface="Arial"/>
            </a:endParaRPr>
          </a:p>
        </p:txBody>
      </p:sp>
      <p:sp>
        <p:nvSpPr>
          <p:cNvPr id="129" name="PlaceHolder 2"/>
          <p:cNvSpPr>
            <a:spLocks noGrp="1"/>
          </p:cNvSpPr>
          <p:nvPr>
            <p:ph/>
          </p:nvPr>
        </p:nvSpPr>
        <p:spPr>
          <a:xfrm>
            <a:off x="468000" y="1599840"/>
            <a:ext cx="8389800" cy="4900680"/>
          </a:xfrm>
          <a:prstGeom prst="rect">
            <a:avLst/>
          </a:prstGeom>
          <a:noFill/>
          <a:ln w="0">
            <a:noFill/>
          </a:ln>
        </p:spPr>
        <p:txBody>
          <a:bodyPr anchor="t">
            <a:normAutofit/>
          </a:bodyPr>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opulation scolaire 2 871 504 (22% de la population générale (13 000 000))</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BS: 94,1% (2012)</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Budget Secteur Education = 40% du budget de l’Etat</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ogramme SNS mis en œuvre par la Division Contrôle Médical Scolaire (DCMS)/ME</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laboration de plans stratégiques/opérationnels SNS par la DCMS</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tégration des questions de SNS dans le Curriculum de l’Education de Base (CEB)</a:t>
            </a:r>
            <a:endParaRPr b="0" lang="en-US" sz="2600" spc="-1" strike="noStrike">
              <a:solidFill>
                <a:srgbClr val="0046ad"/>
              </a:solidFill>
              <a:latin typeface="Arial"/>
            </a:endParaRPr>
          </a:p>
          <a:p>
            <a:pPr lvl="1"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Conclusion (2)</a:t>
            </a:r>
            <a:endParaRPr b="0" lang="en-US" sz="4400" spc="-1" strike="noStrike">
              <a:solidFill>
                <a:srgbClr val="0046ad"/>
              </a:solidFill>
              <a:latin typeface="Arial"/>
            </a:endParaRPr>
          </a:p>
        </p:txBody>
      </p:sp>
      <p:sp>
        <p:nvSpPr>
          <p:cNvPr id="131" name="PlaceHolder 2"/>
          <p:cNvSpPr>
            <a:spLocks noGrp="1"/>
          </p:cNvSpPr>
          <p:nvPr>
            <p:ph/>
          </p:nvPr>
        </p:nvSpPr>
        <p:spPr>
          <a:xfrm>
            <a:off x="357120" y="1071360"/>
            <a:ext cx="8390160" cy="5236920"/>
          </a:xfrm>
          <a:prstGeom prst="rect">
            <a:avLst/>
          </a:prstGeom>
          <a:noFill/>
          <a:ln w="0">
            <a:noFill/>
          </a:ln>
        </p:spPr>
        <p:txBody>
          <a:bodyPr anchor="t">
            <a:normAutofit/>
          </a:bodyPr>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Fort engagement des partenaires (PTF, sociaux)</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pproche multisectorielle</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Budget SNS très insuffisant (&lt;1% des besoins réels de la structure)</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Besoin de décentralisation des activités de l’IME au niveau des écoles</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nvisager l’évaluation de l’impact des actions de SNS sur les performances scolaires</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assage à l’échelle des interventions</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cumenter les bonnes pratiques en SNS</a:t>
            </a:r>
            <a:endParaRPr b="0" lang="en-US" sz="2600" spc="-1" strike="noStrike">
              <a:solidFill>
                <a:srgbClr val="0046ad"/>
              </a:solidFill>
              <a:latin typeface="Arial"/>
            </a:endParaRPr>
          </a:p>
          <a:p>
            <a:pPr lvl="1" marL="514440" indent="-5144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artage d’expériences</a:t>
            </a:r>
            <a:endParaRPr b="0" lang="en-US" sz="26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37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Merci</a:t>
            </a:r>
            <a:endParaRPr b="0" lang="en-US" sz="4400" spc="-1" strike="noStrike">
              <a:solidFill>
                <a:srgbClr val="0046ad"/>
              </a:solidFill>
              <a:latin typeface="Arial"/>
            </a:endParaRPr>
          </a:p>
        </p:txBody>
      </p:sp>
      <p:pic>
        <p:nvPicPr>
          <p:cNvPr id="133" name="Picture 2" descr="C:\Users\STANDARD\Desktop\photo_Louga\P8020139.JPG"/>
          <p:cNvPicPr/>
          <p:nvPr/>
        </p:nvPicPr>
        <p:blipFill>
          <a:blip r:embed="rId1"/>
          <a:stretch/>
        </p:blipFill>
        <p:spPr>
          <a:xfrm>
            <a:off x="1476360" y="692280"/>
            <a:ext cx="6912000" cy="4205160"/>
          </a:xfrm>
          <a:prstGeom prst="rect">
            <a:avLst/>
          </a:prstGeom>
          <a:ln w="0">
            <a:noFill/>
          </a:ln>
        </p:spPr>
      </p:pic>
      <p:sp>
        <p:nvSpPr>
          <p:cNvPr id="134" name="ZoneTexte 8"/>
          <p:cNvSpPr/>
          <p:nvPr/>
        </p:nvSpPr>
        <p:spPr>
          <a:xfrm>
            <a:off x="1332000" y="4941720"/>
            <a:ext cx="705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ramond"/>
              </a:rPr>
              <a:t>Situation d’apprentissage du cahier d’activité SNS_étape 3_CRFPE de Louga (juillet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709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1. Situation du Pays</a:t>
            </a:r>
            <a:endParaRPr b="0" lang="en-US" sz="4400" spc="-1" strike="noStrike">
              <a:solidFill>
                <a:srgbClr val="0046ad"/>
              </a:solidFill>
              <a:latin typeface="Arial"/>
            </a:endParaRPr>
          </a:p>
        </p:txBody>
      </p:sp>
      <p:graphicFrame>
        <p:nvGraphicFramePr>
          <p:cNvPr id="101" name=""/>
          <p:cNvGraphicFramePr/>
          <p:nvPr/>
        </p:nvGraphicFramePr>
        <p:xfrm>
          <a:off x="179280" y="836640"/>
          <a:ext cx="8786880" cy="5956200"/>
        </p:xfrm>
        <a:graphic>
          <a:graphicData uri="http://schemas.openxmlformats.org/drawingml/2006/table">
            <a:tbl>
              <a:tblPr/>
              <a:tblGrid>
                <a:gridCol w="1146240"/>
                <a:gridCol w="2068560"/>
                <a:gridCol w="1428840"/>
                <a:gridCol w="1428480"/>
                <a:gridCol w="2714760"/>
              </a:tblGrid>
              <a:tr h="61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Sec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Objectif International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Indica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Valeur (2012)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Comic Sans MS"/>
                        </a:rPr>
                        <a:t>Commentai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duca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donner à tous les enfants, garçons et  filles, partout dans le monde, les moyens d’achever un cycle complet d’études primair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net de scolarisation dans le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Non dispon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Valeur  2011 :78,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Le ministère de l’Education du Sénégal met en œuvre avec l’appui de partenaires des stratégies pour renforcer le Taux Net de Scolarisation : adaptation à la demande des populations; programmes additionnels aux daar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galité des sex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Éliminer les disparités entre les sexes dans les enseignements primaire et secondaire d’ici à 2005 si possible et à tous les niveaux de l’enseignement</a:t>
                      </a:r>
                      <a:br>
                        <a:rPr sz="1000"/>
                      </a:br>
                      <a:r>
                        <a:rPr b="0" lang="fr-FR" sz="1000" spc="-1" strike="noStrike">
                          <a:solidFill>
                            <a:srgbClr val="0070c0"/>
                          </a:solidFill>
                          <a:latin typeface="Arial"/>
                        </a:rPr>
                        <a:t>en 2015 au plus tar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apport ﬁlles/ garçons dans l’enseignement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1,12</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our ¨renforcer la scolarisation des filles des  initiatives ont été développés par ;</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 </a:t>
                      </a:r>
                      <a:r>
                        <a:rPr b="0" lang="fr-FR" sz="1000" spc="-1" strike="noStrike">
                          <a:solidFill>
                            <a:srgbClr val="0070c0"/>
                          </a:solidFill>
                          <a:latin typeface="Arial"/>
                        </a:rPr>
                        <a:t>le Cadre de Coordination des Interventions sur l’Education des filles  (CCIEF)</a:t>
                      </a:r>
                      <a:endParaRPr b="0" lang="en-US" sz="1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 </a:t>
                      </a:r>
                      <a:r>
                        <a:rPr b="0" lang="fr-FR" sz="1000" spc="-1" strike="noStrike">
                          <a:solidFill>
                            <a:srgbClr val="0070c0"/>
                          </a:solidFill>
                          <a:latin typeface="Arial"/>
                        </a:rPr>
                        <a:t>Le projet d’appui à l’éducation des filles (PAEF)</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Nutri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entre 1990 et 2015, la proportion de la population dont le revenu est inférieur à un dollar par jo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évalence d’enfants de moins de 5 ans présentant une insuﬃsance pondéra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17,7</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Les données de l’EDS V comparées à celles de l’EDS IV montrent une augmentation de la prévalence de l’insuffisance pondérale chez les enfants de moins de 5 an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VIH</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avoir stoppé la propagation du VIH/sida et commencé à inverser la tendance actuel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de prévalence du VIH parmi les personnes âgées de 15-49 an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0,7</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L’approche multisectorielle et l’accent mis sur  la prévention sont les gages du maintient de la prévalence basse dans la population généra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2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Assainisse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d’ici à 2015, le pourcentage de la population qui n’a pas accès de façon durable à un approvisionnement en eau de boisson salub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oportion de la population ayant accès à un système d’assainissement amélioré (zones urbaines et rurales)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51,5</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L’assainissement rural  (36%) doit être renforcé par les ONG et l’Eta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3" name=""/>
          <p:cNvGraphicFramePr/>
          <p:nvPr/>
        </p:nvGraphicFramePr>
        <p:xfrm>
          <a:off x="142920" y="714240"/>
          <a:ext cx="8966160" cy="5722920"/>
        </p:xfrm>
        <a:graphic>
          <a:graphicData uri="http://schemas.openxmlformats.org/drawingml/2006/table">
            <a:tbl>
              <a:tblPr/>
              <a:tblGrid>
                <a:gridCol w="7813800"/>
                <a:gridCol w="502920"/>
                <a:gridCol w="649440"/>
              </a:tblGrid>
              <a:tr h="42660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NO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213480">
                <a:tc>
                  <a:txBody>
                    <a:bodyPr lIns="61200" rIns="61200" tIns="0" bIns="0" anchor="t">
                      <a:noAutofit/>
                    </a:bodyPr>
                    <a:p>
                      <a:pPr algn="just">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oe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
        <p:nvSpPr>
          <p:cNvPr id="104" name="Connecteur droit 14"/>
          <p:cNvSpPr/>
          <p:nvPr/>
        </p:nvSpPr>
        <p:spPr>
          <a:xfrm flipV="1">
            <a:off x="8532720" y="1268280"/>
            <a:ext cx="432000" cy="1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Connecteur droit 15"/>
          <p:cNvSpPr/>
          <p:nvPr/>
        </p:nvSpPr>
        <p:spPr>
          <a:xfrm flipV="1">
            <a:off x="8532720" y="1557000"/>
            <a:ext cx="432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necteur droit 16"/>
          <p:cNvSpPr/>
          <p:nvPr/>
        </p:nvSpPr>
        <p:spPr>
          <a:xfrm flipV="1">
            <a:off x="8532720" y="1915920"/>
            <a:ext cx="43200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Connecteur droit 17"/>
          <p:cNvSpPr/>
          <p:nvPr/>
        </p:nvSpPr>
        <p:spPr>
          <a:xfrm flipV="1">
            <a:off x="8532720" y="2565000"/>
            <a:ext cx="432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Connecteur droit 18"/>
          <p:cNvSpPr/>
          <p:nvPr/>
        </p:nvSpPr>
        <p:spPr>
          <a:xfrm flipV="1">
            <a:off x="8532720" y="3213000"/>
            <a:ext cx="432000" cy="1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Connecteur droit 19"/>
          <p:cNvSpPr/>
          <p:nvPr/>
        </p:nvSpPr>
        <p:spPr>
          <a:xfrm flipV="1">
            <a:off x="8532720" y="3860640"/>
            <a:ext cx="432000" cy="1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Connecteur droit 20"/>
          <p:cNvSpPr/>
          <p:nvPr/>
        </p:nvSpPr>
        <p:spPr>
          <a:xfrm flipV="1">
            <a:off x="8459640" y="2276280"/>
            <a:ext cx="43344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Connecteur droit 21"/>
          <p:cNvSpPr/>
          <p:nvPr/>
        </p:nvSpPr>
        <p:spPr>
          <a:xfrm flipV="1">
            <a:off x="8532720" y="4868640"/>
            <a:ext cx="43200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nnecteur droit 22"/>
          <p:cNvSpPr/>
          <p:nvPr/>
        </p:nvSpPr>
        <p:spPr>
          <a:xfrm flipV="1">
            <a:off x="8028000" y="4508280"/>
            <a:ext cx="43164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Connecteur droit 23"/>
          <p:cNvSpPr/>
          <p:nvPr/>
        </p:nvSpPr>
        <p:spPr>
          <a:xfrm flipV="1">
            <a:off x="7956720" y="5157360"/>
            <a:ext cx="43164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Connecteur droit 24"/>
          <p:cNvSpPr/>
          <p:nvPr/>
        </p:nvSpPr>
        <p:spPr>
          <a:xfrm flipV="1">
            <a:off x="8532720" y="5876640"/>
            <a:ext cx="43200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Connecteur droit 25"/>
          <p:cNvSpPr/>
          <p:nvPr/>
        </p:nvSpPr>
        <p:spPr>
          <a:xfrm flipV="1">
            <a:off x="8532720" y="6165360"/>
            <a:ext cx="432000" cy="142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Situation Programme SNS </a:t>
            </a:r>
            <a:endParaRPr b="0" lang="en-US" sz="4400" spc="-1" strike="noStrike">
              <a:solidFill>
                <a:srgbClr val="0046ad"/>
              </a:solidFill>
              <a:latin typeface="Arial"/>
            </a:endParaRPr>
          </a:p>
        </p:txBody>
      </p:sp>
      <p:graphicFrame>
        <p:nvGraphicFramePr>
          <p:cNvPr id="117" name=""/>
          <p:cNvGraphicFramePr/>
          <p:nvPr/>
        </p:nvGraphicFramePr>
        <p:xfrm>
          <a:off x="179280" y="1268280"/>
          <a:ext cx="8964720" cy="5608800"/>
        </p:xfrm>
        <a:graphic>
          <a:graphicData uri="http://schemas.openxmlformats.org/drawingml/2006/table">
            <a:tbl>
              <a:tblPr/>
              <a:tblGrid>
                <a:gridCol w="2016360"/>
                <a:gridCol w="2808000"/>
                <a:gridCol w="2845080"/>
                <a:gridCol w="1295280"/>
              </a:tblGrid>
              <a:tr h="6426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46ad"/>
                          </a:solidFill>
                          <a:latin typeface="Comic Sans MS"/>
                        </a:rPr>
                        <a:t>Composante FRESH I: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omic Sans MS"/>
                        </a:rPr>
                        <a:t>Politiques sanitaires en milieu scolair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Réalisation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03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Révision en 2010 du document de politique pour la coordination des interventions en santé et nutrition à l’école (élaboré en 2004)</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Document de politique élaboré et disponibl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Document de politique mis en oeuvre : p</a:t>
                      </a:r>
                      <a:r>
                        <a:rPr b="0" lang="fr-FR" sz="1400" spc="-1" strike="noStrike">
                          <a:solidFill>
                            <a:srgbClr val="0046ad"/>
                          </a:solidFill>
                          <a:latin typeface="Garamond"/>
                        </a:rPr>
                        <a:t>artenariat multisetoriel</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Protocole d'accord éducation /santé</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Couverture totale depuis 2011 des Inspections d’Académie en Inspections Médicales des Ecoles (IM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Changements concernant la décentralisation des Inspections Médicales des Ecoles (IME): coordination régionale (IA)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Mise en œuvre des orientations du document de politique traduite p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Coordination  des activités de SNS au niveau </a:t>
                      </a:r>
                      <a:r>
                        <a:rPr b="0" lang="en-US" sz="1400" spc="-1" strike="noStrike">
                          <a:solidFill>
                            <a:srgbClr val="0046ad"/>
                          </a:solidFill>
                          <a:latin typeface="Garamond"/>
                        </a:rPr>
                        <a:t>opérationnel (</a:t>
                      </a:r>
                      <a:r>
                        <a:rPr b="0" lang="fr-FR" sz="1400" spc="-1" strike="noStrike">
                          <a:solidFill>
                            <a:srgbClr val="0046ad"/>
                          </a:solidFill>
                          <a:latin typeface="Garamond"/>
                        </a:rPr>
                        <a:t> Inspection de l’Education et de la Formation (IEF) et écoles) par la nomination des points focaux</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Synergie des acteurs en SNS à la bas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Renforcer la coordination avec le niveau central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Ministère de la Santé</a:t>
                      </a:r>
                      <a:endParaRPr b="0" lang="en-US" sz="1400" spc="-1" strike="noStrike">
                        <a:solidFill>
                          <a:srgbClr val="000000"/>
                        </a:solidFill>
                        <a:latin typeface="Arial"/>
                      </a:endParaRPr>
                    </a:p>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Partenaires Techniques et Financiers </a:t>
                      </a:r>
                      <a:endParaRPr b="0" lang="en-US" sz="1400" spc="-1" strike="noStrike">
                        <a:solidFill>
                          <a:srgbClr val="000000"/>
                        </a:solidFill>
                        <a:latin typeface="Arial"/>
                      </a:endParaRPr>
                    </a:p>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ON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Elaboration du Programme d’Amélioration de la Qualité, de l’Equité et de la Transparence (PAQUET) 2013 -2025</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Identification des différentes préoccupations des sous secteurs de l’Educ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Assurer une meilleure prise en compte de la dimension  SNS dans ce  programme mis en œuvre dans le cycle fondament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Et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B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PT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46ad"/>
                </a:solidFill>
                <a:latin typeface="Arial"/>
              </a:rPr>
              <a:t>2. Situation Programme SNS </a:t>
            </a:r>
            <a:endParaRPr b="0" lang="en-US" sz="3600" spc="-1" strike="noStrike">
              <a:solidFill>
                <a:srgbClr val="0046ad"/>
              </a:solidFill>
              <a:latin typeface="Arial"/>
            </a:endParaRPr>
          </a:p>
        </p:txBody>
      </p:sp>
      <p:graphicFrame>
        <p:nvGraphicFramePr>
          <p:cNvPr id="119" name=""/>
          <p:cNvGraphicFramePr/>
          <p:nvPr/>
        </p:nvGraphicFramePr>
        <p:xfrm>
          <a:off x="179280" y="1125360"/>
          <a:ext cx="8715600" cy="4175280"/>
        </p:xfrm>
        <a:graphic>
          <a:graphicData uri="http://schemas.openxmlformats.org/drawingml/2006/table">
            <a:tbl>
              <a:tblPr/>
              <a:tblGrid>
                <a:gridCol w="1871640"/>
                <a:gridCol w="1873440"/>
                <a:gridCol w="3327480"/>
                <a:gridCol w="1643040"/>
              </a:tblGrid>
              <a:tr h="7038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rPr>
                        <a:t>Composante FRESH I: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rPr>
                        <a:t>Politiques sanitaires en milieu scolai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Réalisation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90760">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Plans d'action sectoriels mis en œuvre dans une approche multisectorielle  ( VIH, nutrition , MTN, paludisme, tuberculose , SRA, EHA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Bonne implication du secteur dans  la mise en oeuvre de ces programmes de santé</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Bonne collaboration avec tous les partenai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Maintenir les acquis de la collaboration Santé /éducation</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Renforcer la collaboration avec les autres secteurs:  assainissement, environnement; hydraulique,  jeunesse, famille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fr-FR" sz="1400" spc="-1" strike="noStrike">
                          <a:solidFill>
                            <a:srgbClr val="0046ad"/>
                          </a:solidFill>
                          <a:latin typeface="Garamond"/>
                        </a:rPr>
                        <a:t>Renforcer la synergie intra sectorielle: DEE, cantines, DEMSG; DALN...</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Plaidoyer pour un ligne budgétaire à l’unité SNS et VIH</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Evaluer l’impact des activités de SNS dans l’atteinte des objectifs du programme qualité du secteur Educ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Programmes de santé;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ONG;</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Etat</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BAD</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FM</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BM</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AMREF</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46ad"/>
                </a:solidFill>
                <a:latin typeface="Arial"/>
              </a:rPr>
              <a:t>2. Programme situation cont</a:t>
            </a:r>
            <a:r>
              <a:rPr b="0" lang="en-GB" sz="4400" spc="-1" strike="noStrike">
                <a:solidFill>
                  <a:srgbClr val="0046ad"/>
                </a:solidFill>
                <a:latin typeface="Arial"/>
              </a:rPr>
              <a:t>.</a:t>
            </a:r>
            <a:endParaRPr b="0" lang="en-US" sz="4400" spc="-1" strike="noStrike">
              <a:solidFill>
                <a:srgbClr val="0046ad"/>
              </a:solidFill>
              <a:latin typeface="Arial"/>
            </a:endParaRPr>
          </a:p>
        </p:txBody>
      </p:sp>
      <p:graphicFrame>
        <p:nvGraphicFramePr>
          <p:cNvPr id="121" name=""/>
          <p:cNvGraphicFramePr/>
          <p:nvPr/>
        </p:nvGraphicFramePr>
        <p:xfrm>
          <a:off x="179280" y="1125360"/>
          <a:ext cx="8715600" cy="5597640"/>
        </p:xfrm>
        <a:graphic>
          <a:graphicData uri="http://schemas.openxmlformats.org/drawingml/2006/table">
            <a:tbl>
              <a:tblPr/>
              <a:tblGrid>
                <a:gridCol w="1728720"/>
                <a:gridCol w="2592720"/>
                <a:gridCol w="2751120"/>
                <a:gridCol w="1643040"/>
              </a:tblGrid>
              <a:tr h="703800">
                <a:tc gridSpan="4">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ea typeface="Times New Roman"/>
                        </a:rPr>
                        <a:t>Composante FRESH I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ea typeface="Times New Roman"/>
                        </a:rPr>
                        <a:t>Environnement scolaire sain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Activités Actuellement Mises en Œ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Réalisation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Règlementation de la vente des aliments à l’éco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Visite médicale annuelle d’aptitude des vendeuses des aliments à l’école </a:t>
                      </a:r>
                      <a:r>
                        <a:rPr b="0" lang="fr-FR" sz="1400" spc="-1" strike="noStrike">
                          <a:solidFill>
                            <a:srgbClr val="0046ad"/>
                          </a:solidFill>
                          <a:latin typeface="Garamond"/>
                        </a:rPr>
                        <a:t>effectuée</a:t>
                      </a:r>
                      <a:r>
                        <a:rPr b="0" lang="en-US" sz="1400" spc="-1" strike="noStrike">
                          <a:solidFill>
                            <a:srgbClr val="0046ad"/>
                          </a:solidFill>
                          <a:latin typeface="Garamond"/>
                        </a:rPr>
                        <a:t> par l’IME/Médecin chef de district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Collaboration avec le Service d’hygièn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Visites de contrôle du respect de la qualité des aliment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Respect  systématique  des règles d’hygiène pour la vente des aliments à l’éco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Ministère de la santé et de l’action socia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0776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Assainissement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L’environnement scol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Mise en place des comités d’hygién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Réfection de blocs sanitaires à Thiès (8) 4 à Mbour et 14 à Dakar</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19% écoles disposent de lave main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56% d’écoles disposent d’un point d’eau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65% d’écoles disposent de latrin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Plaidoyer pour la systématisation des toilettes séparées filles /garçons; enseignantes/enseignant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Plaidoyer pour l’approvisionnement en eau salubre des établissements scolaire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Suivi, supervision des comités d’hygiène  formés à l’entretien des toilette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Plaidoyer pour la mise en place de lave mains dans toutes les éco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UNICE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ONG (Procter and Gam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AMREF</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23" name=""/>
          <p:cNvGraphicFramePr/>
          <p:nvPr/>
        </p:nvGraphicFramePr>
        <p:xfrm>
          <a:off x="179280" y="1116000"/>
          <a:ext cx="8786880" cy="5796000"/>
        </p:xfrm>
        <a:graphic>
          <a:graphicData uri="http://schemas.openxmlformats.org/drawingml/2006/table">
            <a:tbl>
              <a:tblPr/>
              <a:tblGrid>
                <a:gridCol w="2448000"/>
                <a:gridCol w="1873440"/>
                <a:gridCol w="3166920"/>
                <a:gridCol w="1298520"/>
              </a:tblGrid>
              <a:tr h="7038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rPr>
                        <a:t>Composante FRESH III: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rPr>
                        <a:t>Éducation sanitaire basée sur l’acquisition de savoir-fai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Réalisation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Intégration des compétences en SNS dans le reférentiel de formation des élèves maître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Intégration des compétences en SNS dans le curriculum de l’éducation de base (CEB)</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Intégration des exercises en SNS  dans le livret dévaluation du  C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35% d’enseignants formés à l’utilisation du guide SN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Draft de guide sur la santé bucco dentair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Bonne prise en charge des compétences en SNE dans la formation des  élèves maitres (CRFP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Edition d’un nombre suffisant de manuels pour une bonne mise en oeuvre des compétences du CEB</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Passage à l’échel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CLM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USAID/PEPA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 </a:t>
                      </a:r>
                      <a:r>
                        <a:rPr b="0" lang="en-US" sz="1300" spc="-1" strike="noStrike">
                          <a:solidFill>
                            <a:srgbClr val="0046ad"/>
                          </a:solidFill>
                          <a:latin typeface="Garamond"/>
                        </a:rPr>
                        <a:t>CNLS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BA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EA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EV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864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46ad"/>
                          </a:solidFill>
                          <a:latin typeface="Garamond"/>
                        </a:rPr>
                        <a:t>Sensibilisation sur des thèmes de Santé Nutrition Scolair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Elaboration d’outils IEC/CCC sur le paludisme, le VIH, les MTN, l’Eau l’Hygiène et l’Assainissement, la SRA</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formation de formateurs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Sensibilisation de 36% des jeunes du moyen secondaire sur le VIH</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46ad"/>
                          </a:solidFill>
                          <a:latin typeface="Garamond"/>
                        </a:rPr>
                        <a:t>Elaborer des outils IEC/CCC pour le non formel </a:t>
                      </a:r>
                      <a:endParaRPr b="0" lang="en-US" sz="16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46ad"/>
                          </a:solidFill>
                          <a:latin typeface="Garamond"/>
                        </a:rPr>
                        <a:t>Initier des stratégies dès le préscolair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AMRE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CL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M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CN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O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J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Réseau siggil jige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Intra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UNFP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46ad"/>
                          </a:solidFill>
                          <a:latin typeface="Garamond"/>
                        </a:rPr>
                        <a:t>ASBE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Garamond"/>
                        </a:rPr>
                        <a:t>ONUSI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Garamond"/>
                        </a:rPr>
                        <a:t>PNUD</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25" name=""/>
          <p:cNvGraphicFramePr/>
          <p:nvPr/>
        </p:nvGraphicFramePr>
        <p:xfrm>
          <a:off x="179280" y="1116000"/>
          <a:ext cx="8786880" cy="4721400"/>
        </p:xfrm>
        <a:graphic>
          <a:graphicData uri="http://schemas.openxmlformats.org/drawingml/2006/table">
            <a:tbl>
              <a:tblPr/>
              <a:tblGrid>
                <a:gridCol w="2160720"/>
                <a:gridCol w="2087640"/>
                <a:gridCol w="3024000"/>
                <a:gridCol w="1514520"/>
              </a:tblGrid>
              <a:tr h="119124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Éducation sanitaire basée sur l’acquisition de savoir-f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46ad"/>
                          </a:solidFill>
                          <a:latin typeface="Garamond"/>
                          <a:ea typeface="Times New Roman"/>
                        </a:rPr>
                        <a:t>Activités Actuellement Mises en Oeuvre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46ad"/>
                          </a:solidFill>
                          <a:latin typeface="Garamond"/>
                          <a:ea typeface="Times New Roman"/>
                        </a:rPr>
                        <a:t>Réalisations Principal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46ad"/>
                          </a:solidFill>
                          <a:latin typeface="Garamond"/>
                          <a:ea typeface="Times New Roman"/>
                        </a:rPr>
                        <a:t>Défis Principaux</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46ad"/>
                          </a:solidFill>
                          <a:latin typeface="Garamond"/>
                        </a:rPr>
                        <a:t>Partenaires clé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254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Elaboration d’un curriculum numérique  de 18 leçons sur la Santé de la Reproduction des Adolescents (SR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Formation de 553 enseignants  et 6167 pairs éducateurs de 7/14 régions à l’utilisation de la plateforme </a:t>
                      </a:r>
                      <a:r>
                        <a:rPr b="0" lang="fr-FR" sz="1400" spc="-1" strike="noStrike" u="sng">
                          <a:solidFill>
                            <a:srgbClr val="009999"/>
                          </a:solidFill>
                          <a:uFillTx/>
                          <a:latin typeface="Garamond"/>
                          <a:hlinkClick r:id="rId1"/>
                        </a:rPr>
                        <a:t>www.clickinfoado.sn</a:t>
                      </a:r>
                      <a:r>
                        <a:rPr b="0" lang="fr-FR" sz="1400" spc="-1" strike="noStrike">
                          <a:solidFill>
                            <a:srgbClr val="0046ad"/>
                          </a:solidFill>
                          <a:latin typeface="Garamond"/>
                        </a:rPr>
                        <a:t>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Supervision de la démultiplication des formation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Couvrir toutes les académies du Sénégal</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Elaborer des planches de sensibilisation pour les établissement qui ne disposent pas de salle informatique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Mise en place d’un numéro court pour des appels gratuits d’information sur la SR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Oneworld UK</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Organisation de visites médical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Collaboration entre les ministères de la santé et de l’éduc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Systématiser les visites médicales à l’élémentair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Renforcer l’équipement  des IM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Contractualiser avec des ressources humaines qualifié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Ministère de la Santé et de l’Action Socia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92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27" name=""/>
          <p:cNvGraphicFramePr/>
          <p:nvPr/>
        </p:nvGraphicFramePr>
        <p:xfrm>
          <a:off x="0" y="981000"/>
          <a:ext cx="9144000" cy="5900760"/>
        </p:xfrm>
        <a:graphic>
          <a:graphicData uri="http://schemas.openxmlformats.org/drawingml/2006/table">
            <a:tbl>
              <a:tblPr/>
              <a:tblGrid>
                <a:gridCol w="1835280"/>
                <a:gridCol w="2232000"/>
                <a:gridCol w="3719520"/>
                <a:gridCol w="1357200"/>
              </a:tblGrid>
              <a:tr h="7038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rPr>
                        <a:t>Composante FRESH IV: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rPr>
                        <a:t>Services de santé et de nutrition en milieu scolaire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Réalisation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Garamond"/>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Elaboration de guides du moyen sur les compétences en santé</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Finalisation /validation du guide eau hygiène et assainissement</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Finalisation /validation du guide sur le paludism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Draft du guide VIH disponib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Edition des guides EHA et paludism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Finalisation du guide VIH </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Formations de formateurs (CRFPE) + démultiplication de la formation auprès des enseignants (SVT, Géographie et Economie Familiale) à réaliser en 2013-2014</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Suivi/supervision des enseignants formés à l’utilisation du guide sur le paludism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Capitalisation des différents guides en un document uniqu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USAID/PEPA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CNLS/F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PNLP/F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Supplémentations en Fer et </a:t>
                      </a:r>
                      <a:r>
                        <a:rPr b="0" lang="fr-FR" sz="1400" spc="-1" strike="noStrike">
                          <a:solidFill>
                            <a:srgbClr val="0046ad"/>
                          </a:solidFill>
                          <a:latin typeface="Garamond"/>
                        </a:rPr>
                        <a:t>Déparasitage d’enfants d’âge scolaire</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46ad"/>
                          </a:solidFill>
                          <a:latin typeface="Garamond"/>
                        </a:rPr>
                        <a:t> </a:t>
                      </a:r>
                      <a:r>
                        <a:rPr b="0" lang="fr-FR" sz="1400" spc="-1" strike="noStrike">
                          <a:solidFill>
                            <a:srgbClr val="0046ad"/>
                          </a:solidFill>
                          <a:latin typeface="Garamond"/>
                        </a:rPr>
                        <a:t>Recherche opérationnelle sur le paludisme en milieu scol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Garamond"/>
                        </a:rPr>
                        <a:t> </a:t>
                      </a:r>
                      <a:r>
                        <a:rPr b="0" lang="en-GB" sz="1400" spc="-1" strike="noStrike">
                          <a:solidFill>
                            <a:srgbClr val="0046ad"/>
                          </a:solidFill>
                          <a:latin typeface="Garamond"/>
                        </a:rPr>
                        <a:t>2% d’enfants de </a:t>
                      </a:r>
                      <a:r>
                        <a:rPr b="0" lang="en-US" sz="1400" spc="-1" strike="noStrike">
                          <a:solidFill>
                            <a:srgbClr val="0046ad"/>
                          </a:solidFill>
                          <a:latin typeface="Garamond"/>
                        </a:rPr>
                        <a:t>4/14 régions supplémentés en fer</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92% d’enfants d’âge scolaire déparasité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Traitement de la Bilharziose: 95% d’enfants touchés</a:t>
                      </a:r>
                      <a:endParaRPr b="0" lang="en-US" sz="1400" spc="-1" strike="noStrike">
                        <a:solidFill>
                          <a:srgbClr val="000000"/>
                        </a:solidFill>
                        <a:latin typeface="Arial"/>
                      </a:endParaRPr>
                    </a:p>
                    <a:p>
                      <a:pPr>
                        <a:lnSpc>
                          <a:spcPct val="100000"/>
                        </a:lnSpc>
                        <a:buClr>
                          <a:srgbClr val="0046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 </a:t>
                      </a:r>
                      <a:r>
                        <a:rPr b="0" lang="en-US" sz="1400" spc="-1" strike="noStrike">
                          <a:solidFill>
                            <a:srgbClr val="0046ad"/>
                          </a:solidFill>
                          <a:latin typeface="Garamond"/>
                        </a:rPr>
                        <a:t>24% d’établissements disposant d’une boîte à pharmaci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Passage à l’échelle</a:t>
                      </a:r>
                      <a:endParaRPr b="0" lang="en-US" sz="1400" spc="-1" strike="noStrike">
                        <a:solidFill>
                          <a:srgbClr val="000000"/>
                        </a:solidFill>
                        <a:latin typeface="Arial"/>
                      </a:endParaRPr>
                    </a:p>
                    <a:p>
                      <a:pPr>
                        <a:lnSpc>
                          <a:spcPct val="100000"/>
                        </a:lnSpc>
                        <a:buClr>
                          <a:srgbClr val="0046a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Garamond"/>
                        </a:rPr>
                        <a:t>Traitement des géohelminthias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CLM/PR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OMVS/PGIRE</a:t>
                      </a:r>
                      <a:br>
                        <a:rPr sz="1300"/>
                      </a:br>
                      <a:r>
                        <a:rPr b="0" lang="en-US" sz="1300" spc="-1" strike="noStrike">
                          <a:solidFill>
                            <a:srgbClr val="0046ad"/>
                          </a:solidFill>
                          <a:latin typeface="Garamond"/>
                        </a:rPr>
                        <a:t>PLAN/ SENEGAL</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PA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Garamond"/>
                        </a:rPr>
                        <a:t>CHILDFUND</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STANDARD</cp:lastModifiedBy>
  <dcterms:modified xsi:type="dcterms:W3CDTF">2013-10-09T11:47:41Z</dcterms:modified>
  <cp:revision>327</cp:revision>
  <dc:subject/>
  <dc:title>Current Situation analysis</dc:title>
</cp:coreProperties>
</file>