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3240" cy="371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09"/>
          <p:cNvSpPr/>
          <p:nvPr/>
        </p:nvSpPr>
        <p:spPr>
          <a:xfrm>
            <a:off x="3848040" y="9630000"/>
            <a:ext cx="2944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FCC-17C5-4B7F-8CAC-532333EA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F21-54FB-4F06-A408-924ADAB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C27-7BA6-4364-982C-77DA002A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E6E-5D30-4D57-9C31-5A9E3DDE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209-1A92-4371-8BCB-03A8A87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D4-DB6E-4A31-B525-2F2655D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D22-5977-4B73-A643-ACD839C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D4D-6DEE-4831-BF00-BBA1851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D2F-6F98-4570-9647-29DF0AC8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985-AFF8-429D-81D4-416AB40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C04-4C06-4461-81FD-8D6C2A0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927-1351-46ED-A853-F68612B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5760"/>
            <a:ext cx="618948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N Strategy Framewor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5360" y="3838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Ibrahim Sheikh O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Judy Mw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Pamela Wa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onny Mw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hape 17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hape 17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75"/>
          <p:cNvSpPr/>
          <p:nvPr/>
        </p:nvSpPr>
        <p:spPr>
          <a:xfrm>
            <a:off x="915840" y="23760"/>
            <a:ext cx="777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76"/>
          <p:cNvSpPr/>
          <p:nvPr/>
        </p:nvSpPr>
        <p:spPr>
          <a:xfrm>
            <a:off x="946080" y="819000"/>
            <a:ext cx="511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7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628640"/>
          <a:ext cx="7490160" cy="4608720"/>
        </p:xfrm>
        <a:graphic>
          <a:graphicData uri="http://schemas.openxmlformats.org/drawingml/2006/table">
            <a:tbl>
              <a:tblPr/>
              <a:tblGrid>
                <a:gridCol w="749016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Deworming services from the field and lectures were you impressed by, i.e. what best practices were observed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deworming programme in pl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orming Tools and Guidelines are in pl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Deworming program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-The programme is being implement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a7f"/>
                          </a:solidFill>
                          <a:latin typeface="Arial"/>
                        </a:rPr>
                        <a:t>Challenges-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Financial constraints in other parts that are not benefiting from the progra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ligious and cultural  that the deworming tablets  are family planning pill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hape 18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8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8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 – Engaging with the Community and Pu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8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87"/>
          <p:cNvSpPr/>
          <p:nvPr/>
        </p:nvSpPr>
        <p:spPr>
          <a:xfrm>
            <a:off x="915840" y="23760"/>
            <a:ext cx="7694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628640"/>
          <a:ext cx="7490160" cy="4956480"/>
        </p:xfrm>
        <a:graphic>
          <a:graphicData uri="http://schemas.openxmlformats.org/drawingml/2006/table">
            <a:tbl>
              <a:tblPr/>
              <a:tblGrid>
                <a:gridCol w="749016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regards to community and pupil engagement with Deworming activities, what best practices have you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orming activities being implemented by the teachers in conjunction with the 2 ministries (MoE &amp; MoP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sion of ECDs and Non school going children in deworming activiti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observed community and/or pupil engagement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bserved practices are being implemented in our count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aving good community structures in pl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1f4a7f"/>
                          </a:solidFill>
                          <a:uFillTx/>
                          <a:latin typeface="Arial"/>
                        </a:rPr>
                        <a:t>Challenges-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Financial constraints in other parts that are not benefiting from the progra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ligious and cultural aspects that the deworming tablets  are family planning pill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hape 19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hape 19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hape 19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hape 19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hape 197"/>
          <p:cNvSpPr/>
          <p:nvPr/>
        </p:nvSpPr>
        <p:spPr>
          <a:xfrm>
            <a:off x="915840" y="23760"/>
            <a:ext cx="7542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26920" y="1628640"/>
          <a:ext cx="7490160" cy="5170680"/>
        </p:xfrm>
        <a:graphic>
          <a:graphicData uri="http://schemas.openxmlformats.org/drawingml/2006/table">
            <a:tbl>
              <a:tblPr/>
              <a:tblGrid>
                <a:gridCol w="749016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Deworming education were you impressed by, i.e. what best practices were observed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zation and awareness of community members through health talks in various pla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and dissemination of IEC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 being role models in schoo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orming messages disseminated through media channe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Deworming education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-Deworming activities are being implemented in our count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1f4a7f"/>
                          </a:solidFill>
                          <a:uFillTx/>
                          <a:latin typeface="Arial"/>
                        </a:rPr>
                        <a:t>Challenges-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nancial constraints to reach all the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or integration of other intervention measures targ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hape 20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hape 20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0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 – Stakehold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20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hape 207"/>
          <p:cNvSpPr/>
          <p:nvPr/>
        </p:nvSpPr>
        <p:spPr>
          <a:xfrm>
            <a:off x="915840" y="23760"/>
            <a:ext cx="7618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1341360"/>
          <a:ext cx="7490160" cy="8077320"/>
        </p:xfrm>
        <a:graphic>
          <a:graphicData uri="http://schemas.openxmlformats.org/drawingml/2006/table">
            <a:tbl>
              <a:tblPr/>
              <a:tblGrid>
                <a:gridCol w="2881440"/>
                <a:gridCol w="1440000"/>
                <a:gridCol w="1492200"/>
                <a:gridCol w="1676520"/>
              </a:tblGrid>
              <a:tr h="176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list below all of the stakeholders currently and/or potentially involved in Deworming services and education for your country program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 Teac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rank the stakeholders in order of importance, where 1 = most important for your progr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identify what role the stakeholder may play, where  F = Financial, T = Technical, P = Policy, I = Implementation, and B = Beneficia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;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;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indicate whether the stakeholder is currently engaged (E) or could be potentially engaged (PE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740680">
                <a:tc>
                  <a:txBody>
                    <a:bodyPr tIns="91440" bIns="9144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p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lea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 the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ACI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P, 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P, 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hape 2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21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21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21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217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63640" y="1773360"/>
          <a:ext cx="7416720" cy="42368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1439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ng on what you have learned, what do you see as the overarch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your national Deworming program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adication/reduced worm burden in Kenyan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required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to strengthen your Deworming services and education in school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llaborations and partnerships geared towards implement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rong  M &amp; E in pl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mprehensive sensitization on deworm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13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you facilitate upon your return home to address these need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eparation of deworming action plan throughout the whole 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mplementation of the action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onitoring a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hape 22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22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hape 22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22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227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1557360"/>
          <a:ext cx="7490160" cy="4443480"/>
        </p:xfrm>
        <a:graphic>
          <a:graphicData uri="http://schemas.openxmlformats.org/drawingml/2006/table">
            <a:tbl>
              <a:tblPr/>
              <a:tblGrid>
                <a:gridCol w="1905120"/>
                <a:gridCol w="385920"/>
                <a:gridCol w="1842840"/>
                <a:gridCol w="1179720"/>
                <a:gridCol w="1042920"/>
                <a:gridCol w="113364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58ed5"/>
                          </a:solidFill>
                          <a:latin typeface="Arial"/>
                        </a:rPr>
                        <a:t>NATIONAL SCHOOL BASED DEWORMING PROGRAM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dication/Reduction of Worm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8892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obilization of stakeholders/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ng awareness and sensitization campaig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p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MRI-ESACI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 with partners/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ensitized comm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533520" y="2193840"/>
          <a:ext cx="7696080" cy="2530440"/>
        </p:xfrm>
        <a:graphic>
          <a:graphicData uri="http://schemas.openxmlformats.org/drawingml/2006/table">
            <a:tbl>
              <a:tblPr/>
              <a:tblGrid>
                <a:gridCol w="2354040"/>
                <a:gridCol w="1893960"/>
                <a:gridCol w="1212840"/>
                <a:gridCol w="1069920"/>
                <a:gridCol w="1165320"/>
              </a:tblGrid>
              <a:tr h="253044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and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stakeholders/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master trainers nation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teachers and education managers &amp; SM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p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MRI-ESACI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 with partners/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of teachers and SMCs tr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of master trainers tr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3520" y="1523880"/>
          <a:ext cx="7696080" cy="609840"/>
        </p:xfrm>
        <a:graphic>
          <a:graphicData uri="http://schemas.openxmlformats.org/drawingml/2006/table">
            <a:tbl>
              <a:tblPr/>
              <a:tblGrid>
                <a:gridCol w="2354040"/>
                <a:gridCol w="1893960"/>
                <a:gridCol w="1212840"/>
                <a:gridCol w="1069920"/>
                <a:gridCol w="116532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39" name="Shape 22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22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225"/>
          <p:cNvSpPr/>
          <p:nvPr/>
        </p:nvSpPr>
        <p:spPr>
          <a:xfrm>
            <a:off x="946080" y="81900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w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227"/>
          <p:cNvSpPr/>
          <p:nvPr/>
        </p:nvSpPr>
        <p:spPr>
          <a:xfrm>
            <a:off x="915840" y="23760"/>
            <a:ext cx="777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4724280"/>
          <a:ext cx="7696080" cy="1676520"/>
        </p:xfrm>
        <a:graphic>
          <a:graphicData uri="http://schemas.openxmlformats.org/drawingml/2006/table">
            <a:tbl>
              <a:tblPr/>
              <a:tblGrid>
                <a:gridCol w="2354040"/>
                <a:gridCol w="1893960"/>
                <a:gridCol w="1212840"/>
                <a:gridCol w="1069920"/>
                <a:gridCol w="1165320"/>
              </a:tblGrid>
              <a:tr h="167652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orming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of deworming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p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MRI-ESACI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drugs procured &amp; dispatched in schoo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hape 11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hape 112"/>
          <p:cNvSpPr/>
          <p:nvPr/>
        </p:nvSpPr>
        <p:spPr>
          <a:xfrm>
            <a:off x="915840" y="23760"/>
            <a:ext cx="7472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13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14"/>
          <p:cNvSpPr/>
          <p:nvPr/>
        </p:nvSpPr>
        <p:spPr>
          <a:xfrm>
            <a:off x="930240" y="825480"/>
            <a:ext cx="69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15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447920"/>
          <a:ext cx="7561440" cy="517032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WatSan service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om the field and lectures were you impressed by, i.e. what best practices were observed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washing facilities with liquid soaps other than bar soa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tanks in pl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nerator for disposal of sanitary towe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es can be used as an  alternative for soap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s on how to dig boreholes and presence of borehole/well in school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s and physical observation on toilets and adequac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chools had WASH messages on wal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WatSan program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c7707"/>
                          </a:solidFill>
                          <a:latin typeface="Arial"/>
                        </a:rPr>
                        <a:t>Most of the observations exist in our country but some practices could be implemented in other schools that do not pract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1f4a7f"/>
                          </a:solidFill>
                          <a:uFillTx/>
                          <a:latin typeface="Arial"/>
                        </a:rPr>
                        <a:t>Challenges</a:t>
                      </a:r>
                      <a:r>
                        <a:rPr b="0" lang="en-US" sz="1400" spc="-1" strike="noStrike">
                          <a:solidFill>
                            <a:srgbClr val="1f4a7f"/>
                          </a:solidFill>
                          <a:latin typeface="Arial"/>
                        </a:rPr>
                        <a:t>-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finan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proper awareness and sensit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ication by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Shape 117"/>
          <p:cNvSpPr/>
          <p:nvPr/>
        </p:nvSpPr>
        <p:spPr>
          <a:xfrm>
            <a:off x="826920" y="6781680"/>
            <a:ext cx="7561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School based services include  provision of potable water, handwashing facilities and separate latrines for boys/girls/teachers;  waste disposal; screening, testing, treatment  and referral for ailments; information &amp; advice; micronutrient supplementation and school meals , among ot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23"/>
          <p:cNvSpPr/>
          <p:nvPr/>
        </p:nvSpPr>
        <p:spPr>
          <a:xfrm>
            <a:off x="915840" y="23760"/>
            <a:ext cx="7542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2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25"/>
          <p:cNvSpPr/>
          <p:nvPr/>
        </p:nvSpPr>
        <p:spPr>
          <a:xfrm>
            <a:off x="930240" y="825480"/>
            <a:ext cx="810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 – Engaging with the Community and Pu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hape 12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26920" y="1628640"/>
          <a:ext cx="7561440" cy="480384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249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regards to community and pupil engagement with WatSan activities, what best practices have you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a School Management Committee meeting  in progress, discussing issues on school projec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 being encouraged to provide footwear  to their child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Y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actices are relevant in our count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observed community and/or pupil engagement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c7707"/>
                          </a:solidFill>
                          <a:latin typeface="Arial"/>
                        </a:rPr>
                        <a:t>Need to practice it across the 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1f4a7f"/>
                          </a:solidFill>
                          <a:uFillTx/>
                          <a:latin typeface="Arial"/>
                        </a:rPr>
                        <a:t>Challenge-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community particip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rty/financial commit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hape 133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4"/>
          <p:cNvSpPr/>
          <p:nvPr/>
        </p:nvSpPr>
        <p:spPr>
          <a:xfrm>
            <a:off x="915840" y="23760"/>
            <a:ext cx="7923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hape 135"/>
          <p:cNvSpPr/>
          <p:nvPr/>
        </p:nvSpPr>
        <p:spPr>
          <a:xfrm>
            <a:off x="930240" y="825480"/>
            <a:ext cx="745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hape 136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628640"/>
          <a:ext cx="7561440" cy="460872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WatSan education* were you impressed by, i.e. what best practices were observed? Is this relevant to your country pro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chool health guidelines and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Y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 it is currently being implemented in our count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23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ould you see elements of the WatSan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 replicated in your country?  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ist to implement these elements?  What challenges 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ght you fa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c7707"/>
                          </a:solidFill>
                          <a:latin typeface="Arial"/>
                        </a:rPr>
                        <a:t>-Through school health guidelines and policy implemen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1f4a7f"/>
                          </a:solidFill>
                          <a:uFillTx/>
                          <a:latin typeface="Arial"/>
                        </a:rPr>
                        <a:t>Challenges-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verty levels and fin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ck of proper management systems and commi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hape 14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hape 144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hape 145"/>
          <p:cNvSpPr/>
          <p:nvPr/>
        </p:nvSpPr>
        <p:spPr>
          <a:xfrm>
            <a:off x="915840" y="23760"/>
            <a:ext cx="777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ervices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hape 146"/>
          <p:cNvSpPr/>
          <p:nvPr/>
        </p:nvSpPr>
        <p:spPr>
          <a:xfrm>
            <a:off x="930240" y="825480"/>
            <a:ext cx="745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 – Stakeholder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hape 14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341360"/>
          <a:ext cx="7490160" cy="9525240"/>
        </p:xfrm>
        <a:graphic>
          <a:graphicData uri="http://schemas.openxmlformats.org/drawingml/2006/table">
            <a:tbl>
              <a:tblPr/>
              <a:tblGrid>
                <a:gridCol w="2881440"/>
                <a:gridCol w="1440000"/>
                <a:gridCol w="1492200"/>
                <a:gridCol w="1676520"/>
              </a:tblGrid>
              <a:tr h="176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list below all of the stakeholders currently and/or potentially involved in WatSan services and education for your country program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 Teac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rank the stakeholders in order of importance, where 1 = most important for your progr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identify what role the stakeholder may play, where  F = Financial, T = Technical, P = Policy, I = Implementation, and B = Beneficia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;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;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indicate whether the stakeholder is currently engaged (E) or could be potentially engaged (PE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019400">
                <a:tc>
                  <a:txBody>
                    <a:bodyPr tIns="91440" bIns="9144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leaders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Kenya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ef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 the childr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 child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d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of Kenya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,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I, B,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963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5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15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hape 15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hape 15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15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26920" y="1628640"/>
          <a:ext cx="7561440" cy="486756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1482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ng on what you have learned, what do you see as the overarch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your national WatSan program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/complete eradication of  disease infections through improved water, sanitation and hygiene in schoo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required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to strengthen your WatSan services and education in school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zation and awareness of stakehold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tion of action plan in watsa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implementation of the national school health guide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itoring and evaluation of the programmes nationall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you facilitate upon your return home to address these need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Sensitization and awareness of stakeholders in a cascade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reparation of action plan in watsan in each and every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Full implementation of the national school health guide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Preparing a national M &amp; E plan that is practi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16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hape 166"/>
          <p:cNvSpPr/>
          <p:nvPr/>
        </p:nvSpPr>
        <p:spPr>
          <a:xfrm>
            <a:off x="930240" y="825480"/>
            <a:ext cx="69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6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26920" y="1557360"/>
          <a:ext cx="7631280" cy="5113440"/>
        </p:xfrm>
        <a:graphic>
          <a:graphicData uri="http://schemas.openxmlformats.org/drawingml/2006/table">
            <a:tbl>
              <a:tblPr/>
              <a:tblGrid>
                <a:gridCol w="1871640"/>
                <a:gridCol w="218880"/>
                <a:gridCol w="1707480"/>
                <a:gridCol w="1052280"/>
                <a:gridCol w="1528560"/>
                <a:gridCol w="1252440"/>
              </a:tblGrid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a7f"/>
                          </a:solidFill>
                          <a:latin typeface="Arial"/>
                        </a:rPr>
                        <a:t>WASH 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water, sanitation &amp; hygiene in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5488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toilets in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obilization of stakeholders/ partners to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 more toilets in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habilitate existing toil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or SHNM unit in M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 in school health programme MoPHS (DC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N/Save the children, Unicef, Care Kenya,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 with partners/ 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oilets constru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 toilets rehabilit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3520" y="2209680"/>
          <a:ext cx="8076960" cy="2955960"/>
        </p:xfrm>
        <a:graphic>
          <a:graphicData uri="http://schemas.openxmlformats.org/drawingml/2006/table">
            <a:tbl>
              <a:tblPr/>
              <a:tblGrid>
                <a:gridCol w="2030400"/>
                <a:gridCol w="2084400"/>
                <a:gridCol w="1218960"/>
                <a:gridCol w="1371600"/>
                <a:gridCol w="1371600"/>
              </a:tblGrid>
              <a:tr h="295596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Water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obilization of stakeholders/partners to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Construct/purchase more t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Sensitization on water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W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or SHNM unit in M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 in school health programme MoPHS (DCAH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emb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 with partners/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ources of water establish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community members sensit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3520" y="1523880"/>
          <a:ext cx="8076960" cy="609840"/>
        </p:xfrm>
        <a:graphic>
          <a:graphicData uri="http://schemas.openxmlformats.org/drawingml/2006/table">
            <a:tbl>
              <a:tblPr/>
              <a:tblGrid>
                <a:gridCol w="2189160"/>
                <a:gridCol w="1925640"/>
                <a:gridCol w="1218960"/>
                <a:gridCol w="1393920"/>
                <a:gridCol w="134928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9" name="Shape 163"/>
          <p:cNvSpPr/>
          <p:nvPr/>
        </p:nvSpPr>
        <p:spPr>
          <a:xfrm>
            <a:off x="0" y="144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hape 16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991040" y="-763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2209680"/>
          <a:ext cx="8045280" cy="3048120"/>
        </p:xfrm>
        <a:graphic>
          <a:graphicData uri="http://schemas.openxmlformats.org/drawingml/2006/table">
            <a:tbl>
              <a:tblPr/>
              <a:tblGrid>
                <a:gridCol w="2181240"/>
                <a:gridCol w="2085840"/>
                <a:gridCol w="1127160"/>
                <a:gridCol w="1158840"/>
                <a:gridCol w="1492200"/>
              </a:tblGrid>
              <a:tr h="3048120"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Washing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stakeholders/partners to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Construct hand washing points/ leaky ti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Sensitization on the importance of hand was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E, MoPHS,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 with partners/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hand washing points establish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community members sensitiz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Shape 163"/>
          <p:cNvSpPr/>
          <p:nvPr/>
        </p:nvSpPr>
        <p:spPr>
          <a:xfrm>
            <a:off x="0" y="144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6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991040" y="-763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523880"/>
          <a:ext cx="8076960" cy="60984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  <a:gridCol w="1143000"/>
                <a:gridCol w="1143000"/>
                <a:gridCol w="152388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i Heath</dc:creator>
  <dc:description/>
  <dc:language>en-US</dc:language>
  <cp:lastModifiedBy>MERCY</cp:lastModifiedBy>
  <dcterms:modified xsi:type="dcterms:W3CDTF">2012-06-28T07:52:14Z</dcterms:modified>
  <cp:revision>79</cp:revision>
  <dc:subject/>
  <dc:title>SHN Strategy Framework</dc:title>
</cp:coreProperties>
</file>