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A20-D5A8-4463-A864-F774FE8AE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23F4-A4C4-4612-AEE7-631F11AE1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7D48-5268-4BC4-81FD-28D14D5B2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F583-38B8-4E01-A530-ADF45A71A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frame for activity or nee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D167-F71B-4691-9807-64C5DBB7D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E1D-1822-4692-9B3E-2BE5D3391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4B1-EFBA-4EA8-8254-8077FC3C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70D-C133-4923-8204-B2D8C756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7B6F8-63AC-42AD-BAB3-FB4E7886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BBCDB-B367-4708-A78B-F1376D18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525F2-FA26-4A22-8054-54E80D2D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66992-EFC8-4BEC-AC13-9AF7F52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7A16A-D4EF-45E4-80D9-15833E42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51EBF-7F9F-4A66-B903-F1747322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2C34B-93C3-4C4D-8E63-822F90BD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F48BE-946E-4A64-8D93-3F301D11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4ADC0-B831-4117-9E89-F5922322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2B462-CB88-4548-8F2A-BBAB1D2E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C8C-7D62-4C43-A9DD-0A8E3ACF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4B778-4C28-43E0-9812-BE18B599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7594A-8B8D-4DFF-AE51-EB550C67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D39DB-F65C-47F2-ABBB-CF9E0307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F6463-0234-43BC-A0C7-CA210B59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A8E22-CF0E-4C07-AB0E-7BFEB3C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0C6D3-77CA-4BB7-A042-6D6B6182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5D77A-941E-42C7-8188-52008E4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CF29E-D769-4352-A712-2C50D1EC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20E49-20E5-4748-BF19-0FEAA6A7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EBAB8-E277-4ED5-BD0D-7228321C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773-7237-4301-92AF-4E996D54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8C4EC-0D4D-4EB7-A935-A8256E66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8DDC-4AAA-415A-A06D-E46AC415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9696D-C357-4120-A55B-6A80789F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956AA-7875-47D5-829F-99CA14C2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54433-5CC5-4679-931A-F5AC4DF4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6ACF4-F638-4F7C-8C76-7D17B3B1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40AC3-A096-44C4-9D00-1FA533B7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71061-F4E5-463E-9F95-3C184A6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13028-8425-4606-AC51-15FB6DE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5AAE9-A5F0-4A9F-83E4-DF2A4457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3740-3037-4D08-BC29-F8C45977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D5669-B997-4EB3-AB4F-C349541C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81FF0-4F7A-4690-A453-4DE9FDBE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8BA55-1111-4449-88A1-FE2E178B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B51F1-5B54-4D08-A929-418E72E6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DBDEC-F402-4135-9B20-433F4D2C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10675-1358-4328-BF8E-A3F3560C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D7013-620D-48BA-8182-409C34E9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A7645-E888-4BA5-888A-65C09FE4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D6FB6-2442-41FA-9735-AD8618B9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2CA8F-69FE-4660-A53E-6C48D8F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F3A6-6CC0-40EF-98D6-348073FA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851C1-148C-4AAA-9D7D-C13D9C85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9EB2A-F620-49EA-A3C4-1C96AC10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65205-A4C8-4D54-BEA7-792F575A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458C4-622F-4B96-A243-981E3238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022D2-2C2D-4D0E-A256-1C334ED9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E680-8AE0-4E81-8EFF-043169F3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AD66-550F-40BC-ABC5-492F12FB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8A44-D704-43DB-90C5-19E32F60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3278-326E-46E2-A70A-06FD9E27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9448-D1C2-429D-96A6-5303371C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CF7-A45A-4431-A62D-1251AF11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CB1A-D20D-48F7-8C1A-3642B79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AEFF-1CD4-4813-9879-8F046800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1DA9-E88F-4EAA-A067-A9902B0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0D65-6DF6-46E9-B3B4-8263A2BF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7492-4DC3-48EA-ADB6-4E54DBCC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EBA7-13F9-4C97-85AE-92E6E5E8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11BB-9BAC-4B3B-A437-67689FA7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51BE-FBD2-45CF-8FAA-6B508146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77A1-A056-4EED-9BE2-7970144A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BC7E4-15D5-40F6-8317-80F05B85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1B6-3643-41CB-8520-1C18AC8C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1A6A-DB5E-4784-A861-CA0CC1DD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2FBA-EA0B-4A03-80F7-B3C0D877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5A1A-0949-4CD6-B348-621D0D1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396C-905F-45F7-B548-1D05E3D9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0FF0-3C92-4F53-AD30-4D9E50F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59FB-2461-4289-911F-7C751786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1DD8-8853-46B8-9992-4A1977DE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33F2-875A-4439-AF08-04A368E2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E2227-BADF-4D9E-9A26-6107430B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266B-249F-4E4B-8049-627D2AC7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5DC-495B-4041-B847-712C32E8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9B81-88A9-4912-A100-B6C6B53A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3281-A9FB-4265-969A-957C1EF0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5E66-BD62-48F2-AD18-DB4FF5B2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D668-295F-45EE-B665-97DB9C5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CD99-AC31-4BB4-BF21-738917FF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0E00-BA58-4724-87C0-C69E921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28FE9-9F2B-4DA0-AD1D-047E241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D045-4CCB-4EBA-ABC1-AD02D0E2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C7D6C-64C6-463A-8081-95C462C9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3F11D-B801-473B-AD67-F7FDCE04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AEF-0F4D-4753-81BA-13761A9E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7C124-247D-43B4-B9F4-7F227A47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92AB-52C8-4EFA-A7A7-3A4ABB17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B47D1-9C10-425C-A1F7-EC14E741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12F60-C2CC-4C29-811B-3041025D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A9B0-94FC-4283-AB14-A520A2B6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E584-E5CE-47C2-BE50-49751192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298C6-993E-48BB-975E-D058EDDE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C6D7-BA24-4F1C-9CBB-55F100D4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B45E0-0692-4D4C-9AA7-7D67A3AC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96A8-69E2-4F4B-9400-7B0EECC7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BF5-2160-4F5D-A6D5-BC7655FF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FB7BD-BD16-4B08-A4F0-505F4054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C070-EBF3-4E10-9979-0D3E854F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81300-C508-40AB-9F39-9926E72C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03F9-11E4-44CC-B4BE-CA09D843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B151-ECF1-4E7D-BC16-0FE1D5F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561A4-DF99-4215-A982-74F6A52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2994-1EC0-4B3C-A7D3-3A5389F2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E165-78DB-4D45-9A25-E2BED0C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D756A-1A20-40F6-A6DE-98E9D5A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8091-4D28-4330-829D-52EDE52A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898-AA1F-4A73-A36C-485799B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6C8EB-1B5A-453E-AA6B-ED75300D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61E22-706F-444E-9D30-B1A2FED0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AAEA-0170-4646-BBD7-06516B41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299B3-5BC4-45CE-ABDB-14472AAE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BB1EC-B10C-4AAA-A10E-B85BA966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1935C-3D46-43D7-B94D-D8317F7F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9CC64-41FC-4286-AD57-57366AE1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02DE2-CF64-4C28-AF9B-B1333A44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56C83-18E7-42AE-9D21-02F189E0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7BF9-BE21-4453-B95F-F8BE18E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9E8-B2CF-4D28-BB46-CF347F53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4EA30-9724-435F-BE3E-7072BBA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8207A-3A66-45A1-B348-8F13736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3D8C6-3D41-4AC2-9A16-A62DEB4B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453C6-B1DE-44ED-87B6-23943F9E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E057D-6195-4EF8-B899-3260B24C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5398F-768C-4DAA-BBBF-F81261C3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95B87-D806-425F-82F2-46A25A50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D3122-89F3-42B2-BD0F-20CC11E2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A5647-A07D-4D8B-9DF4-72A9573D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B8504-1C89-494E-A164-A1E18723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FFA-43EB-4FF8-906B-2FE1F0C7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BFB22-D19B-4015-8C53-77D8838B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89846-0811-4042-AAEB-8701642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1C5AF-22D4-456F-B533-39D3DAF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77436-B4E7-47E3-8305-293B793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49DBB-6C75-4803-92C7-2FF3A778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5734-9BE5-4656-9BF2-91A07796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7476F-6E29-4987-8A75-3A2B393F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DC17C-83F7-401D-9AFE-AF44A6DE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99AB4-C074-452A-A5BF-59994766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3534A-7B3F-4AA1-8330-F26B4664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248A-E32B-427C-8431-F3E918F48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RT TERM ACTION PLAN ON WATER, SANITATION AND HYGIE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086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HAN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FAUSTINA ALIMATU BRAIMAH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DRAMANI JAMANI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DWARD TEI HERVIE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NAA OBEYE AMMA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potable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sensitization on disease prevention and contr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sensitization on government policies on health and health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sanitary facilities in selected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in disease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up on and support existing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hygiene and sanitation in schools (GSF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health enhances academic perform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hape 16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hape 164"/>
          <p:cNvSpPr/>
          <p:nvPr/>
        </p:nvSpPr>
        <p:spPr>
          <a:xfrm>
            <a:off x="915840" y="23760"/>
            <a:ext cx="540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hape 165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hape 166"/>
          <p:cNvSpPr/>
          <p:nvPr/>
        </p:nvSpPr>
        <p:spPr>
          <a:xfrm>
            <a:off x="930240" y="825480"/>
            <a:ext cx="50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hape 167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47560" y="1238400"/>
          <a:ext cx="7488360" cy="4929120"/>
        </p:xfrm>
        <a:graphic>
          <a:graphicData uri="http://schemas.openxmlformats.org/drawingml/2006/table">
            <a:tbl>
              <a:tblPr/>
              <a:tblGrid>
                <a:gridCol w="1905120"/>
                <a:gridCol w="385920"/>
                <a:gridCol w="1842840"/>
                <a:gridCol w="1040040"/>
                <a:gridCol w="1180800"/>
                <a:gridCol w="1133640"/>
              </a:tblGrid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Nam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Health Education Program (SH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comprehensive health and nutrition education in school-going child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r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of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3760">
                <a:tc gridSpan="2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sensitization, fundraising, government 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, District assemblies and communit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raising commit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5720">
                <a:tc gridSpan="2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writing, mobilization of potential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ies, Departments and Agen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offi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108000" y="674640"/>
          <a:ext cx="8929800" cy="6183360"/>
        </p:xfrm>
        <a:graphic>
          <a:graphicData uri="http://schemas.openxmlformats.org/drawingml/2006/table">
            <a:tbl>
              <a:tblPr/>
              <a:tblGrid>
                <a:gridCol w="2593800"/>
                <a:gridCol w="436680"/>
                <a:gridCol w="2092320"/>
                <a:gridCol w="1179360"/>
                <a:gridCol w="1339920"/>
                <a:gridCol w="1287720"/>
              </a:tblGrid>
              <a:tr h="407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Nam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hensive School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holistic health and skills - based education for school age child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r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of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75800">
                <a:tc gridSpan="2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s for the provision of  water and hand washing facilities in selected sch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tive fundraising activities through Networking, community sensitization, PTA, resources from existing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6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Education Office, District Assemb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and sanitation fund established, hand washing facilities provi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1320">
                <a:tc gridSpan="2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reports and proposals to potential partners and stakeholders .e.g  at District Assembly meetings, informal discussions with potential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coordinators/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 from potential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hape 16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164"/>
          <p:cNvSpPr/>
          <p:nvPr/>
        </p:nvSpPr>
        <p:spPr>
          <a:xfrm>
            <a:off x="915840" y="23760"/>
            <a:ext cx="540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165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66"/>
          <p:cNvSpPr/>
          <p:nvPr/>
        </p:nvSpPr>
        <p:spPr>
          <a:xfrm>
            <a:off x="930240" y="825480"/>
            <a:ext cx="50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167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08000" y="1238400"/>
          <a:ext cx="8929800" cy="4933800"/>
        </p:xfrm>
        <a:graphic>
          <a:graphicData uri="http://schemas.openxmlformats.org/drawingml/2006/table">
            <a:tbl>
              <a:tblPr/>
              <a:tblGrid>
                <a:gridCol w="2593800"/>
                <a:gridCol w="436680"/>
                <a:gridCol w="2092320"/>
                <a:gridCol w="1179360"/>
                <a:gridCol w="1339920"/>
                <a:gridCol w="1287720"/>
              </a:tblGrid>
              <a:tr h="407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Nam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hensive  school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holistic health and skills- based education for school age child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r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of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27920">
                <a:tc gridSpan="2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hygiene education in sch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ise with health promotion units of GHS and SHEP of GES to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fy poster campaig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health teachers, Health promotion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of posters on water and sanitation in schools and communitie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ural change in children (hand washing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hape 16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164"/>
          <p:cNvSpPr/>
          <p:nvPr/>
        </p:nvSpPr>
        <p:spPr>
          <a:xfrm>
            <a:off x="915840" y="23760"/>
            <a:ext cx="540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hape 165"/>
          <p:cNvSpPr/>
          <p:nvPr/>
        </p:nvSpPr>
        <p:spPr>
          <a:xfrm>
            <a:off x="0" y="825480"/>
            <a:ext cx="9144000" cy="41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hape 166"/>
          <p:cNvSpPr/>
          <p:nvPr/>
        </p:nvSpPr>
        <p:spPr>
          <a:xfrm>
            <a:off x="930240" y="825480"/>
            <a:ext cx="50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Sanitation &amp; 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hape 167"/>
          <p:cNvSpPr/>
          <p:nvPr/>
        </p:nvSpPr>
        <p:spPr>
          <a:xfrm>
            <a:off x="19080" y="8254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08000" y="1238400"/>
          <a:ext cx="8929800" cy="5268600"/>
        </p:xfrm>
        <a:graphic>
          <a:graphicData uri="http://schemas.openxmlformats.org/drawingml/2006/table">
            <a:tbl>
              <a:tblPr/>
              <a:tblGrid>
                <a:gridCol w="2593800"/>
                <a:gridCol w="436680"/>
                <a:gridCol w="2092320"/>
                <a:gridCol w="1179360"/>
                <a:gridCol w="1209960"/>
                <a:gridCol w="1417680"/>
              </a:tblGrid>
              <a:tr h="407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Nam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hensive  school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5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holistic health and skills- based education for school age child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gridSpan="6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r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of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62720">
                <a:tc gridSpan="2"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sensit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ise with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efs and opinion leaders (e.g. Assembly members) to hold community durbars, house to house visits, “gong-gong” beating, community radio announcem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,GH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community participation  in school meetings,   Improvement in community con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, we hope to influence Ghanaians to let their health be a concern and actively participate in health pr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h your hands with soap and water at critical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l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NERSHIP FOR CHILD DEVELOPMENT (P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BAI C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IP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ACIPAC-KEM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FACILIT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MEMBERS OF SUN &amp; SAND HO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5:10:40Z</dcterms:created>
  <dc:creator>admin</dc:creator>
  <dc:description/>
  <dc:language>en-US</dc:language>
  <cp:lastModifiedBy>master</cp:lastModifiedBy>
  <dcterms:modified xsi:type="dcterms:W3CDTF">2012-06-28T05:09:09Z</dcterms:modified>
  <cp:revision>38</cp:revision>
  <dc:subject/>
  <dc:title>WATER SANITATION AND NUTRITION</dc:title>
</cp:coreProperties>
</file>