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7B94-3174-44E5-BF8A-7E541E47C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0B0C-306E-4838-B533-4FC3B6361C72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2337-28ED-4C34-806D-2522D482981C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2926-DDD3-44A4-827A-123C6B8AB595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C7C0-EB00-4C33-8553-E59D237A51A2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FE02-1390-4278-934A-954B718953A8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1244-FC02-4943-9461-2D5755597A63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7815-A2B9-41C8-A3E8-2B8A6538630B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BB9F-2D57-4243-A201-EC9724864A8B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kills-based health education is most effective in behaviour change when it is incorporated within a broad-based approach to health and relevant life skills, and when supported by other reinforcing strategies such as school health policies, referrals to external health service providers and community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3D27-123E-4B31-AD25-6940E5D92BB0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22A1-3A6C-4EA2-9545-AD5F673AA86D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A102-3BCF-4F81-BA41-F9B3D5E0ACB4}" type="slidenum">
              <a:rPr b="0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C0B-6C6D-4D1E-A68D-009D310F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CB5-C8F5-4EFE-BB63-25AEB7B4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F40-F146-420E-9F8F-6C095F80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18D-2E7F-4F48-9CBA-3CC29055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908-E50C-443C-9A86-383379B1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3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E84-11A7-4096-9914-338770E1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762-95CF-4CBA-89F2-A6A1ED3B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3E4-7E9C-41D6-BF3B-C4ED2DF6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8E6-3499-427B-A3AB-A67885CF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278-A45F-4B12-B1A1-4D80BF14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070-41E6-4993-ACC1-ACCDB161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528-0C32-4B16-A711-702C6407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28F9-A31B-4AAE-87A0-4237C4F4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3270-D19A-4104-AA37-8D2BD87A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7CC8-A021-4A86-B8A3-EEBA1778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3627-31D4-435D-9B0C-D7752A55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B86F-5A41-4A2F-8C8F-986E2357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3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CD92-63FC-4395-8680-EE3294C1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23F4-5C5A-4EFB-9043-C981B79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BC2E-BAB8-4E5F-A3C3-E8DB2FC6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ADFA-B93E-4538-8B56-AE3B3BF6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5325-FB7D-4630-9673-EC652F9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FCD9-803F-4DF5-86CB-23F8D67B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3BC2-CA3D-45DC-B463-BB90E578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3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" name="Picture 4" descr="LSHTM"/>
          <p:cNvPicPr/>
          <p:nvPr/>
        </p:nvPicPr>
        <p:blipFill>
          <a:blip r:embed="rId3"/>
          <a:stretch/>
        </p:blipFill>
        <p:spPr>
          <a:xfrm>
            <a:off x="7740720" y="260280"/>
            <a:ext cx="1050840" cy="12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Logo-black on white.tif"/>
          <p:cNvPicPr/>
          <p:nvPr/>
        </p:nvPicPr>
        <p:blipFill>
          <a:blip r:embed="rId2"/>
          <a:stretch/>
        </p:blipFill>
        <p:spPr>
          <a:xfrm>
            <a:off x="7715160" y="214200"/>
            <a:ext cx="1054080" cy="1057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b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b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b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F3C4-0291-4DE1-9D09-F24BBB5F112F}" type="slidenum">
              <a:rPr b="0" lang="en-GB" sz="1200" spc="-1" strike="noStrike">
                <a:solidFill>
                  <a:srgbClr val="89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LSHTM"/>
          <p:cNvPicPr/>
          <p:nvPr/>
        </p:nvPicPr>
        <p:blipFill>
          <a:blip r:embed="rId3"/>
          <a:stretch/>
        </p:blipFill>
        <p:spPr>
          <a:xfrm>
            <a:off x="7740720" y="260280"/>
            <a:ext cx="1050840" cy="1224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9CCA-7F11-4A90-9ED8-4C8DB60F45FD}" type="slidenum">
              <a:rPr b="0" lang="en-GB" sz="1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nesco.org/education/fresh" TargetMode="External"/><Relationship Id="rId2" Type="http://schemas.openxmlformats.org/officeDocument/2006/relationships/hyperlink" Target="http://www.rollbackmalaria.org/docs/schoolhealthservices_malaria.pdf" TargetMode="External"/><Relationship Id="rId3" Type="http://schemas.openxmlformats.org/officeDocument/2006/relationships/hyperlink" Target="http://www.child-to-child.org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www.travelwithcare.com/browse.asp?catID=689&amp;prodID=HI005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kills-based health education approach to malaria in school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14280" y="4214520"/>
            <a:ext cx="671544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rengthening Contemporary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chool Health, Nutrition and HIV Prevention Programm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ccra, Ghan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hel Pullan – 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June 201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2058840" y="182520"/>
            <a:ext cx="858600" cy="802800"/>
            <a:chOff x="2058840" y="182520"/>
            <a:chExt cx="858600" cy="802800"/>
          </a:xfrm>
        </p:grpSpPr>
        <p:pic>
          <p:nvPicPr>
            <p:cNvPr id="133" name="Picture 1" descr=""/>
            <p:cNvPicPr/>
            <p:nvPr/>
          </p:nvPicPr>
          <p:blipFill>
            <a:blip r:embed="rId1"/>
            <a:stretch/>
          </p:blipFill>
          <p:spPr>
            <a:xfrm>
              <a:off x="2058840" y="182520"/>
              <a:ext cx="637200" cy="60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7"/>
            <p:cNvSpPr/>
            <p:nvPr/>
          </p:nvSpPr>
          <p:spPr>
            <a:xfrm>
              <a:off x="2148120" y="788040"/>
              <a:ext cx="769320" cy="1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99"/>
                  </a:solidFill>
                  <a:latin typeface="Calibri"/>
                </a:rPr>
                <a:t>NNIMR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32228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9" descr=""/>
          <p:cNvPicPr/>
          <p:nvPr/>
        </p:nvPicPr>
        <p:blipFill>
          <a:blip r:embed="rId3"/>
          <a:stretch/>
        </p:blipFill>
        <p:spPr>
          <a:xfrm>
            <a:off x="3349800" y="182520"/>
            <a:ext cx="1323720" cy="65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esa584"/>
          <p:cNvPicPr/>
          <p:nvPr/>
        </p:nvPicPr>
        <p:blipFill>
          <a:blip r:embed="rId4"/>
          <a:stretch/>
        </p:blipFill>
        <p:spPr>
          <a:xfrm>
            <a:off x="5186520" y="182520"/>
            <a:ext cx="73656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Component 2: Doing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Calibri"/>
              </a:rPr>
              <a:t>Children should </a:t>
            </a:r>
            <a:r>
              <a:rPr b="1" lang="en-US" sz="2500" spc="-1" strike="noStrike">
                <a:solidFill>
                  <a:srgbClr val="000099"/>
                </a:solidFill>
                <a:latin typeface="Calibri"/>
              </a:rPr>
              <a:t>be able to</a:t>
            </a:r>
            <a:r>
              <a:rPr b="0" lang="en-US" sz="2500" spc="-1" strike="noStrike">
                <a:solidFill>
                  <a:srgbClr val="000099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Help in preventing mosquitoes breeding (draining of stagnant water)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Help in prevent mosquitoes from biting (make sure that younger children use mosquito nets properly)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Call attention to other children with fever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Ensure that  other children &amp; family members take full course of treatment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Look after children with fever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</p:txBody>
      </p:sp>
      <p:pic>
        <p:nvPicPr>
          <p:cNvPr id="161" name="Picture 7" descr="Malaria-Forschung©B001"/>
          <p:cNvPicPr/>
          <p:nvPr/>
        </p:nvPicPr>
        <p:blipFill>
          <a:blip r:embed="rId1"/>
          <a:stretch/>
        </p:blipFill>
        <p:spPr>
          <a:xfrm>
            <a:off x="6429240" y="5072040"/>
            <a:ext cx="2401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Component 3: Attitude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Children should </a:t>
            </a:r>
            <a:r>
              <a:rPr b="1" lang="en-GB" sz="2500" spc="-1" strike="noStrike">
                <a:solidFill>
                  <a:srgbClr val="000099"/>
                </a:solidFill>
                <a:latin typeface="Calibri"/>
              </a:rPr>
              <a:t>feel</a:t>
            </a: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Confident about spreading messages about malaria control to their families &amp; community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That they share the responsibility with the rest of the community for stopping mosquito breeding &amp; biting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5429160" y="4125960"/>
            <a:ext cx="3519720" cy="264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357120" y="4643280"/>
            <a:ext cx="47703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Resources and activities for skills building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Resource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2" marL="1330200" indent="-44316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Posters, story books, flip charts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2" marL="1330200" indent="-44316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Real Objects (mosquitoes, nets)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2" marL="1330200" indent="-44316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Experts (health workers, trainers)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2" marL="1330200" indent="-443160">
              <a:spcBef>
                <a:spcPts val="624"/>
              </a:spcBef>
              <a:buClr>
                <a:srgbClr val="1bb3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43160" indent="-44316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Activities: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2" marL="1330200" indent="-44316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Identifying and clearing mosquito breeding sites 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2" marL="1330200" indent="-44316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Song, drama, recitals, poems and skits 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2" marL="1330200" indent="-44316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Drawing/painting, essay competitions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2" marL="1330200" indent="-443160">
              <a:spcBef>
                <a:spcPts val="1250"/>
              </a:spcBef>
              <a:buClr>
                <a:srgbClr val="1bb3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Active participation in Africa Malaria Day, Day of the African Child, World Health Day etc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Integrating health learning across the curriculum….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Can significantly support the learning that takes place in a health class and vice versa. 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alibri"/>
              </a:rPr>
              <a:t>Opportunities</a:t>
            </a: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SCIENCE - finding out how mosquitos breed and how to prevent them breeding; 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MATHS - 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</a:rPr>
              <a:t>make graphs of malaria trends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</a:rPr>
              <a:t>ART – create a storyboard/flip char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t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</a:rPr>
              <a:t>LANGUAGE – grammar lessons using malaria examples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Examples and success stori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Recent successful programmes in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Ghana, Kenya, Lao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PDR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and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Thailand</a:t>
            </a: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c00000"/>
                </a:solidFill>
                <a:latin typeface="Calibri"/>
              </a:rPr>
              <a:t>Teacher training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Malaria related information, introduction to participatory learning techniques, strategies for effective implementation, development of action plans</a:t>
            </a: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c00000"/>
                </a:solidFill>
                <a:latin typeface="Calibri"/>
              </a:rPr>
              <a:t>Class work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Lessons using picture charts and posters, flipcharts,  dramas and skits, songs and slogans</a:t>
            </a: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c00000"/>
                </a:solidFill>
                <a:latin typeface="Calibri"/>
              </a:rPr>
              <a:t>Campaign day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Involving school children, community members, health professionals</a:t>
            </a: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Activities such as net dipping and hanging demonstrations</a:t>
            </a: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c00000"/>
                </a:solidFill>
                <a:latin typeface="Calibri"/>
              </a:rPr>
              <a:t>Results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Improvements in knowledge and behaviours of school children and community members</a:t>
            </a: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Reductions in malaria parasite prevalence</a:t>
            </a: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Developing material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Skills-based health education should: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address both prevention and treatment of malaria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build on existing beliefs and practices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be age appropriate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should aim to empower both girls and boys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  <p:grpSp>
        <p:nvGrpSpPr>
          <p:cNvPr id="176" name="Group 17"/>
          <p:cNvGrpSpPr/>
          <p:nvPr/>
        </p:nvGrpSpPr>
        <p:grpSpPr>
          <a:xfrm>
            <a:off x="3143160" y="4714920"/>
            <a:ext cx="2895480" cy="1866600"/>
            <a:chOff x="3143160" y="4714920"/>
            <a:chExt cx="2895480" cy="1866600"/>
          </a:xfrm>
        </p:grpSpPr>
        <p:pic>
          <p:nvPicPr>
            <p:cNvPr id="177" name="Picture 14" descr="antimalaria2"/>
            <p:cNvPicPr/>
            <p:nvPr/>
          </p:nvPicPr>
          <p:blipFill>
            <a:blip r:embed="rId1"/>
            <a:stretch/>
          </p:blipFill>
          <p:spPr>
            <a:xfrm>
              <a:off x="4910400" y="4714920"/>
              <a:ext cx="112824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5" descr="antimalaria1"/>
            <p:cNvPicPr/>
            <p:nvPr/>
          </p:nvPicPr>
          <p:blipFill>
            <a:blip r:embed="rId2"/>
            <a:stretch/>
          </p:blipFill>
          <p:spPr>
            <a:xfrm>
              <a:off x="4910400" y="5614560"/>
              <a:ext cx="1128240" cy="9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6" descr="antimalaria3"/>
            <p:cNvPicPr/>
            <p:nvPr/>
          </p:nvPicPr>
          <p:blipFill>
            <a:blip r:embed="rId3"/>
            <a:stretch/>
          </p:blipFill>
          <p:spPr>
            <a:xfrm>
              <a:off x="3143160" y="4716360"/>
              <a:ext cx="1767240" cy="18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Picture 6" descr=""/>
          <p:cNvPicPr/>
          <p:nvPr/>
        </p:nvPicPr>
        <p:blipFill>
          <a:blip r:embed="rId4"/>
          <a:stretch/>
        </p:blipFill>
        <p:spPr>
          <a:xfrm>
            <a:off x="571680" y="5000760"/>
            <a:ext cx="2143080" cy="1385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" descr=""/>
          <p:cNvPicPr/>
          <p:nvPr/>
        </p:nvPicPr>
        <p:blipFill>
          <a:blip r:embed="rId5"/>
          <a:stretch/>
        </p:blipFill>
        <p:spPr>
          <a:xfrm>
            <a:off x="6500880" y="500076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Developing material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</a:rPr>
              <a:t>Some additional points to keep in mind:</a:t>
            </a:r>
            <a:endParaRPr b="0" lang="en-US" sz="23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</a:rPr>
              <a:t>Pay attention to message design </a:t>
            </a:r>
            <a:endParaRPr b="0" lang="en-US" sz="23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Calibri"/>
              </a:rPr>
              <a:t>(clear, age-suitable, attractive, credible) </a:t>
            </a:r>
            <a:endParaRPr b="0" lang="en-US" sz="23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</a:rPr>
              <a:t>Remember that our perceptions may be different from those of the target group</a:t>
            </a:r>
            <a:endParaRPr b="0" lang="en-US" sz="23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</a:rPr>
              <a:t>Don’t assume that the target group knows nothing on the subject matter </a:t>
            </a:r>
            <a:endParaRPr b="0" lang="en-US" sz="23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Calibri"/>
              </a:rPr>
              <a:t>(Learners bring many things with them when they come to school: their language, culture, and experiences). </a:t>
            </a:r>
            <a:endParaRPr b="0" lang="en-US" sz="23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</a:rPr>
              <a:t>Target groups (pupils and teachers) should be involved in the developing of the learning materials </a:t>
            </a:r>
            <a:endParaRPr b="0" lang="en-US" sz="23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Thank you for listening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Additional resources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"/>
              </a:rPr>
              <a:t>Malaria skills-based health education tool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unesco.org/education/fresh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"/>
              </a:rPr>
              <a:t>A review of key concepts and examples of best practi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ollbackmalaria.org/docs/schoolhealthservices_malaria.pd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"/>
              </a:rPr>
              <a:t>Child-to-Child (CtC) framework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hild-to-child.or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071800" y="5857920"/>
            <a:ext cx="858240" cy="802800"/>
            <a:chOff x="2071800" y="5857920"/>
            <a:chExt cx="858240" cy="802800"/>
          </a:xfrm>
        </p:grpSpPr>
        <p:pic>
          <p:nvPicPr>
            <p:cNvPr id="186" name="Picture 1" descr=""/>
            <p:cNvPicPr/>
            <p:nvPr/>
          </p:nvPicPr>
          <p:blipFill>
            <a:blip r:embed="rId4"/>
            <a:stretch/>
          </p:blipFill>
          <p:spPr>
            <a:xfrm>
              <a:off x="2071800" y="5857920"/>
              <a:ext cx="636840" cy="60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7"/>
            <p:cNvSpPr/>
            <p:nvPr/>
          </p:nvSpPr>
          <p:spPr>
            <a:xfrm>
              <a:off x="2161080" y="6463440"/>
              <a:ext cx="768960" cy="1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99"/>
                  </a:solidFill>
                  <a:latin typeface="Calibri"/>
                </a:rPr>
                <a:t>NNIMR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5"/>
          <a:stretch/>
        </p:blipFill>
        <p:spPr>
          <a:xfrm>
            <a:off x="155520" y="6032520"/>
            <a:ext cx="1322280" cy="34128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5" descr=""/>
          <p:cNvPicPr/>
          <p:nvPr/>
        </p:nvPicPr>
        <p:blipFill>
          <a:blip r:embed="rId6"/>
          <a:stretch/>
        </p:blipFill>
        <p:spPr>
          <a:xfrm>
            <a:off x="3362400" y="5857920"/>
            <a:ext cx="1324080" cy="657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7" descr="esa584"/>
          <p:cNvPicPr/>
          <p:nvPr/>
        </p:nvPicPr>
        <p:blipFill>
          <a:blip r:embed="rId7"/>
          <a:stretch/>
        </p:blipFill>
        <p:spPr>
          <a:xfrm>
            <a:off x="5199120" y="5857920"/>
            <a:ext cx="73656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What is skills-based health education?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Calibri"/>
              </a:rPr>
              <a:t>Skills-based health education is being adopted as a means of empowering young people to face challenging situations in life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Calibri"/>
              </a:rPr>
              <a:t>An </a:t>
            </a:r>
            <a:r>
              <a:rPr b="1" lang="en-US" sz="2500" spc="-1" strike="noStrike" u="sng">
                <a:solidFill>
                  <a:srgbClr val="000099"/>
                </a:solidFill>
                <a:uFillTx/>
                <a:latin typeface="Calibri"/>
              </a:rPr>
              <a:t>interactive</a:t>
            </a:r>
            <a:r>
              <a:rPr b="0" lang="en-US" sz="2500" spc="-1" strike="noStrike">
                <a:solidFill>
                  <a:srgbClr val="000099"/>
                </a:solidFill>
                <a:latin typeface="Calibri"/>
              </a:rPr>
              <a:t> process of teaching and learning, which enables children to acquire knowledge and to develop attitudes and skills which support the adoption of healthy behaviours. 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There is now increasing evidence that </a:t>
            </a:r>
            <a:r>
              <a:rPr b="1" lang="en-GB" sz="2500" spc="-1" strike="noStrike" u="sng">
                <a:solidFill>
                  <a:srgbClr val="000099"/>
                </a:solidFill>
                <a:uFillTx/>
                <a:latin typeface="Calibri"/>
              </a:rPr>
              <a:t>a skills-based approach to health education works</a:t>
            </a: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, and is more effective than teaching knowledge alone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What is skills-based health education?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The skills-based approach: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 lvl="1" marL="683280" indent="-262800">
              <a:spcBef>
                <a:spcPts val="6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Extends traditional teaching methods to encourage children to think and learn by themselves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 lvl="1" marL="683280" indent="-262800">
              <a:spcBef>
                <a:spcPts val="6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Uses student-centred, </a:t>
            </a:r>
            <a:r>
              <a:rPr b="1" lang="en-GB" sz="2500" spc="-1" strike="noStrike" u="sng">
                <a:solidFill>
                  <a:srgbClr val="000099"/>
                </a:solidFill>
                <a:uFillTx/>
                <a:latin typeface="Calibri"/>
              </a:rPr>
              <a:t>action</a:t>
            </a: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-oriented and </a:t>
            </a:r>
            <a:r>
              <a:rPr b="1" lang="en-GB" sz="2500" spc="-1" strike="noStrike" u="sng">
                <a:solidFill>
                  <a:srgbClr val="000099"/>
                </a:solidFill>
                <a:uFillTx/>
                <a:latin typeface="Calibri"/>
              </a:rPr>
              <a:t>participatory</a:t>
            </a: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 methodologies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lvl="2" marL="1051560" indent="-210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Calibri"/>
              </a:rPr>
              <a:t>Drama, slogans, songs, drawing, role-play, community work….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alibri"/>
            </a:endParaRPr>
          </a:p>
          <a:p>
            <a:pPr lvl="1" marL="683280" indent="-262800">
              <a:spcBef>
                <a:spcPts val="6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focuses upon the development of 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lvl="2" marL="1051560" indent="-210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Calibri"/>
              </a:rPr>
              <a:t>Knowledge</a:t>
            </a: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,</a:t>
            </a:r>
            <a:r>
              <a:rPr b="1" lang="en-GB" sz="2500" spc="-1" strike="noStrike">
                <a:solidFill>
                  <a:srgbClr val="000099"/>
                </a:solidFill>
                <a:latin typeface="Calibri"/>
              </a:rPr>
              <a:t> Attitudes</a:t>
            </a: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,</a:t>
            </a:r>
            <a:r>
              <a:rPr b="1" lang="en-GB" sz="2500" spc="-1" strike="noStrike">
                <a:solidFill>
                  <a:srgbClr val="000099"/>
                </a:solidFill>
                <a:latin typeface="Calibri"/>
              </a:rPr>
              <a:t> Values</a:t>
            </a: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, and </a:t>
            </a:r>
            <a:r>
              <a:rPr b="1" lang="en-GB" sz="2500" spc="-1" strike="noStrike">
                <a:solidFill>
                  <a:srgbClr val="000099"/>
                </a:solidFill>
                <a:latin typeface="Calibri"/>
              </a:rPr>
              <a:t>Skills 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lvl="1" marL="683280" indent="-262800">
              <a:spcBef>
                <a:spcPts val="6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99"/>
                </a:solidFill>
                <a:latin typeface="Calibri"/>
              </a:rPr>
              <a:t>Schoolchildren as health change agents…</a:t>
            </a:r>
            <a:endParaRPr b="0" lang="en-US" sz="38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Skills-based education through schools can help promote community-wide understanding of malaria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Action-oriented and participatory learning can engage school children to reach community adults with health messages and hygienic practices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Potential should be seen in the context of the social environment (home, school, community; power and knowledge hierarchies)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Skills-based health education is most effective where it is supported by other reinforcing strategies. 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071800" y="1071720"/>
            <a:ext cx="4432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99"/>
                </a:solidFill>
                <a:latin typeface="Calibri"/>
              </a:rPr>
              <a:t>Knowledge</a:t>
            </a:r>
            <a:endParaRPr b="0" lang="en-US" sz="3800" spc="-1" strike="noStrike">
              <a:solidFill>
                <a:srgbClr val="000099"/>
              </a:solidFill>
              <a:latin typeface="Calibri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99"/>
                </a:solidFill>
                <a:latin typeface="Calibri"/>
              </a:rPr>
              <a:t>Skills</a:t>
            </a:r>
            <a:endParaRPr b="0" lang="en-US" sz="3800" spc="-1" strike="noStrike">
              <a:solidFill>
                <a:srgbClr val="000099"/>
              </a:solidFill>
              <a:latin typeface="Calibri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99"/>
                </a:solidFill>
                <a:latin typeface="Calibri"/>
              </a:rPr>
              <a:t>Attitude </a:t>
            </a:r>
            <a:endParaRPr b="0" lang="en-US" sz="3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Component 1: Knowledge </a:t>
            </a: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Calibri"/>
              </a:rPr>
              <a:t>Children should know: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Malaria is a serious disease and kills people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Young children &amp; pregnant women particularly vulnerable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Malaria is spread by mosquitoes that breed in stagnant water &amp; bite at night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How to help prevent mosquito breeding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How to stop mosquitoes from biting people (ITNs)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</p:txBody>
      </p:sp>
      <p:pic>
        <p:nvPicPr>
          <p:cNvPr id="151" name="Picture 5" descr="mosquito_net1"/>
          <p:cNvPicPr/>
          <p:nvPr/>
        </p:nvPicPr>
        <p:blipFill>
          <a:blip r:embed="rId1"/>
          <a:stretch/>
        </p:blipFill>
        <p:spPr>
          <a:xfrm>
            <a:off x="6786720" y="4572000"/>
            <a:ext cx="1689120" cy="1905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Insect_Repel2">
            <a:hlinkClick r:id="rId2"/>
          </p:cNvPr>
          <p:cNvPicPr/>
          <p:nvPr/>
        </p:nvPicPr>
        <p:blipFill>
          <a:blip r:embed="rId3"/>
          <a:stretch/>
        </p:blipFill>
        <p:spPr>
          <a:xfrm rot="417600">
            <a:off x="66240" y="5648400"/>
            <a:ext cx="838440" cy="116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"/>
          <p:cNvPicPr/>
          <p:nvPr/>
        </p:nvPicPr>
        <p:blipFill>
          <a:blip r:embed="rId4"/>
          <a:stretch/>
        </p:blipFill>
        <p:spPr>
          <a:xfrm>
            <a:off x="6072120" y="1214280"/>
            <a:ext cx="14288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Component 1: Knowledge</a:t>
            </a: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Calibri"/>
              </a:rPr>
              <a:t>Children should</a:t>
            </a:r>
            <a:r>
              <a:rPr b="1" lang="en-US" sz="2500" spc="-1" strike="noStrike">
                <a:solidFill>
                  <a:srgbClr val="000099"/>
                </a:solidFill>
                <a:latin typeface="Calibri"/>
              </a:rPr>
              <a:t> know</a:t>
            </a:r>
            <a:r>
              <a:rPr b="0" lang="en-US" sz="2500" spc="-1" strike="noStrike">
                <a:solidFill>
                  <a:srgbClr val="000099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That treatment for malaria drugs should be given immediately &amp; delay can lead to complications or death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It’s important to complete medication (compliance is key in ACT-not single dose)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Children with fever need plenty of drinks to replace water &amp; salt lost though sweating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1bb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Children with fever need to be kept cool, but not cold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000920" y="4143240"/>
            <a:ext cx="18097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Key strategi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Education should be consistent with malaria control strategy of the Ministry of Health.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alibri"/>
              </a:rPr>
              <a:t>Focus on a few key strategies:</a:t>
            </a:r>
            <a:endParaRPr b="0" lang="en-US" sz="2500" spc="-1" strike="noStrike">
              <a:solidFill>
                <a:srgbClr val="000099"/>
              </a:solidFill>
              <a:latin typeface="Calibri"/>
            </a:endParaRPr>
          </a:p>
          <a:p>
            <a:pPr marL="329040" indent="-32904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Calibri"/>
              </a:rPr>
              <a:t>Clinical management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: early recognition of signs and symptoms, when to report to health facilities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Calibri"/>
              </a:rPr>
              <a:t>LLINs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: promotion of LLIN use, including by priority groups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Calibri"/>
              </a:rPr>
              <a:t>Malaria in pregnancy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: promotion of access to LLIN and IPT with SP for pregnant school girls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Calibri"/>
              </a:rPr>
              <a:t>Epidemic preparedness and response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: Need, purpose, method and timing of community-wide IRS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3:05:40Z</dcterms:created>
  <dc:creator/>
  <dc:description/>
  <dc:language>en-US</dc:language>
  <cp:lastModifiedBy>Francis Peel</cp:lastModifiedBy>
  <dcterms:modified xsi:type="dcterms:W3CDTF">2010-08-06T15:35:32Z</dcterms:modified>
  <cp:revision>55</cp:revision>
  <dc:subject/>
  <dc:title>LSHTM</dc:title>
</cp:coreProperties>
</file>