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8E85-1959-4716-A8E1-091871C18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EA1E-C7AB-4614-BF3B-316F6DC61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E455-34C3-43DA-8FD6-E1A19DE07C1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24A6-629C-4A54-BCF6-E2DB655C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EF3E-F273-440D-A71B-17C66E1C20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4CFC-03CF-493D-B20E-2AA2619BC0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9011-E921-47E6-9ED1-9CB436C32E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6407-4AFF-44CD-A665-9042A9502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5B98-4FE7-44EF-A49B-D816F1B61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E64E-86EC-496F-AEAE-94FE5D37A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14BC-7762-4BDD-8148-C5E90B58955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92F8-8143-44F7-BC20-9FE5CBE5C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AFFF-4797-4C07-9EE7-AEED4355A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C3E4-7F0C-4F50-AD09-507E2CF7826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8E50-EC43-4D77-AC36-878AFD812D8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4469-0E16-4BFB-905C-9C5553C7B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DE88-5B20-4B13-9BE4-98BB4166D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88F3-8441-47B7-9B0B-92493F1B7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9BC6-A46D-4887-8E38-ED24CEC9C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2F99-8402-48BB-AB23-34C23325A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E587-1DB4-4750-A768-AD5E99A2A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A6CC-1CD7-4DA9-BC12-C4C49314E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7EBE-D8CA-4BC8-9A12-8103FFDB1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D620-017D-432B-B0D2-3A40ED1244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218B-9D98-4788-B7D6-AE2A9DD2E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F2D5-BE63-4E95-AD3D-0CB03CFD0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504C-1D71-4114-8A16-397D899E9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6FD-1A67-4159-9FB3-6329F46E9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6794-B298-4D76-AD16-164DA7444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8D9A-5855-4BAC-B133-4B607CD30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67D6-AD68-4B4C-B294-F291E19AD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60000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60000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60000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60000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076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60000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60000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076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60000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39920" y="360000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1240" y="360000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3D9-F392-405C-A46D-44883252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C3D-C446-43B3-A1BB-6D741999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024-A2D4-4156-A380-6A1C244D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7CE-3112-4508-B9DD-51E38DD9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00E-3F0E-497C-B7D2-DCC63D31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492-A1E4-4A3D-8A92-885B50FC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60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086-E301-4F48-94BE-E47F392C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4076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063-2B6A-4FDA-B89F-1E816FF8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0000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871-D4F9-4827-8104-31EBB05C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8600" y="360000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C3A-F0BE-42B2-819B-F82613C0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4076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D4E-A341-4098-AEBE-97A561DB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228600" y="360000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39920" y="360000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51240" y="360000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4F5-CE77-4467-BF21-08C40831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60000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0000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438120" y="1905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4"/>
          <p:cNvSpPr/>
          <p:nvPr/>
        </p:nvSpPr>
        <p:spPr>
          <a:xfrm>
            <a:off x="438120" y="1905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6553080" y="6075360"/>
            <a:ext cx="2319480" cy="63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438120" y="1905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0B8D-0AB7-402A-8E52-4BD317EE4B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76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engthening Contemporary School Health, Nutrition and HIV Prevention Programm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6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Annual Course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s-Based  HIV/AIDS Prevention Program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ara O’Conn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cra, G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une 11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Attitudes and Val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y for personal, family and community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onfidence to change unhealthy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and support of infected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of stigma and 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Behavi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Behavio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nslation of knowledge into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9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 you change Behavior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variety of different activities are required in order to enable behaviour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ing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quisition of lif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isation through discussion of other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 you change Behavior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32372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s radically different teaching sty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ory, child cent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“chalk and tal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cations for teacher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cations for existing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suring aquisition of Lif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fe Skil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371240"/>
            <a:ext cx="86104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4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ments of a Life Skills progra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Isosceles Triangle 3"/>
          <p:cNvSpPr/>
          <p:nvPr/>
        </p:nvSpPr>
        <p:spPr>
          <a:xfrm>
            <a:off x="1219320" y="1371600"/>
            <a:ext cx="6858000" cy="5105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5"/>
          <p:cNvSpPr/>
          <p:nvPr/>
        </p:nvSpPr>
        <p:spPr>
          <a:xfrm>
            <a:off x="3124080" y="403848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7"/>
          <p:cNvSpPr/>
          <p:nvPr/>
        </p:nvSpPr>
        <p:spPr>
          <a:xfrm flipV="1">
            <a:off x="4648320" y="411444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9"/>
          <p:cNvSpPr/>
          <p:nvPr/>
        </p:nvSpPr>
        <p:spPr>
          <a:xfrm>
            <a:off x="4676760" y="47577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3200400" y="2971800"/>
            <a:ext cx="27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ills 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Ski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gnitive Ski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otional Coping Ski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2286000" y="5221440"/>
            <a:ext cx="236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al Cont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the personal, social and health tasks of adolesc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4419720" y="51958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active Teaching Methodolog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Life Skills: Categories of Skills Develop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40004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aturdaySansICG"/>
              </a:rPr>
              <a:t>Social or interpersonal skills, including communication, negotiation/refusal skills, assertiveness, cooperation, empa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aturdaySansICG"/>
              </a:rPr>
              <a:t>Cognitive skills, including problem solving, understanding consequences, decision making, critical thinking, self-e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aturdaySansICG"/>
              </a:rPr>
              <a:t>Emotional coping skills, including managing stress, managing feelings, self-management, and self monito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ills: Categories of Life Skil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9640" y="1009800"/>
          <a:ext cx="8229600" cy="5608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OCIAL SKIL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OGNITIVE SKIL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MOTIONAL COPING SKIL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 skill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making/problem solving skill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ing stres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tiation/refusal skill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standing the consequences of act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ing feelings, including ang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iveness skill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ing alternative solutions to problem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 for increasing internal locus of control (self‑management, self-monitoring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ersonal skills (for developing healthy relationships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 thinking skill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on skill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ing peer and media influenc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athy and perspective takin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ing one’s perceptions of social norms and belief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 evaluation and values clarif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Life Skills can do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v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igh-risk sexual behavi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rove health-related behaviors and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mote posi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ocial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ademic perform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v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eer rej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cusing Resources on Effective School Health (FRESH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Core Pill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health and nutrition related school policies that provide a non-discriminatory, safe and secure environ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School Environme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access to safe water, and provision of separate sanitation facilities for girls and boy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ealth Educat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skills-based education that addresses health, nutrition and HIV and AIDS prevention, and promotes positive behavio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ealthServic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simple, safe and familiar health and nutrition services that can be delivered cost-effectively in schools (such as deworming, micronutrient supplements, and snacks that avoid hunger), and increased access to child- and youth-friendly clinic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What Life Skills are NO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ame for HIV/AIDS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ame for sex education, abstinence education or condom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lihoo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set of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havi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74600"/>
            <a:ext cx="88394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fe Skills: Interactive Teaching Method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414080"/>
            <a:ext cx="422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s/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-mapping/body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(e.g. interviewing parents; buying condoms in pharma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Media Cont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ation and trust build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s/De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/audio-visual triggered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pl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103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untry-level Examples of Skills-Based HIV/AIDS Education in Operatio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2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Zimbabwe - AIDS Action Program for Schoo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600" y="1211400"/>
            <a:ext cx="8610480" cy="541800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1992 the Ministry of Education and Culture initiated a Life Skills education program, in collaboration with UNIC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med at students and teachers in grades 4-7 in all primary schools, and in grades 1-6 in all secondary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med to develop pupils’ life skills such as problem solving, informed decision making and avoidance of risky behavior, using participatory and experiential teaching and learn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 2000 teachers trained (using pre-service and a cascade model of in-service training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 taught in over 6000 schools, with equal status as other curriculum 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ing textbooks and teaching materials have been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 has the full support of Government and other influential groups such as Church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vel of teacher training, skills, experience and conf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tawe, 1995; Gachuhi,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Vietnam – HIV/AIDS Preven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" y="6458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kills based HIV/AIDS prevention project was implemented by Vietnam Ministry of Education and Training (MOET) in 1997 with support from UNIC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al: Equip young people with the information and skills needed to make often difficult decisions that would allow them to lead healthy lives, especially in relation to HIV/AIDS/STD risk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lot life skills teaching approach was implemented in schools, with teachers being trained and supported in skills based health education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us on student knowledge, attitudes, values and behaviors – with an anticipated outcome that the program would also have a positive impact on teaching staff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d knowledge of HIV/AIDS and its transmission, and increased knowledge of how to avoid infection, improved tolerance and improved decision making skills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chers had improved level of knowledge and found that the interactional teaching techniques were a great improvement over more traditional didactic methods.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d confidence, knowledge and abilities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AIDS,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ma Peru – HIV/AIDS prevention in secondary schoo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lls based education program on sexuality and HIV/AIDS prevention was undertaken in 14 schools focusing on Social Learning Theory and constructs of machismo and openness towards sexuality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ven weekly two hour sessions, which included discussions, verbal exercises, role playing, familiarization with condoms/contraceptives and lectures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mework promoting interaction with family, friends and local health institutions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ined teachers from the schools facilitated the program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ificant changes in knowledge on sexuality and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d openness towards sexualit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d acceptance of contra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d tolerance of people with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d prevention orientated behavi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ceres et al., 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" y="26665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0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 Focus o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kills Based HIV/AIDS Educatio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IV Prevalence Globall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percent, 15 – 49 years, 200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2" descr="tara"/>
          <p:cNvPicPr/>
          <p:nvPr/>
        </p:nvPicPr>
        <p:blipFill>
          <a:blip r:embed="rId1"/>
          <a:stretch/>
        </p:blipFill>
        <p:spPr>
          <a:xfrm>
            <a:off x="177840" y="1292400"/>
            <a:ext cx="877716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IV Prevalence in Africa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percent, 15 – 49 years, 200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828800" y="17208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828800" y="17208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685800" y="1766880"/>
            <a:ext cx="777240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e of the main vehicles for HIV prevention education, especially for School Age Children (SAC), is Skills-Based HIV/AIDS Educ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38088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0" y="65530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UNAI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2913120" y="228600"/>
            <a:ext cx="6095520" cy="6248160"/>
            <a:chOff x="2913120" y="228600"/>
            <a:chExt cx="6095520" cy="6248160"/>
          </a:xfrm>
        </p:grpSpPr>
        <p:graphicFrame>
          <p:nvGraphicFramePr>
            <p:cNvPr id="194" name="Object 5"/>
            <p:cNvGraphicFramePr/>
            <p:nvPr/>
          </p:nvGraphicFramePr>
          <p:xfrm>
            <a:off x="2913120" y="3303720"/>
            <a:ext cx="6081120" cy="3173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3120" y="3303720"/>
                      <a:ext cx="6081120" cy="31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6"/>
            <p:cNvGraphicFramePr/>
            <p:nvPr/>
          </p:nvGraphicFramePr>
          <p:xfrm>
            <a:off x="2913120" y="228600"/>
            <a:ext cx="6095520" cy="3184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3120" y="228600"/>
                      <a:ext cx="6095520" cy="318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8" name="Rectangle 7"/>
          <p:cNvSpPr/>
          <p:nvPr/>
        </p:nvSpPr>
        <p:spPr>
          <a:xfrm>
            <a:off x="130320" y="1171440"/>
            <a:ext cx="28954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ost School Aged Children 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Uninfec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705720" y="6019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5"/>
          <a:stretch/>
        </p:blipFill>
        <p:spPr>
          <a:xfrm>
            <a:off x="6858000" y="6172200"/>
            <a:ext cx="1216080" cy="2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rcRect l="2082" t="9944" r="4170" b="0"/>
          <a:stretch/>
        </p:blipFill>
        <p:spPr>
          <a:xfrm>
            <a:off x="369720" y="1422360"/>
            <a:ext cx="8426520" cy="50878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971640" y="260280"/>
            <a:ext cx="72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79200" y="106200"/>
            <a:ext cx="899172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Education and Prevalence R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HIV prevalence by education category, Rural Uganda,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1990-2001.  Individuals aged 18-2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108400" y="654192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Walque and J Whitworth, MRC Uganda (200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7057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 Focus on Skills Based HIV/AIDS Educatio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5318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knowledge and facts alone is not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aged children and youth also need to develop the skills necessary to affect behavior ch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information and messages  alone does not change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systems present an established and efficient means through which to reach school aged children and youth with information and training in Skills-Based HIV/AIDS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es Skills-Based HIV/AIDS Education Work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6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randomized controlled trial  conducted in primary schools in Western Kenya to evaluate a campaign focusing on the risks of cross-generational s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-minute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minute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gram was successful in reducing cross-generational s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% decrease in the number of pregnancies with adult fathers in the experimental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crease in pregnancies by same-age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Elements contributing to effectivenes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ear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behavior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te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pas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42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es Skills-Based HIV/AIDS Education Work?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600" y="1211400"/>
            <a:ext cx="8610480" cy="541800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1992 in Zimbabwe the Ministry of Education and Culture initiated a Life Skills education program, in collaboration with UNICEF called Zimbabwe - AIDS Action Program for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med at students and teachers in grades 4-7 in all primary schools, and in grades 1-6 in all secondary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med to develop pupils’ life skills such as problem solving, informed decision making and avoidance of risky behavior, using participatory and experiential teaching and learn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 2000 teachers trained (using pre-service and a cascade model of in-service training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 taught in over 6000 schools, with equal status as other curriculum 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ing textbooks and teaching materials have been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 has the full support of Government and other influential groups such as Church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vel of teacher training, skills, experience and conf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tawe, 1995; Gachuhi,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is Skills-Based HIV/AIDS Education Implemented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187280"/>
            <a:ext cx="8610480" cy="567072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Development around primary targe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s Meetings/Consul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, nutrition and educ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ve Schoo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Sens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Training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to Teachers in Lif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7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llenges to Implementatio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llenges to Implementatio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Training: overloading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Motivation: Vocation vs. Stepping 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Sens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/Religious Teachings/Tabo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1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to Overcome Challenges to Implementatio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2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onitoring and Evaluation of Skills-Based HIV/AIDS Prevention Program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programs “work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an programs be enabled to “work”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95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Skills-Based HIV/AIDS Educatio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28600" y="25146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lm: Window of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Skills-Based HIV/AIDS Educatio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38240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kills-based HIV/AIDS Edu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combination of learning experiences that aims to develop knowledge, attitudes, value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pecially ski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including life skill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to make and act on the most appropriate and positive health-related decis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on traditional methods of teaching about health, which tend to be knowledge-based and didactic in approa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s student-centered and participatory method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” includes psycho-social and environmental health issu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Elements of Skills-Based HIV/AIDS Educ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1457280"/>
            <a:ext cx="8610480" cy="501984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-Based HIV/AIDS Education should promot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 an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(especially Life Ski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nowled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1371240"/>
            <a:ext cx="86104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nowled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9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ce of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ce of seeking appropriate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 aroun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ttitudes and Val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371240"/>
            <a:ext cx="86104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4:42:45Z</dcterms:created>
  <dc:creator>GUENET</dc:creator>
  <dc:description/>
  <dc:language>en-US</dc:language>
  <cp:lastModifiedBy>Francis Peel</cp:lastModifiedBy>
  <cp:lastPrinted>2004-01-14T13:38:30Z</cp:lastPrinted>
  <dcterms:modified xsi:type="dcterms:W3CDTF">2010-08-06T15:36:38Z</dcterms:modified>
  <cp:revision>173</cp:revision>
  <dc:subject/>
  <dc:title>Slide 1</dc:title>
</cp:coreProperties>
</file>