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DEE-A29D-4DCD-9B25-33EDEE34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189-3811-4DE8-80C8-215DE62A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36F-59B9-4C3E-B0B0-EB9EE5C4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948480"/>
            <a:ext cx="7467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8E3-0642-4A33-A343-A5D71623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94848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800" y="394848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DE3-15A0-4D63-8DF1-CEE7E6B0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5400" y="160020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440" y="160020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94848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5400" y="394848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440" y="3948480"/>
            <a:ext cx="240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60A-2CA4-4EEA-8A23-7E22A0B9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F78-E166-4BFC-A63D-C7BE843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069-573C-4FA0-A77C-03A8F05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64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364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49F-FB1F-4697-8B10-09CC299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341-D3FE-49BB-8141-9CA79F75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364-FF31-4B24-A807-90694F2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364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94848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9A2-322F-4018-85DC-D1EB650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64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800" y="394848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EAB-D44D-4B50-B74A-F09C863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364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948480"/>
            <a:ext cx="7467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7AF-BB65-4060-A9F0-908204E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8/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10E7-848D-47B8-A5DA-3AD2DB2D6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3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83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1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1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5638680" y="6378480"/>
            <a:ext cx="320040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8/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0520" y="537012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ost_file_16225"/>
          <p:cNvPicPr/>
          <p:nvPr/>
        </p:nvPicPr>
        <p:blipFill>
          <a:blip r:embed="rId1"/>
          <a:stretch/>
        </p:blipFill>
        <p:spPr>
          <a:xfrm>
            <a:off x="345960" y="1177920"/>
            <a:ext cx="3921120" cy="389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edia_file_49325"/>
          <p:cNvPicPr/>
          <p:nvPr/>
        </p:nvPicPr>
        <p:blipFill>
          <a:blip r:embed="rId2"/>
          <a:stretch/>
        </p:blipFill>
        <p:spPr>
          <a:xfrm>
            <a:off x="4560840" y="1182600"/>
            <a:ext cx="4273560" cy="38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6:39:33Z</dcterms:created>
  <dc:creator>jmndaliko</dc:creator>
  <dc:description/>
  <dc:language>en-US</dc:language>
  <cp:lastModifiedBy>Francis Peel</cp:lastModifiedBy>
  <cp:lastPrinted>2005-09-19T20:15:10Z</cp:lastPrinted>
  <dcterms:modified xsi:type="dcterms:W3CDTF">2010-08-06T15:36:02Z</dcterms:modified>
  <cp:revision>159</cp:revision>
  <dc:subject>Unicef_Parlement RDC</dc:subject>
  <dc:title>Unite for children against AIDS</dc:title>
</cp:coreProperties>
</file>