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F226-7DF3-4554-9353-A38EBC539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E58D-5D2B-4BE8-959B-0F67051D6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DB44-2496-44E3-8BC9-35B64EBC9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6967-C038-4661-A7CD-1B98971E0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F0C7-AAFE-49A0-9405-B0FB41742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D4AF-21C6-4D99-9157-1DEAD0CFE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86A0-0F2C-44AD-829B-9C50E7666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803B-6D4E-473F-9B26-816A0C43A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81DC-734D-4843-AAA1-0F282ACA7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E2AB-BF4B-417F-A59A-4F660C0F7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61CD-C219-4AC0-B4BC-2219C4B6D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3A92-4EE8-4011-9E01-83AF8A733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6E7B-AA87-423D-8178-1B980A710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262A-869C-4651-9CFE-C41037241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3DFC-D9C5-4A6E-9D0D-024476A59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55F0-A0B7-4A36-BED5-BFABBA24C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1628-776A-4C99-8150-9763AECD0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E390-1AAC-4A2D-8C88-3F9E222A6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2E41-1724-42BF-A999-DAF17D45C8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D0DB-00F6-4131-A005-62A375BB8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A0A0-AEDF-4CC4-9CA6-2A33A7875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59C2E-42AF-4858-9657-F2E4A8E02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AF7F-3242-4232-B512-4627BEA5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C81D5-C707-402A-B67B-F278E752C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A3F1F-5D73-4101-9A37-2B7DA025F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2434B-7D12-47B0-9B1C-42536DC45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04799-AAA3-4C0D-882B-CFB3A44CF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96832-8F0F-4D82-BF03-8D4DBE38A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DAFCF-4A21-42B5-8F88-D03F45C22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CB0FC-CE18-448D-80CF-7711B9E9B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1EF1-D9BD-4EE0-B112-02794C861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A5F58-DFEE-4B71-954A-7194C3C41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1021-5801-4F44-B209-CDDE820FE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1ABB-C19B-45E1-A4D7-20A50DE1C6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hild Protection, Education &amp; Psychosocial suppor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EARNER PROTECTION</a:t>
            </a:r>
            <a:endParaRPr b="0" lang="en-US" sz="36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685800"/>
            <a:ext cx="8229600" cy="54403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chools should be places where children are protected from physical and sexual violence and from the risk of HIV. </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Unfortunately, schools are not always safe havens for learning and it is not uncommon for students to experience bullying, verbal abuse, intimidation and physical harm, sexual harassment, abuse and rap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can be done?</a:t>
            </a:r>
            <a:endParaRPr b="0" lang="en-US" sz="3600" spc="-1" strike="noStrike">
              <a:solidFill>
                <a:srgbClr val="000000"/>
              </a:solidFill>
              <a:latin typeface="Calibri"/>
            </a:endParaRPr>
          </a:p>
        </p:txBody>
      </p:sp>
      <p:sp>
        <p:nvSpPr>
          <p:cNvPr id="65" name=""/>
          <p:cNvSpPr txBox="1"/>
          <p:nvPr/>
        </p:nvSpPr>
        <p:spPr>
          <a:xfrm>
            <a:off x="457200" y="1066680"/>
            <a:ext cx="8229600" cy="5059440"/>
          </a:xfrm>
          <a:prstGeom prst="rect">
            <a:avLst/>
          </a:prstGeom>
          <a:noFill/>
          <a:ln w="0">
            <a:noFill/>
          </a:ln>
        </p:spPr>
        <p:txBody>
          <a:bodyPr anchor="t">
            <a:normAutofit/>
          </a:bodyPr>
          <a:p>
            <a:pPr marL="514440" indent="-514440">
              <a:lnSpc>
                <a:spcPct val="100000"/>
              </a:lnSpc>
              <a:spcBef>
                <a:spcPts val="7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nsitize and train education authorities, teachers and communities.</a:t>
            </a:r>
            <a:endParaRPr b="0" lang="en-US" sz="30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Improve data collection, monitoring and documentation of violence for advocacy with schools committees teachers associations and communiti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2. Introduce and enforce laws, policies and programmes to tackle violence</a:t>
            </a:r>
            <a:endParaRPr b="0" lang="en-US" sz="30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Narrow"/>
              </a:rPr>
              <a:t>	</a:t>
            </a:r>
            <a:r>
              <a:rPr b="0" i="1" lang="en-US" sz="3000" spc="-1" strike="noStrike">
                <a:solidFill>
                  <a:srgbClr val="000000"/>
                </a:solidFill>
                <a:latin typeface="Arial Narrow"/>
              </a:rPr>
              <a:t>- </a:t>
            </a:r>
            <a:r>
              <a:rPr b="0" i="1" lang="en-US" sz="2400" spc="-1" strike="noStrike">
                <a:solidFill>
                  <a:srgbClr val="000000"/>
                </a:solidFill>
                <a:latin typeface="Arial Narrow"/>
              </a:rPr>
              <a:t>Policies that prohibit abuse by teachers and staff.</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609480"/>
            <a:ext cx="822960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3. Take practical steps to protect learne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Arial Narrow"/>
              </a:rPr>
              <a:t>-</a:t>
            </a:r>
            <a:r>
              <a:rPr b="0" i="1" lang="en-US" sz="2400" spc="-1" strike="noStrike">
                <a:solidFill>
                  <a:srgbClr val="000000"/>
                </a:solidFill>
                <a:latin typeface="Arial Narrow"/>
              </a:rPr>
              <a:t>Confidential systems of complaints for gir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EARNER KNOWLEDGE,</a:t>
            </a:r>
            <a:br>
              <a:rPr sz="3600"/>
            </a:br>
            <a:r>
              <a:rPr b="0" lang="en-US" sz="3600" spc="-1" strike="noStrike">
                <a:solidFill>
                  <a:srgbClr val="000000"/>
                </a:solidFill>
                <a:latin typeface="Arial Narrow"/>
              </a:rPr>
              <a:t>ATTITUDES AND SKILLS</a:t>
            </a:r>
            <a:endParaRPr b="0" lang="en-US" sz="3600" spc="-1" strike="noStrike">
              <a:solidFill>
                <a:srgbClr val="000000"/>
              </a:solidFill>
              <a:latin typeface="Calibri"/>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685800"/>
            <a:ext cx="8229600" cy="54403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chools play a key role in equipping children and young people with accurate information, in influencing their ideas about sex, gender and relationships, and in giving them the opportunity to learn and practise life skills.</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Young people who are out of school also need accurate information about health and available services and the skills to protect themselves, and innovative strategies are required to reach and engage this group.</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hat can be done?</a:t>
            </a:r>
            <a:endParaRPr b="0" lang="en-US" sz="3600" spc="-1" strike="noStrike">
              <a:solidFill>
                <a:srgbClr val="000000"/>
              </a:solidFill>
              <a:latin typeface="Calibri"/>
            </a:endParaRPr>
          </a:p>
        </p:txBody>
      </p:sp>
      <p:sp>
        <p:nvSpPr>
          <p:cNvPr id="71" name=""/>
          <p:cNvSpPr txBox="1"/>
          <p:nvPr/>
        </p:nvSpPr>
        <p:spPr>
          <a:xfrm>
            <a:off x="457200" y="990360"/>
            <a:ext cx="8229600" cy="5135400"/>
          </a:xfrm>
          <a:prstGeom prst="rect">
            <a:avLst/>
          </a:prstGeom>
          <a:noFill/>
          <a:ln w="0">
            <a:noFill/>
          </a:ln>
        </p:spPr>
        <p:txBody>
          <a:bodyPr anchor="t">
            <a:normAutofit fontScale="99000"/>
          </a:bodyPr>
          <a:p>
            <a:pPr marL="509040" indent="-509040">
              <a:lnSpc>
                <a:spcPct val="100000"/>
              </a:lnSpc>
              <a:spcBef>
                <a:spcPts val="7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dvocate for health education in schools.</a:t>
            </a:r>
            <a:endParaRPr b="0" lang="en-US" sz="3000" spc="-1" strike="noStrike">
              <a:solidFill>
                <a:srgbClr val="000000"/>
              </a:solidFill>
              <a:latin typeface="Calibri"/>
            </a:endParaRPr>
          </a:p>
          <a:p>
            <a:pPr lvl="1" marL="905040" indent="-5090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 Securing support of administrators parents and communities</a:t>
            </a:r>
            <a:endParaRPr b="0" lang="en-US" sz="2400" spc="-1" strike="noStrike">
              <a:solidFill>
                <a:srgbClr val="000000"/>
              </a:solidFill>
              <a:latin typeface="Calibri"/>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9040" indent="-50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2. Introduce appropriate curricula delivered by trained educators and supported by relevant learning materials</a:t>
            </a:r>
            <a:endParaRPr b="0" lang="en-US" sz="3000" spc="-1" strike="noStrike">
              <a:solidFill>
                <a:srgbClr val="000000"/>
              </a:solidFill>
              <a:latin typeface="Calibri"/>
            </a:endParaRPr>
          </a:p>
          <a:p>
            <a:pPr marL="509040" indent="-50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 </a:t>
            </a:r>
            <a:r>
              <a:rPr b="0" i="1" lang="en-US" sz="2400" spc="-1" strike="noStrike">
                <a:solidFill>
                  <a:srgbClr val="000000"/>
                </a:solidFill>
                <a:latin typeface="Arial Narrow"/>
              </a:rPr>
              <a:t>Integrated Vs stand alone</a:t>
            </a:r>
            <a:endParaRPr b="0" lang="en-US" sz="2400" spc="-1" strike="noStrike">
              <a:solidFill>
                <a:srgbClr val="000000"/>
              </a:solidFill>
              <a:latin typeface="Calibri"/>
            </a:endParaRPr>
          </a:p>
          <a:p>
            <a:pPr marL="509040" indent="-50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	</a:t>
            </a:r>
            <a:r>
              <a:rPr b="0" i="1" lang="en-US" sz="2400" spc="-1" strike="noStrike">
                <a:solidFill>
                  <a:srgbClr val="000000"/>
                </a:solidFill>
                <a:latin typeface="Arial Narrow"/>
              </a:rPr>
              <a:t>- Examinable?</a:t>
            </a:r>
            <a:endParaRPr b="0" lang="en-US" sz="2400" spc="-1" strike="noStrike">
              <a:solidFill>
                <a:srgbClr val="000000"/>
              </a:solidFill>
              <a:latin typeface="Calibri"/>
            </a:endParaRPr>
          </a:p>
          <a:p>
            <a:pPr marL="509040" indent="-50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09040" indent="-50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Narrow"/>
              </a:rPr>
              <a:t>3. </a:t>
            </a:r>
            <a:r>
              <a:rPr b="0" lang="en-US" sz="3000" spc="-1" strike="noStrike">
                <a:solidFill>
                  <a:srgbClr val="000000"/>
                </a:solidFill>
                <a:latin typeface="Arial Narrow"/>
              </a:rPr>
              <a:t>Use innovative methods and participatory approaches</a:t>
            </a:r>
            <a:endParaRPr b="0" lang="en-US" sz="3000" spc="-1" strike="noStrike">
              <a:solidFill>
                <a:srgbClr val="000000"/>
              </a:solidFill>
              <a:latin typeface="Calibri"/>
            </a:endParaRPr>
          </a:p>
          <a:p>
            <a:pPr marL="509040" indent="-50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Narrow"/>
              </a:rPr>
              <a:t>	</a:t>
            </a:r>
            <a:r>
              <a:rPr b="0" i="1" lang="en-US" sz="2400" spc="-1" strike="noStrike">
                <a:solidFill>
                  <a:srgbClr val="000000"/>
                </a:solidFill>
                <a:latin typeface="Arial Narrow"/>
              </a:rPr>
              <a:t>-That engage and involve learners in the learning proc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LEARNER CARE AND</a:t>
            </a:r>
            <a:br>
              <a:rPr sz="3000"/>
            </a:br>
            <a:r>
              <a:rPr b="0" lang="en-US" sz="3000" spc="-1" strike="noStrike">
                <a:solidFill>
                  <a:srgbClr val="000000"/>
                </a:solidFill>
                <a:latin typeface="Arial Narrow"/>
              </a:rPr>
              <a:t>SUPPORT</a:t>
            </a:r>
            <a:endParaRPr b="0" lang="en-US" sz="3000" spc="-1" strike="noStrike">
              <a:solidFill>
                <a:srgbClr val="000000"/>
              </a:solidFill>
              <a:latin typeface="Calibri"/>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533160"/>
            <a:ext cx="8229600" cy="559260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upport for children needs to go beyond access and enrolment if children are to maximize their learning potential.</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chools and other educational settings play an important role in care and support for learners including providing emotional and psychosocial support and taking steps to protect children’s health and nutri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hat can be done?</a:t>
            </a:r>
            <a:endParaRPr b="0" lang="en-US" sz="3600" spc="-1" strike="noStrike">
              <a:solidFill>
                <a:srgbClr val="000000"/>
              </a:solidFill>
              <a:latin typeface="Calibri"/>
            </a:endParaRPr>
          </a:p>
        </p:txBody>
      </p:sp>
      <p:sp>
        <p:nvSpPr>
          <p:cNvPr id="76" name=""/>
          <p:cNvSpPr txBox="1"/>
          <p:nvPr/>
        </p:nvSpPr>
        <p:spPr>
          <a:xfrm>
            <a:off x="457200" y="990360"/>
            <a:ext cx="8229600" cy="5135400"/>
          </a:xfrm>
          <a:prstGeom prst="rect">
            <a:avLst/>
          </a:prstGeom>
          <a:noFill/>
          <a:ln w="0">
            <a:noFill/>
          </a:ln>
        </p:spPr>
        <p:txBody>
          <a:bodyPr anchor="t">
            <a:normAutofit/>
          </a:bodyPr>
          <a:p>
            <a:pPr marL="514440" indent="-514440">
              <a:lnSpc>
                <a:spcPct val="100000"/>
              </a:lnSpc>
              <a:spcBef>
                <a:spcPts val="7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xpand the role of schools in providing care and support</a:t>
            </a:r>
            <a:endParaRPr b="0" lang="en-US" sz="3000" spc="-1" strike="noStrike">
              <a:solidFill>
                <a:srgbClr val="000000"/>
              </a:solidFill>
              <a:latin typeface="Calibri"/>
            </a:endParaRPr>
          </a:p>
          <a:p>
            <a:pPr lvl="1"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	</a:t>
            </a:r>
            <a:r>
              <a:rPr b="0" i="1" lang="en-US" sz="2400" spc="-1" strike="noStrike">
                <a:solidFill>
                  <a:srgbClr val="000000"/>
                </a:solidFill>
                <a:latin typeface="Arial Narrow"/>
              </a:rPr>
              <a:t>- Linking with other service providers for better referral eg Hospitals / childrens’ department</a:t>
            </a:r>
            <a:endParaRPr b="0" lang="en-US" sz="2400" spc="-1" strike="noStrike">
              <a:solidFill>
                <a:srgbClr val="000000"/>
              </a:solidFill>
              <a:latin typeface="Calibri"/>
            </a:endParaRPr>
          </a:p>
          <a:p>
            <a:pPr marL="514440" indent="-514440">
              <a:lnSpc>
                <a:spcPct val="100000"/>
              </a:lnSpc>
              <a:spcBef>
                <a:spcPts val="7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2. Provide support for children in distress</a:t>
            </a:r>
            <a:endParaRPr b="0" lang="en-US" sz="30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i="1" lang="en-US" sz="3000" spc="-1" strike="noStrike">
                <a:solidFill>
                  <a:srgbClr val="000000"/>
                </a:solidFill>
                <a:latin typeface="Arial Narrow"/>
              </a:rPr>
              <a:t>- </a:t>
            </a:r>
            <a:r>
              <a:rPr b="0" i="1" lang="en-US" sz="2400" spc="-1" strike="noStrike">
                <a:solidFill>
                  <a:srgbClr val="000000"/>
                </a:solidFill>
                <a:latin typeface="Arial Narrow"/>
              </a:rPr>
              <a:t>Sensitizing teachers to recognize and counsel or refer for counseling</a:t>
            </a:r>
            <a:r>
              <a:rPr b="0" lang="en-US" sz="2400" spc="-1" strike="noStrike">
                <a:solidFill>
                  <a:srgbClr val="000000"/>
                </a:solidFill>
                <a:latin typeface="Arial Narrow"/>
              </a:rPr>
              <a:t>.</a:t>
            </a:r>
            <a:endParaRPr b="0" lang="en-US" sz="2400" spc="-1" strike="noStrike">
              <a:solidFill>
                <a:srgbClr val="000000"/>
              </a:solidFill>
              <a:latin typeface="Calibri"/>
            </a:endParaRPr>
          </a:p>
          <a:p>
            <a:pPr lvl="1"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 Encouraging peer suppor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1"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EVERY child has the right to education. Education provides children with information, knowledge and skills and increases their future life opportunities.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However, going to school is about more than just learning. School is also important for children’s social and psychological development, providing them with a safe, structured environment, emotional support and adult supervision and the opportunity to interact with other childr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8" descr="post_file_16225"/>
          <p:cNvPicPr/>
          <p:nvPr/>
        </p:nvPicPr>
        <p:blipFill>
          <a:blip r:embed="rId1"/>
          <a:stretch/>
        </p:blipFill>
        <p:spPr>
          <a:xfrm>
            <a:off x="1676520" y="685800"/>
            <a:ext cx="5486400" cy="544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142640"/>
            <a:ext cx="8229600" cy="4267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ng people are therefore entitled t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ropriate and accurate information about health, including how to protect themselves from HIV infection, </a:t>
            </a:r>
            <a:endParaRPr b="0" lang="en-US" sz="28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cial, psychological and medical care.</a:t>
            </a:r>
            <a:endParaRPr b="0" lang="en-US" sz="28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ection of their privacy and confidentiality.</a:t>
            </a:r>
            <a:endParaRPr b="0" lang="en-US" sz="28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ection from exploitation and abuse, including in educational settin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85800"/>
            <a:ext cx="8229600" cy="5440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Arial Narrow"/>
              </a:rPr>
              <a:t>Schools and other educational settings should therefore play an important role in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ing young people about health including HIV and AIDS.</a:t>
            </a:r>
            <a:endParaRPr b="0" lang="en-US" sz="28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ing the skills they need to protect themselves from infections, tackling fear, stigma and discrimination</a:t>
            </a:r>
            <a:endParaRPr b="0" lang="en-US" sz="28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d promoting care and support for those who are ill including those infected and affected by HIV and AI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ER RIGHTS &amp; ACCESS TO EDUCATION</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09480"/>
            <a:ext cx="8229600" cy="5639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ion is a basic human right for all children, as recognized in the Convention on the Rights of the Child. </a:t>
            </a:r>
            <a:endParaRPr b="0" lang="en-US" sz="28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suring that all children (especially girls, children in difficult circumstances and those belonging to ethnic minorities) have access to and complete free and compulsory primary education of good quality by 2015 is a Millennium Development Goal (MDG) and a goal of Education for All.</a:t>
            </a:r>
            <a:endParaRPr b="0" lang="en-US" sz="28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ion is also a protective measure against ill health.</a:t>
            </a:r>
            <a:endParaRPr b="0" lang="en-US" sz="28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ion is especially important for gir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85800"/>
            <a:ext cx="8229600" cy="5440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spite the generally agreed importance of education, an estimated 104 million children of primary school age do not attend school, and 75% of these children are in sub-Saharan Africa and South and West Asia (57% of whom are girl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irls are less likely to attend school than boys because of domestic and caring duties, pregnancy, early marriage, low value placed on female education and lack of family fund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ldren who are ill or those with HIV and AIDS are less likely to be enrolled in school or to attend regularly and are more susceptible to school drop ou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What can be done?</a:t>
            </a:r>
            <a:endParaRPr b="0" lang="en-US" sz="4000" spc="-1" strike="noStrike">
              <a:solidFill>
                <a:srgbClr val="000000"/>
              </a:solidFill>
              <a:latin typeface="Calibri"/>
            </a:endParaRPr>
          </a:p>
        </p:txBody>
      </p:sp>
      <p:sp>
        <p:nvSpPr>
          <p:cNvPr id="59" name=""/>
          <p:cNvSpPr txBox="1"/>
          <p:nvPr/>
        </p:nvSpPr>
        <p:spPr>
          <a:xfrm>
            <a:off x="457200" y="761760"/>
            <a:ext cx="8229600" cy="5638680"/>
          </a:xfrm>
          <a:prstGeom prst="rect">
            <a:avLst/>
          </a:prstGeom>
          <a:noFill/>
          <a:ln w="0">
            <a:noFill/>
          </a:ln>
        </p:spPr>
        <p:txBody>
          <a:bodyPr anchor="t">
            <a:normAutofit/>
          </a:bodyPr>
          <a:p>
            <a:pPr marL="514440" indent="-514440">
              <a:lnSpc>
                <a:spcPct val="100000"/>
              </a:lnSpc>
              <a:spcBef>
                <a:spcPts val="7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tect the rights of infected and affected children to education.</a:t>
            </a:r>
            <a:endParaRPr b="0" lang="en-US" sz="30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Implementing  laws and policies that tackle stigma and discrimination, protect confidentiality, promote supportive school environments and inclus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Engaging parents and communities in supporting access to education and promoting children’s awareness of their right to educ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2.    Make education more accessible and relevant</a:t>
            </a:r>
            <a:endParaRPr b="0" lang="en-US" sz="30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Develop flexible approaches to education that reduce costs but ensure quality (“Non formal schoo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533160"/>
            <a:ext cx="8229600" cy="55926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3. Take active steps to identify and support vulnerable children</a:t>
            </a:r>
            <a:endParaRPr b="0" lang="en-US" sz="30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Sensitize school governing bodies, head teachers and communities and promoting partnership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Advocate for girls’ education and take steps to keep girls in school eg (Providing back to school support)</a:t>
            </a:r>
            <a:endParaRPr b="0" lang="en-US" sz="24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4. Ensure that out-of-school young people have access to education.</a:t>
            </a:r>
            <a:endParaRPr b="0" lang="en-US" sz="30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i="1" lang="en-US" sz="2400" spc="-1" strike="noStrike">
                <a:solidFill>
                  <a:srgbClr val="000000"/>
                </a:solidFill>
                <a:latin typeface="Arial Narrow"/>
              </a:rPr>
              <a:t>Taking into account the situation and developing flexible approaches that link education to livelihoo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0T10:12:50Z</dcterms:created>
  <dc:creator>Dan</dc:creator>
  <dc:description/>
  <dc:language>en-US</dc:language>
  <cp:lastModifiedBy>Francis Peel</cp:lastModifiedBy>
  <dcterms:modified xsi:type="dcterms:W3CDTF">2010-08-06T15:37:31Z</dcterms:modified>
  <cp:revision>21</cp:revision>
  <dc:subject/>
  <dc:title>Child Protection, Education &amp; Psychosocial support</dc:title>
</cp:coreProperties>
</file>