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0834-0D42-4848-98E6-EC0E28010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08CA-5B53-4001-8A8B-2BFA985AB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CD5D-8EFA-484B-8459-C7D678E81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E1F1-BA3D-47F9-92AB-A1C03A422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D799-6381-4DA5-9FA5-E7DDCFA1E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B379-BE17-408F-9728-3CCE72021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8E52-4E3E-4C06-A159-06488BE3D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5E7F-AB40-4B9E-B6B0-FE95E0185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EF13-3994-4788-9077-7FFD9DAF2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CF3-0CF0-4887-95BB-2CF2B90CE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DD11-0B29-47D0-AC74-BEA589952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B89-5946-4ACF-9089-4ABE2449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517-901B-4995-8AE7-89527AC5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F8E-044A-4038-AC1D-BDC2EB0E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48C-2130-4164-AA14-9F6F98AB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B41-638D-42B2-B111-D4780139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1AE-E512-4A47-9B4B-86FE2BF0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24A-4957-4594-A0FF-7878EA31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D5F-72F8-41EC-ABAF-303795B0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A09-7450-4297-AE1D-AD7B51A2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085-85EC-4907-8289-3F3AF55B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7FE-8F96-4D3F-8328-530CC0F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646-1195-4C75-B5CB-9849D70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E242-E8AF-4952-8328-7FED3BC0A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odeling the Impact of HIV/AI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on Education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The Ed-SIDA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LICATIONS OF THE Ed-SID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amining the impact of HIV/A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g  What the Teachers’ situation will be if no interventions are put in pl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lancing supply and dem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g  Considering the projected number of orphans, what is the number of teachers required to ensure effectiven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timating the economic impact of AIDS on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g Given the current trends what will it cost country X to achieve EFA  go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90720" y="923760"/>
            <a:ext cx="661356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SHIP BETWEEN HIV/AIDS AND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spread of HIV/AIDS is compromising the potential to attain EFA and furthermore, is in danger of reversing the gains that have already been made in the capacity to deliver high quality edu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llness &amp; Death of teachers and teacher trainees. (Supp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umber of school-age children (Deman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the long-term, good quality “Education for All” contributes to economic well-being and socio-cultural changes such as female empowerment and decision mak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lth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duced vulnerability of women to HIV inf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duced risk behavior &amp; better reproductive l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act of HIV/AIDS on the supply of education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29"/>
          <p:cNvGrpSpPr/>
          <p:nvPr/>
        </p:nvGrpSpPr>
        <p:grpSpPr>
          <a:xfrm>
            <a:off x="685800" y="1600200"/>
            <a:ext cx="7620120" cy="3886200"/>
            <a:chOff x="685800" y="1600200"/>
            <a:chExt cx="7620120" cy="3886200"/>
          </a:xfrm>
        </p:grpSpPr>
        <p:sp>
          <p:nvSpPr>
            <p:cNvPr id="56" name="Rectangle 7"/>
            <p:cNvSpPr/>
            <p:nvPr/>
          </p:nvSpPr>
          <p:spPr>
            <a:xfrm>
              <a:off x="685800" y="2666880"/>
              <a:ext cx="1218960" cy="13716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IV /AI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2514600" y="2666880"/>
              <a:ext cx="1218960" cy="13716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upply of Edu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6019920" y="1600200"/>
              <a:ext cx="2286000" cy="6094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Trained Teachers lost to other sec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6019920" y="4800600"/>
              <a:ext cx="228600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Management Capac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6019920" y="3962520"/>
              <a:ext cx="2286000" cy="6094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Psychological st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6019920" y="3200400"/>
              <a:ext cx="2286000" cy="6094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Increased absenteei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6019920" y="2438280"/>
              <a:ext cx="2286000" cy="6094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Fewer Trained teachers due to AIDS morta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Straight Arrow Connector 16"/>
            <p:cNvCxnSpPr>
              <a:stCxn id="56" idx="3"/>
              <a:endCxn id="57" idx="1"/>
            </p:cNvCxnSpPr>
            <p:nvPr/>
          </p:nvCxnSpPr>
          <p:spPr>
            <a:xfrm>
              <a:off x="1904400" y="3352680"/>
              <a:ext cx="6102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4" name="Straight Arrow Connector 18"/>
            <p:cNvCxnSpPr/>
            <p:nvPr/>
          </p:nvCxnSpPr>
          <p:spPr>
            <a:xfrm flipV="1">
              <a:off x="3809520" y="2666520"/>
              <a:ext cx="533880" cy="381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5" name="Straight Arrow Connector 20"/>
            <p:cNvCxnSpPr/>
            <p:nvPr/>
          </p:nvCxnSpPr>
          <p:spPr>
            <a:xfrm>
              <a:off x="3809520" y="3429000"/>
              <a:ext cx="533880" cy="457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6" name="TextBox 24"/>
            <p:cNvSpPr/>
            <p:nvPr/>
          </p:nvSpPr>
          <p:spPr>
            <a:xfrm flipH="1" flipV="1" rot="10800000">
              <a:off x="4191120" y="22856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5"/>
            <p:cNvSpPr/>
            <p:nvPr/>
          </p:nvSpPr>
          <p:spPr>
            <a:xfrm flipH="1" flipV="1" rot="10800000">
              <a:off x="4419720" y="36572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QU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Down Arrow 26"/>
            <p:cNvSpPr/>
            <p:nvPr/>
          </p:nvSpPr>
          <p:spPr>
            <a:xfrm>
              <a:off x="5410440" y="2133360"/>
              <a:ext cx="228600" cy="838080"/>
            </a:xfrm>
            <a:prstGeom prst="downArrow">
              <a:avLst>
                <a:gd name="adj1" fmla="val 50000"/>
                <a:gd name="adj2" fmla="val 4998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Down Arrow 27"/>
            <p:cNvSpPr/>
            <p:nvPr/>
          </p:nvSpPr>
          <p:spPr>
            <a:xfrm>
              <a:off x="5410440" y="3581280"/>
              <a:ext cx="228600" cy="838080"/>
            </a:xfrm>
            <a:prstGeom prst="downArrow">
              <a:avLst>
                <a:gd name="adj1" fmla="val 50000"/>
                <a:gd name="adj2" fmla="val 4998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act of HIV/AIDS on the demand for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2843280"/>
            <a:ext cx="1316160" cy="1596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V 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432160" y="2843280"/>
            <a:ext cx="1317600" cy="1596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mand fo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218280" y="3886200"/>
            <a:ext cx="2468520" cy="117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roportion of vulnerable children  (Orphan, Girls) with restricted access to scho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6248520" y="2286000"/>
            <a:ext cx="23922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umber of children to educate (Decrea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11"/>
          <p:cNvCxnSpPr>
            <a:stCxn id="71" idx="3"/>
            <a:endCxn id="72" idx="1"/>
          </p:cNvCxnSpPr>
          <p:nvPr/>
        </p:nvCxnSpPr>
        <p:spPr>
          <a:xfrm>
            <a:off x="1773360" y="3641760"/>
            <a:ext cx="659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12"/>
          <p:cNvCxnSpPr/>
          <p:nvPr/>
        </p:nvCxnSpPr>
        <p:spPr>
          <a:xfrm flipV="1">
            <a:off x="3830760" y="2842920"/>
            <a:ext cx="57636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13"/>
          <p:cNvCxnSpPr/>
          <p:nvPr/>
        </p:nvCxnSpPr>
        <p:spPr>
          <a:xfrm>
            <a:off x="3830760" y="3730320"/>
            <a:ext cx="576360" cy="53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14"/>
          <p:cNvSpPr/>
          <p:nvPr/>
        </p:nvSpPr>
        <p:spPr>
          <a:xfrm flipH="1" flipV="1" rot="10800000">
            <a:off x="4494600" y="258984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5"/>
          <p:cNvSpPr/>
          <p:nvPr/>
        </p:nvSpPr>
        <p:spPr>
          <a:xfrm flipH="1" flipV="1" rot="10800000">
            <a:off x="4343400" y="373356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Down Arrow 16"/>
          <p:cNvSpPr/>
          <p:nvPr/>
        </p:nvSpPr>
        <p:spPr>
          <a:xfrm>
            <a:off x="5791320" y="2209680"/>
            <a:ext cx="307800" cy="97632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Up Arrow 18"/>
          <p:cNvSpPr/>
          <p:nvPr/>
        </p:nvSpPr>
        <p:spPr>
          <a:xfrm>
            <a:off x="5791320" y="3886200"/>
            <a:ext cx="304560" cy="990720"/>
          </a:xfrm>
          <a:prstGeom prst="upArrow">
            <a:avLst>
              <a:gd name="adj1" fmla="val 50000"/>
              <a:gd name="adj2" fmla="val 500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2"/>
          <p:cNvSpPr/>
          <p:nvPr/>
        </p:nvSpPr>
        <p:spPr>
          <a:xfrm>
            <a:off x="0" y="7452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"/>
          <p:cNvGrpSpPr/>
          <p:nvPr/>
        </p:nvGrpSpPr>
        <p:grpSpPr>
          <a:xfrm>
            <a:off x="762120" y="533520"/>
            <a:ext cx="7391160" cy="5270400"/>
            <a:chOff x="762120" y="533520"/>
            <a:chExt cx="7391160" cy="5270400"/>
          </a:xfrm>
        </p:grpSpPr>
        <p:sp>
          <p:nvSpPr>
            <p:cNvPr id="84" name="AutoShape 41"/>
            <p:cNvSpPr/>
            <p:nvPr/>
          </p:nvSpPr>
          <p:spPr>
            <a:xfrm>
              <a:off x="762120" y="533520"/>
              <a:ext cx="7391160" cy="52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0"/>
            <p:cNvSpPr/>
            <p:nvPr/>
          </p:nvSpPr>
          <p:spPr>
            <a:xfrm>
              <a:off x="3450240" y="1373400"/>
              <a:ext cx="2106000" cy="1170720"/>
            </a:xfrm>
            <a:prstGeom prst="rect">
              <a:avLst/>
            </a:prstGeom>
            <a:noFill/>
            <a:ln w="17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3795480" y="167544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IV negativ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"/>
            <p:cNvSpPr/>
            <p:nvPr/>
          </p:nvSpPr>
          <p:spPr>
            <a:xfrm>
              <a:off x="4029120" y="1971000"/>
              <a:ext cx="68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ach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7"/>
            <p:cNvSpPr/>
            <p:nvPr/>
          </p:nvSpPr>
          <p:spPr>
            <a:xfrm>
              <a:off x="3450240" y="3653280"/>
              <a:ext cx="2106000" cy="1170720"/>
            </a:xfrm>
            <a:prstGeom prst="rect">
              <a:avLst/>
            </a:prstGeom>
            <a:solidFill>
              <a:srgbClr val="969696"/>
            </a:solidFill>
            <a:ln w="17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6"/>
            <p:cNvSpPr/>
            <p:nvPr/>
          </p:nvSpPr>
          <p:spPr>
            <a:xfrm>
              <a:off x="3844080" y="3894120"/>
              <a:ext cx="100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IV positiv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5"/>
            <p:cNvSpPr/>
            <p:nvPr/>
          </p:nvSpPr>
          <p:spPr>
            <a:xfrm>
              <a:off x="4029120" y="4188240"/>
              <a:ext cx="68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ach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4"/>
            <p:cNvSpPr/>
            <p:nvPr/>
          </p:nvSpPr>
          <p:spPr>
            <a:xfrm>
              <a:off x="2428920" y="4222080"/>
              <a:ext cx="926280" cy="92880"/>
            </a:xfrm>
            <a:custGeom>
              <a:avLst/>
              <a:gdLst>
                <a:gd name="textAreaLeft" fmla="*/ 0 w 926280"/>
                <a:gd name="textAreaRight" fmla="*/ 926640 w 9262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816" h="82">
                  <a:moveTo>
                    <a:pt x="0" y="22"/>
                  </a:moveTo>
                  <a:lnTo>
                    <a:pt x="747" y="27"/>
                  </a:lnTo>
                  <a:lnTo>
                    <a:pt x="747" y="54"/>
                  </a:lnTo>
                  <a:lnTo>
                    <a:pt x="0" y="49"/>
                  </a:lnTo>
                  <a:lnTo>
                    <a:pt x="0" y="22"/>
                  </a:lnTo>
                  <a:close/>
                  <a:moveTo>
                    <a:pt x="734" y="0"/>
                  </a:moveTo>
                  <a:lnTo>
                    <a:pt x="816" y="41"/>
                  </a:lnTo>
                  <a:lnTo>
                    <a:pt x="733" y="82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>
              <a:off x="2369520" y="2004840"/>
              <a:ext cx="985320" cy="91800"/>
            </a:xfrm>
            <a:custGeom>
              <a:avLst/>
              <a:gdLst>
                <a:gd name="textAreaLeft" fmla="*/ 0 w 985320"/>
                <a:gd name="textAreaRight" fmla="*/ 985680 w 9853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8" h="81">
                  <a:moveTo>
                    <a:pt x="0" y="27"/>
                  </a:moveTo>
                  <a:lnTo>
                    <a:pt x="799" y="27"/>
                  </a:lnTo>
                  <a:lnTo>
                    <a:pt x="799" y="54"/>
                  </a:lnTo>
                  <a:lnTo>
                    <a:pt x="0" y="54"/>
                  </a:lnTo>
                  <a:lnTo>
                    <a:pt x="0" y="27"/>
                  </a:lnTo>
                  <a:close/>
                  <a:moveTo>
                    <a:pt x="786" y="0"/>
                  </a:moveTo>
                  <a:lnTo>
                    <a:pt x="868" y="41"/>
                  </a:lnTo>
                  <a:lnTo>
                    <a:pt x="786" y="81"/>
                  </a:lnTo>
                  <a:lnTo>
                    <a:pt x="786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2387880" y="3906720"/>
              <a:ext cx="96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rui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1"/>
            <p:cNvSpPr/>
            <p:nvPr/>
          </p:nvSpPr>
          <p:spPr>
            <a:xfrm>
              <a:off x="2329920" y="1693800"/>
              <a:ext cx="96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rui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0"/>
            <p:cNvSpPr/>
            <p:nvPr/>
          </p:nvSpPr>
          <p:spPr>
            <a:xfrm>
              <a:off x="4422240" y="3222000"/>
              <a:ext cx="92880" cy="3078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2" h="271">
                  <a:moveTo>
                    <a:pt x="55" y="0"/>
                  </a:moveTo>
                  <a:lnTo>
                    <a:pt x="55" y="203"/>
                  </a:lnTo>
                  <a:lnTo>
                    <a:pt x="28" y="203"/>
                  </a:lnTo>
                  <a:lnTo>
                    <a:pt x="28" y="0"/>
                  </a:lnTo>
                  <a:lnTo>
                    <a:pt x="55" y="0"/>
                  </a:lnTo>
                  <a:close/>
                  <a:moveTo>
                    <a:pt x="82" y="190"/>
                  </a:moveTo>
                  <a:lnTo>
                    <a:pt x="42" y="271"/>
                  </a:lnTo>
                  <a:lnTo>
                    <a:pt x="0" y="190"/>
                  </a:lnTo>
                  <a:lnTo>
                    <a:pt x="82" y="19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3492360" y="2877840"/>
              <a:ext cx="180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IV incidence (teac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8"/>
            <p:cNvSpPr/>
            <p:nvPr/>
          </p:nvSpPr>
          <p:spPr>
            <a:xfrm>
              <a:off x="5368680" y="287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7"/>
            <p:cNvSpPr/>
            <p:nvPr/>
          </p:nvSpPr>
          <p:spPr>
            <a:xfrm>
              <a:off x="3490920" y="3099240"/>
              <a:ext cx="65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pecif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6"/>
            <p:cNvSpPr/>
            <p:nvPr/>
          </p:nvSpPr>
          <p:spPr>
            <a:xfrm>
              <a:off x="5646240" y="2066040"/>
              <a:ext cx="1362240" cy="92160"/>
            </a:xfrm>
            <a:custGeom>
              <a:avLst/>
              <a:gdLst>
                <a:gd name="textAreaLeft" fmla="*/ 0 w 1362240"/>
                <a:gd name="textAreaRight" fmla="*/ 1362600 w 13622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00" h="81">
                  <a:moveTo>
                    <a:pt x="0" y="27"/>
                  </a:moveTo>
                  <a:lnTo>
                    <a:pt x="1131" y="27"/>
                  </a:lnTo>
                  <a:lnTo>
                    <a:pt x="1131" y="54"/>
                  </a:lnTo>
                  <a:lnTo>
                    <a:pt x="0" y="54"/>
                  </a:lnTo>
                  <a:lnTo>
                    <a:pt x="0" y="27"/>
                  </a:lnTo>
                  <a:close/>
                  <a:moveTo>
                    <a:pt x="1118" y="0"/>
                  </a:moveTo>
                  <a:lnTo>
                    <a:pt x="1200" y="41"/>
                  </a:lnTo>
                  <a:lnTo>
                    <a:pt x="1118" y="81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5"/>
            <p:cNvSpPr/>
            <p:nvPr/>
          </p:nvSpPr>
          <p:spPr>
            <a:xfrm>
              <a:off x="5646240" y="4235760"/>
              <a:ext cx="1362240" cy="92880"/>
            </a:xfrm>
            <a:custGeom>
              <a:avLst/>
              <a:gdLst>
                <a:gd name="textAreaLeft" fmla="*/ 0 w 1362240"/>
                <a:gd name="textAreaRight" fmla="*/ 1362600 w 136224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00" h="82">
                  <a:moveTo>
                    <a:pt x="0" y="27"/>
                  </a:moveTo>
                  <a:lnTo>
                    <a:pt x="1131" y="27"/>
                  </a:lnTo>
                  <a:lnTo>
                    <a:pt x="1131" y="54"/>
                  </a:lnTo>
                  <a:lnTo>
                    <a:pt x="0" y="54"/>
                  </a:lnTo>
                  <a:lnTo>
                    <a:pt x="0" y="27"/>
                  </a:lnTo>
                  <a:close/>
                  <a:moveTo>
                    <a:pt x="1118" y="0"/>
                  </a:moveTo>
                  <a:lnTo>
                    <a:pt x="1200" y="40"/>
                  </a:lnTo>
                  <a:lnTo>
                    <a:pt x="1118" y="82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4422240" y="4885560"/>
              <a:ext cx="92880" cy="6775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82" h="597">
                  <a:moveTo>
                    <a:pt x="55" y="0"/>
                  </a:moveTo>
                  <a:lnTo>
                    <a:pt x="55" y="529"/>
                  </a:lnTo>
                  <a:lnTo>
                    <a:pt x="28" y="529"/>
                  </a:lnTo>
                  <a:lnTo>
                    <a:pt x="28" y="0"/>
                  </a:lnTo>
                  <a:lnTo>
                    <a:pt x="55" y="0"/>
                  </a:lnTo>
                  <a:close/>
                  <a:moveTo>
                    <a:pt x="82" y="516"/>
                  </a:moveTo>
                  <a:lnTo>
                    <a:pt x="42" y="597"/>
                  </a:lnTo>
                  <a:lnTo>
                    <a:pt x="0" y="516"/>
                  </a:lnTo>
                  <a:lnTo>
                    <a:pt x="82" y="516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4435920" y="757080"/>
              <a:ext cx="92880" cy="5547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554760"/>
                <a:gd name="textAreaBottom" fmla="*/ 555120 h 554760"/>
              </a:gdLst>
              <a:ahLst/>
              <a:rect l="textAreaLeft" t="textAreaTop" r="textAreaRight" b="textAreaBottom"/>
              <a:pathLst>
                <a:path w="82" h="489">
                  <a:moveTo>
                    <a:pt x="16" y="488"/>
                  </a:moveTo>
                  <a:lnTo>
                    <a:pt x="28" y="68"/>
                  </a:lnTo>
                  <a:lnTo>
                    <a:pt x="55" y="68"/>
                  </a:lnTo>
                  <a:lnTo>
                    <a:pt x="43" y="489"/>
                  </a:lnTo>
                  <a:lnTo>
                    <a:pt x="16" y="488"/>
                  </a:lnTo>
                  <a:close/>
                  <a:moveTo>
                    <a:pt x="0" y="81"/>
                  </a:moveTo>
                  <a:lnTo>
                    <a:pt x="43" y="0"/>
                  </a:lnTo>
                  <a:lnTo>
                    <a:pt x="82" y="83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704120" y="99216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i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1"/>
            <p:cNvSpPr/>
            <p:nvPr/>
          </p:nvSpPr>
          <p:spPr>
            <a:xfrm>
              <a:off x="5879880" y="2224080"/>
              <a:ext cx="155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ving profess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5879880" y="244764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mature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9"/>
            <p:cNvSpPr/>
            <p:nvPr/>
          </p:nvSpPr>
          <p:spPr>
            <a:xfrm>
              <a:off x="4607640" y="51818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i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5942160" y="4417560"/>
              <a:ext cx="155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ving profess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7"/>
            <p:cNvSpPr/>
            <p:nvPr/>
          </p:nvSpPr>
          <p:spPr>
            <a:xfrm>
              <a:off x="5942160" y="464004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mature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6"/>
            <p:cNvSpPr/>
            <p:nvPr/>
          </p:nvSpPr>
          <p:spPr>
            <a:xfrm>
              <a:off x="5646240" y="1512000"/>
              <a:ext cx="1362240" cy="92160"/>
            </a:xfrm>
            <a:custGeom>
              <a:avLst/>
              <a:gdLst>
                <a:gd name="textAreaLeft" fmla="*/ 0 w 1362240"/>
                <a:gd name="textAreaRight" fmla="*/ 1362600 w 13622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00" h="81">
                  <a:moveTo>
                    <a:pt x="0" y="27"/>
                  </a:moveTo>
                  <a:lnTo>
                    <a:pt x="1131" y="27"/>
                  </a:lnTo>
                  <a:lnTo>
                    <a:pt x="1131" y="54"/>
                  </a:lnTo>
                  <a:lnTo>
                    <a:pt x="0" y="54"/>
                  </a:lnTo>
                  <a:lnTo>
                    <a:pt x="0" y="27"/>
                  </a:lnTo>
                  <a:close/>
                  <a:moveTo>
                    <a:pt x="1118" y="0"/>
                  </a:moveTo>
                  <a:lnTo>
                    <a:pt x="1200" y="41"/>
                  </a:lnTo>
                  <a:lnTo>
                    <a:pt x="1118" y="81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5"/>
            <p:cNvSpPr/>
            <p:nvPr/>
          </p:nvSpPr>
          <p:spPr>
            <a:xfrm>
              <a:off x="5906520" y="1608480"/>
              <a:ext cx="67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rt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4"/>
            <p:cNvSpPr/>
            <p:nvPr/>
          </p:nvSpPr>
          <p:spPr>
            <a:xfrm>
              <a:off x="5646240" y="3729600"/>
              <a:ext cx="1362240" cy="92880"/>
            </a:xfrm>
            <a:custGeom>
              <a:avLst/>
              <a:gdLst>
                <a:gd name="textAreaLeft" fmla="*/ 0 w 1362240"/>
                <a:gd name="textAreaRight" fmla="*/ 1362600 w 136224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00" h="82">
                  <a:moveTo>
                    <a:pt x="0" y="27"/>
                  </a:moveTo>
                  <a:lnTo>
                    <a:pt x="1131" y="27"/>
                  </a:lnTo>
                  <a:lnTo>
                    <a:pt x="1131" y="54"/>
                  </a:lnTo>
                  <a:lnTo>
                    <a:pt x="0" y="54"/>
                  </a:lnTo>
                  <a:lnTo>
                    <a:pt x="0" y="27"/>
                  </a:lnTo>
                  <a:close/>
                  <a:moveTo>
                    <a:pt x="1118" y="0"/>
                  </a:moveTo>
                  <a:lnTo>
                    <a:pt x="1200" y="41"/>
                  </a:lnTo>
                  <a:lnTo>
                    <a:pt x="1118" y="82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5906520" y="3826080"/>
              <a:ext cx="67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rt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4469760" y="2605320"/>
              <a:ext cx="1080" cy="246240"/>
            </a:xfrm>
            <a:prstGeom prst="line">
              <a:avLst/>
            </a:prstGeom>
            <a:ln w="17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976680" y="1518840"/>
              <a:ext cx="1288440" cy="3305880"/>
            </a:xfrm>
            <a:prstGeom prst="rect">
              <a:avLst/>
            </a:prstGeom>
            <a:noFill/>
            <a:ln w="17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976680" y="3190320"/>
              <a:ext cx="1288440" cy="1430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966240" y="3190320"/>
              <a:ext cx="1288440" cy="1634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976680" y="3190320"/>
              <a:ext cx="1288440" cy="1634760"/>
            </a:xfrm>
            <a:prstGeom prst="rect">
              <a:avLst/>
            </a:prstGeom>
            <a:noFill/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966240" y="942120"/>
              <a:ext cx="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1579320" y="1350720"/>
              <a:ext cx="838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1414800" y="1792800"/>
              <a:ext cx="42552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IV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"/>
            <p:cNvSpPr/>
            <p:nvPr/>
          </p:nvSpPr>
          <p:spPr>
            <a:xfrm>
              <a:off x="1153800" y="2089080"/>
              <a:ext cx="94428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"/>
            <p:cNvSpPr/>
            <p:nvPr/>
          </p:nvSpPr>
          <p:spPr>
            <a:xfrm>
              <a:off x="1375200" y="3394800"/>
              <a:ext cx="42552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IV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"/>
            <p:cNvSpPr/>
            <p:nvPr/>
          </p:nvSpPr>
          <p:spPr>
            <a:xfrm>
              <a:off x="1170720" y="3598920"/>
              <a:ext cx="83412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914400" y="609480"/>
          <a:ext cx="6705720" cy="564696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27468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PUT VARI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CRUI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8268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number of registered tea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ge and gender of registered teachers (1990-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achers newly recru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ge of newly recruited tea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nder of newly recruited tea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PIDEMIOLOG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936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V prevalence rates in the general population (as captured through sentinel surveillance at antenatal clinic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isk of HIV in teachers versus general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AVING THE TEACHING PROFESSION PREMATURE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8916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achers leaving the profession for causes different than AI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ge of departing tea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nder of departing tea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mployment rate in the formal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irability to stay in the teaching profess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UTPUTS FROM TH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j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cruitment  of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V infections / Deaths due to AIDS / Absentee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phan h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22:19:16Z</dcterms:created>
  <dc:creator>Dan</dc:creator>
  <dc:description/>
  <dc:language>en-US</dc:language>
  <cp:lastModifiedBy>Francis Peel</cp:lastModifiedBy>
  <dcterms:modified xsi:type="dcterms:W3CDTF">2010-08-06T15:37:00Z</dcterms:modified>
  <cp:revision>17</cp:revision>
  <dc:subject/>
  <dc:title>Modeling the Impact of HIV/AIDS  on Education Systems</dc:title>
</cp:coreProperties>
</file>