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8EB1-8A73-4705-AF91-1A83050CEEDB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120-8BE3-46F3-A710-ECF443C25090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A53-2C83-4254-9B73-85C1B315FA8B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6ED-B511-43B2-AE65-6F0D3377C51C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873-455E-4CB3-A72C-400DD9DE629D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43D9-8D27-4A9F-8332-14E483022440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56A8-8DAC-41E4-8EDE-07022B012D14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4EEF-D3AF-4317-990C-202DEE9D3FB1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E2B1-B1E7-453E-B128-ABAAE8837130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494-92F1-4852-B832-107A6E4865D7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9E5A-31E3-4CEF-A668-3C40353B3D97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3FF-118E-4348-856C-8F3D14E2807F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71A8-6E8C-4E4A-BFA6-87823ACA551E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4A8A-282A-4FEF-9513-5673042A4907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19F-810C-4C7C-BA35-756DEF9E93B5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15A-D40B-468E-895F-01C82511A797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5C9-38FE-461D-B12C-E904F3BF2B1A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5C3F-C9F5-43C1-A0BE-04D270087BAF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FB7-C5B8-4277-ACC4-03DD662A2750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1AA0-906B-444B-BA59-CFED1E43F57A}" type="slidenum">
              <a:rPr b="0" lang="en-GB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D37-A7D4-4BE0-81E2-FBFEE8B2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C78-1D16-45E7-B1EA-CCAE1C3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903-1FC4-4CA4-87B5-E0E58FA1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CA4-D0B5-4034-A423-1259EF18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873-F7A3-405D-B6CC-55D63098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A337-C6E8-47EC-BAA0-712A990C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83E3-FC74-453F-B184-BC800A4C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8DDA-DDBB-4109-8F66-D3362F83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5B2A-66CB-4312-B763-52D6DB2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E822-32A4-42D8-A441-F3B9A9F4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CBF4-EB43-4FB4-8A33-E1546BC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FDB-6286-4FCB-A3EA-532FA4EB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DE72-1515-41C9-BB52-1ADEA96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8036-E6BD-40C1-BFEC-CA4FDB4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D5C9-9ECB-4F40-9EE6-1362A9C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165-A4F7-4EDE-83D4-27D9AE45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D31-1EAE-43F3-9D91-B816101D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23BD-6562-4E25-A796-B592B0D4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B2E4-0A0C-4F55-8640-ED18944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25E0-5B7A-40CC-AB5F-C98F704D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2760-00CD-4620-9183-73BAAF23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7076-F061-4B12-AAD2-3EA92146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2EA-5404-4F24-A90F-4FF0679D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9876-C6BD-43BA-AA6A-C3AF3C5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986B-25C3-4E35-80B4-C9DE75B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81D7-904D-4566-B027-C37B16A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C0D9-9371-4768-80D2-D3DA5C0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AE15-202F-4CB1-935A-12FF981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EB4B-6FB7-42EA-8AF4-87A70132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737A-033A-4985-988E-904846D2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52F6-B81E-4F39-B41C-16EAB047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3087-1B08-4F16-9349-91BF98A4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51DA-52F7-4EA2-9333-32A4E32A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F13-F5A5-4545-9868-31C3DFB5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AC81-1FC6-4CBD-92D4-77C87EA9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0736-D265-4B36-86D4-83999162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919E-9EBB-4D4C-831F-9B6BA619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305C-3BB4-440B-B115-488BC64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707C-0386-43DA-BBE3-071CFA9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EDD2-D035-4A5A-AC5F-340931E9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47459-0EA7-4CB0-B28F-64CFD04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00E3-D9DE-47A9-84B9-2D13C3B3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E3F4-13D3-470C-9131-8C212DEE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5757F-E872-43BD-9DD9-D662E684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69F-6714-4F31-91FD-E317A730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CF32-F8C4-49BB-BB95-18362AAB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13C68-5EC8-4AF9-8351-FCC0E044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D9B98-7F83-46F8-B19F-AA45BB4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722D-BC50-4973-A40D-AC1ED254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5743-B3BE-46A5-A7C1-88125FF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88940-1498-4925-A3D7-F0D7806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0421-54A3-4AC3-AB83-9AF2DD6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6B3D-E37D-4DDC-9A97-ADAFE49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FE5A-28EB-4510-A859-B184D3A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E78D8-9112-4CA5-97C1-9C92DD4D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488-1CFA-49C7-81DA-D2B6E7B2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753E-3145-4DBE-90D2-7D289BCF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06FB0-5CCB-4252-9DDC-9354BA31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FF334-0AF8-4548-B5F0-4B28F54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6858-B05C-4623-A4DD-9C56A51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E26F0-26A3-452D-8234-A616527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CA2F-ED17-49FF-B169-DDD97569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54EF-BA35-4C8D-9CD4-F43C010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D2D5-7A3F-4D0C-8CA3-C28F757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7C6F-F316-4182-82D3-CCE0F21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CBCE-ADA2-42AE-A26E-18D4A43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662-98A4-4B34-9976-4079D33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AE41C-BEC9-46AF-A22F-A73FECF4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D791-CA10-48D4-966F-F9B4D93B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3C1D-ECDF-47E9-B3B4-1612E4FF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4E40-C5AB-4556-96BD-DEDBF183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400EC-9460-42E9-B32A-85B66EA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BD66-9ABD-464F-9287-993F84F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BB6E9-4359-4BB0-9BD7-2DF2476D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74E8C-DCCC-429D-950E-C61AC9DA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4F24-3B4E-47D2-BAFD-7C2A9AD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0F00-E671-4599-AF64-89C5DF5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FD0-4CE5-41F5-BB8F-15E460F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32AC-5CCF-4587-9D4D-F8692337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248CC-1F22-4B34-9500-AE87D01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7985B-F7B4-405F-B7DB-4FA8C2F5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3504-4D5E-4B6B-9612-7C6E25CB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3E5D-B29B-4B96-8BAD-4908A54D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4BC23-BA5E-4F41-9F5A-B64F81C6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861AC-CDDE-4B2D-9814-E53D62D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06A1-3D96-425E-BED0-DF1DB1B5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8DCD-6371-483D-B822-318BB068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7F10-21FE-4FE0-B56E-39F636CD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BAF-0FEB-4379-BEBA-7F93AFC4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9FA24-C5D2-4BF2-8CF2-5AF4C1E9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CA0C-0E21-4BB6-AB1B-FCBD08C6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69730-C126-4592-9287-709D2F6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7AC39-C5A6-40F7-940D-BDBD163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E32A4-DE6F-4C80-B7FB-281B6C2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ADE81-39FC-4417-83CF-75C6CF9F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D4708-8AE6-4CEF-B75D-6F59DCFE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BEA7-A988-4299-B66D-16BB7E2B2FA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A40-3AB8-47B4-A92C-868049A33637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BC2-DD91-4692-ACE6-62B584F5DC28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79F-2261-4FFD-887E-BEAEC92EAA1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9B0-4563-4021-8282-B7FEE1B58A5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96D-D9D0-43FA-B71B-AA27BA22A73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A5CA-FAB2-4B50-A5BD-50B2BAC625FA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791-C26D-4562-89CF-3BA3DD8AFD1F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324000" y="5950080"/>
            <a:ext cx="1257120" cy="3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Object 7"/>
          <p:cNvGraphicFramePr/>
          <p:nvPr/>
        </p:nvGraphicFramePr>
        <p:xfrm>
          <a:off x="5003640" y="5661000"/>
          <a:ext cx="1258920" cy="62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5661000"/>
                    <a:ext cx="1258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2" name="Picture 5" descr="Description: esa584"/>
          <p:cNvPicPr/>
          <p:nvPr/>
        </p:nvPicPr>
        <p:blipFill>
          <a:blip r:embed="rId4"/>
          <a:stretch/>
        </p:blipFill>
        <p:spPr>
          <a:xfrm>
            <a:off x="7975440" y="5608800"/>
            <a:ext cx="700200" cy="699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5"/>
          <a:srcRect l="7417" t="0" r="5135" b="0"/>
          <a:stretch/>
        </p:blipFill>
        <p:spPr>
          <a:xfrm>
            <a:off x="2411280" y="5805360"/>
            <a:ext cx="608040" cy="5716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TARGETING OVCS, RELATED POLICY,  &amp; PROGRAMMATIC BENEFITS &amp; CHALLENGES</a:t>
            </a: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  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464653"/>
                </a:solidFill>
                <a:latin typeface="Bookman Old Style"/>
              </a:rPr>
              <a:t>Wairimu Muita</a:t>
            </a:r>
            <a:br>
              <a:rPr sz="3600"/>
            </a:b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     </a:t>
            </a: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East Africa Regional Director</a:t>
            </a:r>
            <a:br>
              <a:rPr sz="2800"/>
            </a:br>
            <a:r>
              <a:rPr b="1" lang="en-GB" sz="2800" spc="-1" strike="noStrike">
                <a:solidFill>
                  <a:srgbClr val="464653"/>
                </a:solidFill>
                <a:latin typeface="Bookman Old Style"/>
              </a:rPr>
              <a:t>     Partnership for Child Development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Legal and Policy Frameworks</a:t>
            </a:r>
            <a:br>
              <a:rPr sz="3200"/>
            </a:b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for OVC Respon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ighlights from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Gill Sans MT"/>
              </a:rPr>
              <a:t>OVC Policie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a hard copy availabl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rnational policy frameworks for OV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ational policy frameworks for OVC (in participants’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8912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Countri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89120" indent="-34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re the policies being implemented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ookman Old Style"/>
              </a:rPr>
              <a:t>Targeting Challen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lecting a target from the existing magnitude of the MVC/OVC in the country/geographical location.    the discussion on effectiveness of targeting approaches becomes even more relevant toda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roblems of multiple targeting, overlapping of services delivered to OVC and missing out of OVC  can be serious challenges if not adequately addres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imited economic resources to ensure beneficiaries’ basic rights to good health, nutrition, education, care &amp; prote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fining vulnerability if clear indicators are not pre-determin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poor rural communities where poverty is rampant, the selection of programme beneficiary OVC may be difficul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ulnerable children who may be confined in the shadow of households that do not appear vulnerable could easily be missed in the sele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any poor people lack the strong voice required to demand interventions and this could make even more challenging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times when the poor might keep quiet to hide their circumstances from the public for fear of discrimin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ocial protection interventions could be missing out a proportion of eligible OV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capture of interventions by local elites who quite often are gatekeepers of the whole OVC identification proc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imited adequacy of interventions including entitlements provided to MV/OVC, ie. school uniforms </a:t>
            </a:r>
            <a:r>
              <a:rPr b="0" lang="en-GB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ow long will it last before the child, needs another one?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ck of clarity among OVC actors on the definition of OVC and the risks to be targe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ck of readily available information on who is doing what and who is taking responsibility for which element of the guidelin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ensus in definition of vulnerability can be difficult - 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?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ow income + low assets + labour constrained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ifficulties in verification of eligibilit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argeting on age some times may not be straight forward - e.g. children, dependency rat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hould the targeting be done at household level, the definition of ‘poor’ may be a vag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ookman Old Style"/>
              </a:rPr>
              <a:t>Indicators of vulnerabil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Malnourished childre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in rural and urban areas) are a good indicator of vulnerability even though some parents might at times try to save face by attributing it to other cau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Local definitions of deprivations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d risks, thus limiting chances of poor performance in targe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ookman Old Style"/>
              </a:rPr>
              <a:t>Way Forwar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itiate a mechanism for ensuring OVC interventions reach out the most vulnerable childr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pply laid out guidelines, which promote the principle of the targeting approach preferr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se must however be regularly monitored to ensure that lessons from the programme are being integrated in the programme, as well as evaluated after a specified du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ystematic nationwi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systematic study could be planned to present a realistic picture of the impact of OVC interventions on their liveliho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90756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aare, Suma. (2005). 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Gill Sans MT"/>
              </a:rPr>
              <a:t>Targeting the Chronic Poor: Lessons from the OVC Programme in Tanzania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ellerano, Luca and Hurrell,  Alex.  (2011).  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Gill Sans MT"/>
              </a:rPr>
              <a:t>Evaluation design and methodological challenges in the Kenya CT-OVC impact evaluatio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 Oxford Policy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Arial"/>
                <a:ea typeface="Arial"/>
              </a:rPr>
              <a:t>Let’s Conclude with G. Machel’s call: </a:t>
            </a:r>
            <a:r>
              <a:rPr b="1" lang="en-GB" sz="3200" spc="-1" strike="noStrike">
                <a:solidFill>
                  <a:srgbClr val="464653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... we must do anything and everything to protec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children, to give them priority and a better future.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This is a call to action and a call to embrace a new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morality that puts children where they belong—at the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ill Sans MT"/>
              </a:rPr>
              <a:t>heart of all agendas.”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  <a:ea typeface="Arial"/>
              </a:rPr>
              <a:t>Graça Machel,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  <a:ea typeface="Arial"/>
              </a:rPr>
              <a:t>Expert of the Secretary-General of the United Nations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  <a:ea typeface="Arial"/>
              </a:rPr>
              <a:t>Impact of Armed Conflict on Child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019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  <a:ea typeface="Arial"/>
              </a:rPr>
              <a:t>UNICEF, 199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Quoted fr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Smart, Rose (2005:29):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licies for Orphans and Vulnerable Children:  A Framework for Moving Ahead)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Arial Black"/>
              </a:rPr>
              <a:t>THANK  YO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68360" y="404640"/>
            <a:ext cx="8229600" cy="56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64653"/>
                </a:solidFill>
                <a:latin typeface="Arial Black"/>
                <a:ea typeface="Arial"/>
              </a:rPr>
              <a:t>Outline: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Arial"/>
                <a:ea typeface="Arial"/>
              </a:rPr>
              <a:t>Targeting Strategy defined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Arial"/>
                <a:ea typeface="Arial"/>
              </a:rPr>
              <a:t>Targeting Approaches and benefit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Arial"/>
                <a:ea typeface="Arial"/>
              </a:rPr>
              <a:t>OVC policie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Targeting Defined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set of rules, criteria and other elements of program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ign that define beneficiary eligibil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volves decision-making on provision of safety nets to reduce or mitigate risks and vulnerabil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GB" sz="3200" spc="-1" strike="noStrike">
                <a:solidFill>
                  <a:srgbClr val="ff0000"/>
                </a:solidFill>
                <a:latin typeface="Gill Sans MT"/>
              </a:rPr>
              <a:t>criteria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ould either b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geographical location 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ocial and demographic groups o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eople living under certain circumstan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Criteri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90756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criteria used are informed b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knowledge of the intended beneficiaries in terms of thei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isks and vulnerabilities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isks locations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type,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ize of intervention required for a particular situ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Targeting Approaches &amp; Benefi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Definition: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approach to targeting is the method used to identify those who fit the criteria and therefore eligibility to become a recipient of the interven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lecting a target from the existing magnitude of the MVC/OVC in the country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iscussions on effectiveness of targeting approaches is very relevant today given the magnitude of potentially eligible  popul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a)  Geographical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520" indent="-2455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roper targeting  approach is a condition for ensuring that resource transfers through MV/OVC interventions reach out the most vulnerable childr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b)  Demographic  Target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y age, gender, geographical location, enrolled/not enrolled in school, SES selected variables to measure parental (if alive) ability to support child,  etc.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c)  Use of Local Knowledge: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tter targeting is achieved through use of local knowled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d) Community based targeting (CBT):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resents innovation in provision of social safety nets to the poor, by relying on the poor in the screening, monitoring and accountabil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- use of community agents, who are part of the community making it possible to 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prioritiz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needy OVC from those who are less nee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mmunity members &amp; perhaps children themselves can provide helpful insight into the conditions of the poor in the target are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e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Gill Sans MT"/>
              </a:rPr>
              <a:t>f)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00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BT allows for local definitions of deprivations and risks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duces chances of poor performance in targe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mmunity members and (perhaps) the children themselves can provide helpful insight into the conditions of the po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Bookman Old Style"/>
              </a:rPr>
              <a:t>OVC Polici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The children of the world are innocent, vulnerable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and dependent. They are also curious, active, and ful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of hope. Their time should be one of joy and peace, o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playing, learning, and growing. Their future shoul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be shaped in harmony and co-operation. Their liv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should mature, as they broaden their perspectives 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Gill Sans MT"/>
              </a:rPr>
              <a:t>gain new experienc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orld Declaration on the Survival, Protection, and Development of Childr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ptember 30, 199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1:13:51Z</dcterms:created>
  <dc:creator>Cai Heath</dc:creator>
  <dc:description/>
  <dc:language>en-US</dc:language>
  <cp:lastModifiedBy> </cp:lastModifiedBy>
  <dcterms:modified xsi:type="dcterms:W3CDTF">2012-06-22T11:13:25Z</dcterms:modified>
  <cp:revision>207</cp:revision>
  <dc:subject/>
  <dc:title>Thematic Group Allocations</dc:title>
</cp:coreProperties>
</file>